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4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7.gif" ContentType="image/gif"/>
  <Override PartName="/ppt/media/image16.png" ContentType="image/png"/>
  <Override PartName="/ppt/media/image13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9A6-CFCC-4D80-B8FB-5A711AA5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EAD-5D8C-4D77-9A18-ECFB9CD6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C8E-CD5F-451D-97CF-F8E1E200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666-CD7A-449D-83EE-DBF1601B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7C2-13F2-4D7D-99E5-52E3D6FE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2E7-6E73-43A0-A051-BF5CB7C0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96D-3FBB-49CA-B2AC-73F5828B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A68-45F7-4C7D-B0A1-BD5052E8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5B1-BB06-4720-BD85-35BB9854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1C7-0A04-4F2E-9CD0-97E4D18B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E10-7184-4223-9A78-F6C7407F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116-3DE8-4190-A68D-AF849645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5C29-C9D7-4DFF-B7A9-DD6275D838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-1035000"/>
            <a:ext cx="6312240" cy="789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0"/>
            <a:ext cx="8410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ножение в Простоквашино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12000" y="54936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360" y="2060640"/>
            <a:ext cx="8938080" cy="2736720"/>
            <a:chOff x="-360" y="2060640"/>
            <a:chExt cx="8938080" cy="27367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 flipH="1">
              <a:off x="-360" y="234936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 flipH="1">
              <a:off x="755280" y="263700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 flipH="1">
              <a:off x="1618920" y="299736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 flipH="1">
              <a:off x="2555640" y="3284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 flipH="1">
              <a:off x="3492360" y="3573360"/>
              <a:ext cx="9813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5580000" y="3068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7956720" y="2060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>
              <a:off x="7164360" y="234936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0"/>
            <a:stretch/>
          </p:blipFill>
          <p:spPr>
            <a:xfrm>
              <a:off x="6372360" y="263700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1"/>
            <a:stretch/>
          </p:blipFill>
          <p:spPr>
            <a:xfrm>
              <a:off x="4932360" y="3573360"/>
              <a:ext cx="981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268360" y="515772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+ 5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826920" y="5013360"/>
            <a:ext cx="7007040" cy="1439640"/>
            <a:chOff x="826920" y="5013360"/>
            <a:chExt cx="7007040" cy="143964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826920" y="5013360"/>
              <a:ext cx="9586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122200" y="5086080"/>
              <a:ext cx="9586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5578200" y="5086080"/>
              <a:ext cx="9586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6875280" y="5157720"/>
              <a:ext cx="9586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611280" y="2205000"/>
            <a:ext cx="7467480" cy="2808360"/>
            <a:chOff x="611280" y="2205000"/>
            <a:chExt cx="7467480" cy="2808360"/>
          </a:xfrm>
        </p:grpSpPr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611280" y="2205000"/>
              <a:ext cx="134604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7"/>
            <a:stretch/>
          </p:blipFill>
          <p:spPr>
            <a:xfrm>
              <a:off x="1979640" y="2205000"/>
              <a:ext cx="134604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8"/>
            <a:stretch/>
          </p:blipFill>
          <p:spPr>
            <a:xfrm>
              <a:off x="5364000" y="2421000"/>
              <a:ext cx="134640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6732720" y="2349360"/>
              <a:ext cx="1346040" cy="259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51280" y="47628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+ 2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83664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+ 3 + 3 + 3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67280" y="549360"/>
            <a:ext cx="367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ожение одинаковых слагаемых можно заменить новым действием – умножением.  Знак умножения –               точка (     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422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73080" y="274680"/>
            <a:ext cx="7197840" cy="5851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20640"/>
            <a:ext cx="36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+ 2 + 2 + 2 +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5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1052640"/>
            <a:ext cx="302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14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50920" y="3213000"/>
            <a:ext cx="8064000" cy="2687760"/>
            <a:chOff x="250920" y="3213000"/>
            <a:chExt cx="8064000" cy="2687760"/>
          </a:xfrm>
        </p:grpSpPr>
        <p:grpSp>
          <p:nvGrpSpPr>
            <p:cNvPr id="79" name=""/>
            <p:cNvGrpSpPr/>
            <p:nvPr/>
          </p:nvGrpSpPr>
          <p:grpSpPr>
            <a:xfrm>
              <a:off x="2268360" y="3213000"/>
              <a:ext cx="2014200" cy="527040"/>
              <a:chOff x="2268360" y="3213000"/>
              <a:chExt cx="2014200" cy="527040"/>
            </a:xfrm>
          </p:grpSpPr>
          <p:pic>
            <p:nvPicPr>
              <p:cNvPr id="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8360" y="321300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3347640" y="328464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" name=""/>
            <p:cNvGrpSpPr/>
            <p:nvPr/>
          </p:nvGrpSpPr>
          <p:grpSpPr>
            <a:xfrm>
              <a:off x="250920" y="4724280"/>
              <a:ext cx="2014200" cy="527040"/>
              <a:chOff x="250920" y="4724280"/>
              <a:chExt cx="2014200" cy="527040"/>
            </a:xfrm>
          </p:grpSpPr>
          <p:pic>
            <p:nvPicPr>
              <p:cNvPr id="8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472428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1330200" y="479592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"/>
            <p:cNvGrpSpPr/>
            <p:nvPr/>
          </p:nvGrpSpPr>
          <p:grpSpPr>
            <a:xfrm>
              <a:off x="2411280" y="4292640"/>
              <a:ext cx="2014200" cy="527040"/>
              <a:chOff x="2411280" y="4292640"/>
              <a:chExt cx="2014200" cy="527040"/>
            </a:xfrm>
          </p:grpSpPr>
          <p:pic>
            <p:nvPicPr>
              <p:cNvPr id="8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1280" y="429264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3490560" y="436428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"/>
            <p:cNvGrpSpPr/>
            <p:nvPr/>
          </p:nvGrpSpPr>
          <p:grpSpPr>
            <a:xfrm>
              <a:off x="5651640" y="3429000"/>
              <a:ext cx="2014200" cy="527040"/>
              <a:chOff x="5651640" y="3429000"/>
              <a:chExt cx="2014200" cy="527040"/>
            </a:xfrm>
          </p:grpSpPr>
          <p:pic>
            <p:nvPicPr>
              <p:cNvPr id="8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51640" y="342900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6730920" y="350064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6300720" y="5373720"/>
              <a:ext cx="2014200" cy="527040"/>
              <a:chOff x="6300720" y="5373720"/>
              <a:chExt cx="2014200" cy="527040"/>
            </a:xfrm>
          </p:grpSpPr>
          <p:pic>
            <p:nvPicPr>
              <p:cNvPr id="9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00720" y="537372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7380000" y="544536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324000" y="3573360"/>
            <a:ext cx="8640360" cy="3057480"/>
            <a:chOff x="324000" y="3573360"/>
            <a:chExt cx="8640360" cy="3057480"/>
          </a:xfrm>
        </p:grpSpPr>
        <p:grpSp>
          <p:nvGrpSpPr>
            <p:cNvPr id="95" name=""/>
            <p:cNvGrpSpPr/>
            <p:nvPr/>
          </p:nvGrpSpPr>
          <p:grpSpPr>
            <a:xfrm>
              <a:off x="3995640" y="4581360"/>
              <a:ext cx="3816360" cy="2049480"/>
              <a:chOff x="3995640" y="4581360"/>
              <a:chExt cx="3816360" cy="20494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3995640" y="4797360"/>
                <a:ext cx="1079280" cy="1833480"/>
                <a:chOff x="3995640" y="4797360"/>
                <a:chExt cx="1079280" cy="1833480"/>
              </a:xfrm>
            </p:grpSpPr>
            <p:pic>
              <p:nvPicPr>
                <p:cNvPr id="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95640" y="4797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066920" y="5661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9" name=""/>
              <p:cNvGrpSpPr/>
              <p:nvPr/>
            </p:nvGrpSpPr>
            <p:grpSpPr>
              <a:xfrm>
                <a:off x="6732720" y="4581360"/>
                <a:ext cx="1079280" cy="1833480"/>
                <a:chOff x="6732720" y="4581360"/>
                <a:chExt cx="1079280" cy="1833480"/>
              </a:xfrm>
            </p:grpSpPr>
            <p:pic>
              <p:nvPicPr>
                <p:cNvPr id="1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732720" y="4581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04000" y="5445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02" name=""/>
            <p:cNvGrpSpPr/>
            <p:nvPr/>
          </p:nvGrpSpPr>
          <p:grpSpPr>
            <a:xfrm>
              <a:off x="324000" y="3573360"/>
              <a:ext cx="8640360" cy="2984400"/>
              <a:chOff x="324000" y="3573360"/>
              <a:chExt cx="8640360" cy="29844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324000" y="4292640"/>
                <a:ext cx="1079280" cy="1833480"/>
                <a:chOff x="324000" y="4292640"/>
                <a:chExt cx="1079280" cy="1833480"/>
              </a:xfrm>
            </p:grpSpPr>
            <p:pic>
              <p:nvPicPr>
                <p:cNvPr id="10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24000" y="429264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95280" y="515628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" name=""/>
              <p:cNvGrpSpPr/>
              <p:nvPr/>
            </p:nvGrpSpPr>
            <p:grpSpPr>
              <a:xfrm>
                <a:off x="7885080" y="3573360"/>
                <a:ext cx="1079280" cy="1833480"/>
                <a:chOff x="7885080" y="3573360"/>
                <a:chExt cx="1079280" cy="183348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885080" y="3573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56360" y="4437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9" name=""/>
              <p:cNvGrpSpPr/>
              <p:nvPr/>
            </p:nvGrpSpPr>
            <p:grpSpPr>
              <a:xfrm>
                <a:off x="2700360" y="4724280"/>
                <a:ext cx="1079280" cy="1833480"/>
                <a:chOff x="2700360" y="4724280"/>
                <a:chExt cx="1079280" cy="183348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700360" y="472428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771640" y="558792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12" name=""/>
          <p:cNvSpPr/>
          <p:nvPr/>
        </p:nvSpPr>
        <p:spPr>
          <a:xfrm>
            <a:off x="1763640" y="1197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1052640"/>
            <a:ext cx="36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+ 6 + 6 + 6 + 6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   5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1916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258920" y="4819680"/>
            <a:ext cx="6696000" cy="203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умножение в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Простоквашино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52360" y="4005360"/>
            <a:ext cx="9577440" cy="38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4365720"/>
            <a:ext cx="662004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 встречи в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остоквашино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7:29:24Z</dcterms:created>
  <dc:creator>XTreme</dc:creator>
  <dc:description/>
  <dc:language>en-US</dc:language>
  <cp:lastModifiedBy>Sergey</cp:lastModifiedBy>
  <dcterms:modified xsi:type="dcterms:W3CDTF">2013-02-09T14:18:47Z</dcterms:modified>
  <cp:revision>23</cp:revision>
  <dc:subject/>
  <dc:title>Слайд 1</dc:title>
</cp:coreProperties>
</file>