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wmf" ContentType="image/x-wmf"/>
  <Override PartName="/ppt/media/image4.jpeg" ContentType="image/jpeg"/>
  <Override PartName="/ppt/media/image15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gif" ContentType="image/gif"/>
  <Override PartName="/ppt/media/image7.gif" ContentType="image/gif"/>
  <Override PartName="/ppt/media/image16.png" ContentType="image/png"/>
  <Override PartName="/ppt/media/image13.gif" ContentType="image/gif"/>
  <Override PartName="/ppt/media/image5.gif" ContentType="image/gif"/>
  <Override PartName="/ppt/media/image6.gif" ContentType="image/gif"/>
  <Override PartName="/ppt/media/image11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EF87-3A7B-4995-BAF6-C0EE7D33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6C0F-7690-47E5-ADB7-DA9C012A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B042-84EB-4C09-8F15-5ED4EBE52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D122-216C-48E6-B853-A3F842A2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F419-FA35-425A-82A5-8F9FC50C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726B-DF5B-42AA-9294-D7B88E42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F9C0-00FE-496E-8DD7-AAA7B8FC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13B8-0C87-4F09-9E01-F7B43177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09D3-0BAC-4F10-9CE4-43E09A6B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4A97-601A-42D4-93ED-A8FF32C3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C06D-C693-4552-B28F-375F8E4A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6499-AAC4-4B9F-A83A-E25745FA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B212-ECD4-4624-87F5-910F97CBE0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7.gif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image" Target="../media/image13.gif"/><Relationship Id="rId9" Type="http://schemas.openxmlformats.org/officeDocument/2006/relationships/image" Target="../media/image14.gif"/><Relationship Id="rId10" Type="http://schemas.openxmlformats.org/officeDocument/2006/relationships/image" Target="../media/image13.gif"/><Relationship Id="rId11" Type="http://schemas.openxmlformats.org/officeDocument/2006/relationships/image" Target="../media/image14.gi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47640" y="-1035000"/>
            <a:ext cx="6312240" cy="7893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5280" y="0"/>
            <a:ext cx="8410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множение в Простоквашино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12000" y="549360"/>
            <a:ext cx="28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-360" y="2060640"/>
            <a:ext cx="8938080" cy="2736720"/>
            <a:chOff x="-360" y="2060640"/>
            <a:chExt cx="8938080" cy="27367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 flipH="1">
              <a:off x="-360" y="2349360"/>
              <a:ext cx="98100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 flipH="1">
              <a:off x="755280" y="2637000"/>
              <a:ext cx="981000" cy="12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4"/>
            <a:stretch/>
          </p:blipFill>
          <p:spPr>
            <a:xfrm flipH="1">
              <a:off x="1618920" y="2997360"/>
              <a:ext cx="981000" cy="12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5"/>
            <a:stretch/>
          </p:blipFill>
          <p:spPr>
            <a:xfrm flipH="1">
              <a:off x="2555640" y="3284640"/>
              <a:ext cx="98100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6"/>
            <a:stretch/>
          </p:blipFill>
          <p:spPr>
            <a:xfrm flipH="1">
              <a:off x="3492360" y="3573360"/>
              <a:ext cx="98136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7"/>
            <a:stretch/>
          </p:blipFill>
          <p:spPr>
            <a:xfrm>
              <a:off x="5580000" y="3068640"/>
              <a:ext cx="98100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8"/>
            <a:stretch/>
          </p:blipFill>
          <p:spPr>
            <a:xfrm>
              <a:off x="7956720" y="2060640"/>
              <a:ext cx="98100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9"/>
            <a:stretch/>
          </p:blipFill>
          <p:spPr>
            <a:xfrm>
              <a:off x="7164360" y="2349360"/>
              <a:ext cx="98100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10"/>
            <a:stretch/>
          </p:blipFill>
          <p:spPr>
            <a:xfrm>
              <a:off x="6372360" y="2637000"/>
              <a:ext cx="981000" cy="12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11"/>
            <a:stretch/>
          </p:blipFill>
          <p:spPr>
            <a:xfrm>
              <a:off x="4932360" y="3573360"/>
              <a:ext cx="981000" cy="12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2268360" y="5157720"/>
            <a:ext cx="3672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 + 5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826920" y="5013360"/>
            <a:ext cx="7007040" cy="1439640"/>
            <a:chOff x="826920" y="5013360"/>
            <a:chExt cx="7007040" cy="1439640"/>
          </a:xfrm>
        </p:grpSpPr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826920" y="5013360"/>
              <a:ext cx="95868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2122200" y="5086080"/>
              <a:ext cx="9586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5578200" y="5086080"/>
              <a:ext cx="9586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5"/>
            <a:stretch/>
          </p:blipFill>
          <p:spPr>
            <a:xfrm>
              <a:off x="6875280" y="5157720"/>
              <a:ext cx="95868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"/>
          <p:cNvGrpSpPr/>
          <p:nvPr/>
        </p:nvGrpSpPr>
        <p:grpSpPr>
          <a:xfrm>
            <a:off x="611280" y="2205000"/>
            <a:ext cx="7467480" cy="2808360"/>
            <a:chOff x="611280" y="2205000"/>
            <a:chExt cx="7467480" cy="2808360"/>
          </a:xfrm>
        </p:grpSpPr>
        <p:pic>
          <p:nvPicPr>
            <p:cNvPr id="65" name="" descr=""/>
            <p:cNvPicPr/>
            <p:nvPr/>
          </p:nvPicPr>
          <p:blipFill>
            <a:blip r:embed="rId6"/>
            <a:stretch/>
          </p:blipFill>
          <p:spPr>
            <a:xfrm>
              <a:off x="611280" y="2205000"/>
              <a:ext cx="1346040" cy="25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7"/>
            <a:stretch/>
          </p:blipFill>
          <p:spPr>
            <a:xfrm>
              <a:off x="1979640" y="2205000"/>
              <a:ext cx="1346040" cy="25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8"/>
            <a:stretch/>
          </p:blipFill>
          <p:spPr>
            <a:xfrm>
              <a:off x="5364000" y="2421000"/>
              <a:ext cx="1346400" cy="25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9"/>
            <a:stretch/>
          </p:blipFill>
          <p:spPr>
            <a:xfrm>
              <a:off x="6732720" y="2349360"/>
              <a:ext cx="1346040" cy="2592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539640" y="260280"/>
            <a:ext cx="2016360" cy="1650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51280" y="476280"/>
            <a:ext cx="3672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+ 2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836640"/>
            <a:ext cx="3672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+ 3 + 3 + 3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067280" y="549360"/>
            <a:ext cx="3671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ложение одинаковых слагаемых можно заменить новым действием – умножением.  Знак умножения –               точка (     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72360" y="4221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73080" y="274680"/>
            <a:ext cx="7197840" cy="5851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620640"/>
            <a:ext cx="367200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+ 2 + 2 + 2 + 2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   5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1052640"/>
            <a:ext cx="302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63640" y="148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50920" y="3213000"/>
            <a:ext cx="8064000" cy="2687760"/>
            <a:chOff x="250920" y="3213000"/>
            <a:chExt cx="8064000" cy="2687760"/>
          </a:xfrm>
        </p:grpSpPr>
        <p:grpSp>
          <p:nvGrpSpPr>
            <p:cNvPr id="79" name=""/>
            <p:cNvGrpSpPr/>
            <p:nvPr/>
          </p:nvGrpSpPr>
          <p:grpSpPr>
            <a:xfrm>
              <a:off x="2268360" y="3213000"/>
              <a:ext cx="2014200" cy="527040"/>
              <a:chOff x="2268360" y="3213000"/>
              <a:chExt cx="2014200" cy="527040"/>
            </a:xfrm>
          </p:grpSpPr>
          <p:pic>
            <p:nvPicPr>
              <p:cNvPr id="8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68360" y="3213000"/>
                <a:ext cx="935280" cy="4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" descr=""/>
              <p:cNvPicPr/>
              <p:nvPr/>
            </p:nvPicPr>
            <p:blipFill>
              <a:blip r:embed="rId4"/>
              <a:stretch/>
            </p:blipFill>
            <p:spPr>
              <a:xfrm flipH="1">
                <a:off x="3347640" y="3284640"/>
                <a:ext cx="934920" cy="455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" name=""/>
            <p:cNvGrpSpPr/>
            <p:nvPr/>
          </p:nvGrpSpPr>
          <p:grpSpPr>
            <a:xfrm>
              <a:off x="250920" y="4724280"/>
              <a:ext cx="2014200" cy="527040"/>
              <a:chOff x="250920" y="4724280"/>
              <a:chExt cx="2014200" cy="527040"/>
            </a:xfrm>
          </p:grpSpPr>
          <p:pic>
            <p:nvPicPr>
              <p:cNvPr id="8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50920" y="4724280"/>
                <a:ext cx="935280" cy="4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1330200" y="4795920"/>
                <a:ext cx="934920" cy="455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5" name=""/>
            <p:cNvGrpSpPr/>
            <p:nvPr/>
          </p:nvGrpSpPr>
          <p:grpSpPr>
            <a:xfrm>
              <a:off x="2411280" y="4292640"/>
              <a:ext cx="2014200" cy="527040"/>
              <a:chOff x="2411280" y="4292640"/>
              <a:chExt cx="2014200" cy="527040"/>
            </a:xfrm>
          </p:grpSpPr>
          <p:pic>
            <p:nvPicPr>
              <p:cNvPr id="8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411280" y="4292640"/>
                <a:ext cx="935280" cy="4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" descr=""/>
              <p:cNvPicPr/>
              <p:nvPr/>
            </p:nvPicPr>
            <p:blipFill>
              <a:blip r:embed="rId8"/>
              <a:stretch/>
            </p:blipFill>
            <p:spPr>
              <a:xfrm flipH="1">
                <a:off x="3490560" y="4364280"/>
                <a:ext cx="934920" cy="455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8" name=""/>
            <p:cNvGrpSpPr/>
            <p:nvPr/>
          </p:nvGrpSpPr>
          <p:grpSpPr>
            <a:xfrm>
              <a:off x="5651640" y="3429000"/>
              <a:ext cx="2014200" cy="527040"/>
              <a:chOff x="5651640" y="3429000"/>
              <a:chExt cx="2014200" cy="527040"/>
            </a:xfrm>
          </p:grpSpPr>
          <p:pic>
            <p:nvPicPr>
              <p:cNvPr id="8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651640" y="3429000"/>
                <a:ext cx="935280" cy="4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" descr=""/>
              <p:cNvPicPr/>
              <p:nvPr/>
            </p:nvPicPr>
            <p:blipFill>
              <a:blip r:embed="rId10"/>
              <a:stretch/>
            </p:blipFill>
            <p:spPr>
              <a:xfrm flipH="1">
                <a:off x="6730920" y="3500640"/>
                <a:ext cx="934920" cy="455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" name=""/>
            <p:cNvGrpSpPr/>
            <p:nvPr/>
          </p:nvGrpSpPr>
          <p:grpSpPr>
            <a:xfrm>
              <a:off x="6300720" y="5373720"/>
              <a:ext cx="2014200" cy="527040"/>
              <a:chOff x="6300720" y="5373720"/>
              <a:chExt cx="2014200" cy="527040"/>
            </a:xfrm>
          </p:grpSpPr>
          <p:pic>
            <p:nvPicPr>
              <p:cNvPr id="9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300720" y="5373720"/>
                <a:ext cx="935280" cy="4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" descr=""/>
              <p:cNvPicPr/>
              <p:nvPr/>
            </p:nvPicPr>
            <p:blipFill>
              <a:blip r:embed="rId12"/>
              <a:stretch/>
            </p:blipFill>
            <p:spPr>
              <a:xfrm flipH="1">
                <a:off x="7380000" y="5445360"/>
                <a:ext cx="934920" cy="455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324000" y="3573360"/>
            <a:ext cx="8640360" cy="3057480"/>
            <a:chOff x="324000" y="3573360"/>
            <a:chExt cx="8640360" cy="3057480"/>
          </a:xfrm>
        </p:grpSpPr>
        <p:grpSp>
          <p:nvGrpSpPr>
            <p:cNvPr id="95" name=""/>
            <p:cNvGrpSpPr/>
            <p:nvPr/>
          </p:nvGrpSpPr>
          <p:grpSpPr>
            <a:xfrm>
              <a:off x="3995640" y="4581360"/>
              <a:ext cx="3816360" cy="2049480"/>
              <a:chOff x="3995640" y="4581360"/>
              <a:chExt cx="3816360" cy="204948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3995640" y="4797360"/>
                <a:ext cx="1079280" cy="1833480"/>
                <a:chOff x="3995640" y="4797360"/>
                <a:chExt cx="1079280" cy="1833480"/>
              </a:xfrm>
            </p:grpSpPr>
            <p:pic>
              <p:nvPicPr>
                <p:cNvPr id="9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995640" y="4797360"/>
                  <a:ext cx="1008000" cy="97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066920" y="5661000"/>
                  <a:ext cx="100800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9" name=""/>
              <p:cNvGrpSpPr/>
              <p:nvPr/>
            </p:nvGrpSpPr>
            <p:grpSpPr>
              <a:xfrm>
                <a:off x="6732720" y="4581360"/>
                <a:ext cx="1079280" cy="1833480"/>
                <a:chOff x="6732720" y="4581360"/>
                <a:chExt cx="1079280" cy="1833480"/>
              </a:xfrm>
            </p:grpSpPr>
            <p:pic>
              <p:nvPicPr>
                <p:cNvPr id="10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732720" y="4581360"/>
                  <a:ext cx="1008000" cy="97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04000" y="5445000"/>
                  <a:ext cx="100800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02" name=""/>
            <p:cNvGrpSpPr/>
            <p:nvPr/>
          </p:nvGrpSpPr>
          <p:grpSpPr>
            <a:xfrm>
              <a:off x="324000" y="3573360"/>
              <a:ext cx="8640360" cy="2984400"/>
              <a:chOff x="324000" y="3573360"/>
              <a:chExt cx="8640360" cy="298440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324000" y="4292640"/>
                <a:ext cx="1079280" cy="1833480"/>
                <a:chOff x="324000" y="4292640"/>
                <a:chExt cx="1079280" cy="1833480"/>
              </a:xfrm>
            </p:grpSpPr>
            <p:pic>
              <p:nvPicPr>
                <p:cNvPr id="10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24000" y="4292640"/>
                  <a:ext cx="1008000" cy="97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95280" y="5156280"/>
                  <a:ext cx="100800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6" name=""/>
              <p:cNvGrpSpPr/>
              <p:nvPr/>
            </p:nvGrpSpPr>
            <p:grpSpPr>
              <a:xfrm>
                <a:off x="7885080" y="3573360"/>
                <a:ext cx="1079280" cy="1833480"/>
                <a:chOff x="7885080" y="3573360"/>
                <a:chExt cx="1079280" cy="1833480"/>
              </a:xfrm>
            </p:grpSpPr>
            <p:pic>
              <p:nvPicPr>
                <p:cNvPr id="10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885080" y="3573360"/>
                  <a:ext cx="1008000" cy="97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956360" y="4437000"/>
                  <a:ext cx="100800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9" name=""/>
              <p:cNvGrpSpPr/>
              <p:nvPr/>
            </p:nvGrpSpPr>
            <p:grpSpPr>
              <a:xfrm>
                <a:off x="2700360" y="4724280"/>
                <a:ext cx="1079280" cy="1833480"/>
                <a:chOff x="2700360" y="4724280"/>
                <a:chExt cx="1079280" cy="1833480"/>
              </a:xfrm>
            </p:grpSpPr>
            <p:pic>
              <p:nvPicPr>
                <p:cNvPr id="11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700360" y="4724280"/>
                  <a:ext cx="1008000" cy="97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771640" y="5587920"/>
                  <a:ext cx="100800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12" name=""/>
          <p:cNvSpPr/>
          <p:nvPr/>
        </p:nvSpPr>
        <p:spPr>
          <a:xfrm>
            <a:off x="1763640" y="1197000"/>
            <a:ext cx="56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84360" y="1052640"/>
            <a:ext cx="367200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+ 6 + 6 + 6 + 6 =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   5 =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19162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258920" y="4819680"/>
            <a:ext cx="6696000" cy="2038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умножение в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"/>
              </a:rPr>
              <a:t>Простоквашино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252360" y="4005360"/>
            <a:ext cx="9577440" cy="381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87280" y="4365720"/>
            <a:ext cx="6620040" cy="22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о встречи в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остоквашино 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7:29:24Z</dcterms:created>
  <dc:creator>XTreme</dc:creator>
  <dc:description/>
  <dc:language>en-US</dc:language>
  <cp:lastModifiedBy>Sergey</cp:lastModifiedBy>
  <dcterms:modified xsi:type="dcterms:W3CDTF">2013-02-09T14:18:47Z</dcterms:modified>
  <cp:revision>23</cp:revision>
  <dc:subject/>
  <dc:title>Слайд 1</dc:title>
</cp:coreProperties>
</file>