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9.jpeg" ContentType="image/jpeg"/>
  <Override PartName="/ppt/media/image10.jpeg" ContentType="image/jpeg"/>
  <Override PartName="/ppt/media/image25.gif" ContentType="image/gif"/>
  <Override PartName="/ppt/media/image11.gif" ContentType="image/gif"/>
  <Override PartName="/ppt/media/image8.gif" ContentType="image/gif"/>
  <Override PartName="/ppt/media/image9.jpeg" ContentType="image/jpeg"/>
  <Override PartName="/ppt/media/image12.gif" ContentType="image/gif"/>
  <Override PartName="/ppt/media/image24.jpeg" ContentType="image/jpeg"/>
  <Override PartName="/ppt/media/image20.gif" ContentType="image/gif"/>
  <Override PartName="/ppt/media/image18.gif" ContentType="image/gif"/>
  <Override PartName="/ppt/media/image13.jpeg" ContentType="image/jpeg"/>
  <Override PartName="/ppt/media/image30.gif" ContentType="image/gif"/>
  <Override PartName="/ppt/media/image7.jpeg" ContentType="image/jpeg"/>
  <Override PartName="/ppt/media/image5.gif" ContentType="image/gif"/>
  <Override PartName="/ppt/media/image4.gif" ContentType="image/gif"/>
  <Override PartName="/ppt/media/image28.jpeg" ContentType="image/jpeg"/>
  <Override PartName="/ppt/media/image27.gif" ContentType="image/gif"/>
  <Override PartName="/ppt/media/image3.png" ContentType="image/png"/>
  <Override PartName="/ppt/media/image23.gif" ContentType="image/gif"/>
  <Override PartName="/ppt/media/image2.jpeg" ContentType="image/jpeg"/>
  <Override PartName="/ppt/media/image1.gif" ContentType="image/gif"/>
  <Override PartName="/ppt/media/image15.jpeg" ContentType="image/jpeg"/>
  <Override PartName="/ppt/media/image16.gif" ContentType="image/gif"/>
  <Override PartName="/ppt/media/image17.gif" ContentType="image/gif"/>
  <Override PartName="/ppt/media/image21.jpeg" ContentType="image/jpeg"/>
  <Override PartName="/ppt/media/image6.gif" ContentType="image/gif"/>
  <Override PartName="/ppt/media/image14.jpeg" ContentType="image/jpeg"/>
  <Override PartName="/ppt/media/image19.gif" ContentType="image/gif"/>
  <Override PartName="/ppt/media/image2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0925-2296-4D9C-A90D-1C78B34F8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DD4C-7279-4013-A93E-D655BC20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B3A3-1564-4C2D-B65A-31C758863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6609-52B4-448C-8233-DA2EB86C8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6603-B5C8-4722-811D-80D28C16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C7F9-6375-486F-9B2B-AD33D32F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0C67-7CA2-4C7C-AC10-CECBB6B0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6117-F9BF-46B6-A5AE-3F67CA51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1D02-EE9D-4CC1-BE8B-5626860C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8099-317B-4B59-B719-4B8F1BE5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D143-E27A-426E-A7B4-66B166DD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FFC3-5220-4AD4-A3AA-1D8CEBE4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95CA-387B-43AF-A0AB-17236EB818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image" Target="../media/image6.gif"/><Relationship Id="rId17" Type="http://schemas.openxmlformats.org/officeDocument/2006/relationships/image" Target="../media/image6.gif"/><Relationship Id="rId18" Type="http://schemas.openxmlformats.org/officeDocument/2006/relationships/image" Target="../media/image6.gif"/><Relationship Id="rId19" Type="http://schemas.openxmlformats.org/officeDocument/2006/relationships/image" Target="../media/image6.gif"/><Relationship Id="rId20" Type="http://schemas.openxmlformats.org/officeDocument/2006/relationships/image" Target="../media/image6.gif"/><Relationship Id="rId21" Type="http://schemas.openxmlformats.org/officeDocument/2006/relationships/image" Target="../media/image6.gif"/><Relationship Id="rId22" Type="http://schemas.openxmlformats.org/officeDocument/2006/relationships/image" Target="../media/image6.gif"/><Relationship Id="rId23" Type="http://schemas.openxmlformats.org/officeDocument/2006/relationships/image" Target="../media/image6.gif"/><Relationship Id="rId2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gif"/><Relationship Id="rId4" Type="http://schemas.openxmlformats.org/officeDocument/2006/relationships/image" Target="../media/image30.gif"/><Relationship Id="rId5" Type="http://schemas.openxmlformats.org/officeDocument/2006/relationships/image" Target="../media/image29.jpeg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image" Target="../media/image29.jpeg"/><Relationship Id="rId9" Type="http://schemas.openxmlformats.org/officeDocument/2006/relationships/image" Target="../media/image30.gif"/><Relationship Id="rId10" Type="http://schemas.openxmlformats.org/officeDocument/2006/relationships/image" Target="../media/image30.gi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8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4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11.gif"/><Relationship Id="rId19" Type="http://schemas.openxmlformats.org/officeDocument/2006/relationships/image" Target="../media/image11.gif"/><Relationship Id="rId20" Type="http://schemas.openxmlformats.org/officeDocument/2006/relationships/image" Target="../media/image11.gif"/><Relationship Id="rId21" Type="http://schemas.openxmlformats.org/officeDocument/2006/relationships/image" Target="../media/image11.gif"/><Relationship Id="rId22" Type="http://schemas.openxmlformats.org/officeDocument/2006/relationships/image" Target="../media/image11.gif"/><Relationship Id="rId23" Type="http://schemas.openxmlformats.org/officeDocument/2006/relationships/image" Target="../media/image11.gif"/><Relationship Id="rId24" Type="http://schemas.openxmlformats.org/officeDocument/2006/relationships/image" Target="../media/image11.gif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image" Target="../media/image12.gif"/><Relationship Id="rId15" Type="http://schemas.openxmlformats.org/officeDocument/2006/relationships/image" Target="../media/image12.gif"/><Relationship Id="rId16" Type="http://schemas.openxmlformats.org/officeDocument/2006/relationships/image" Target="../media/image12.gif"/><Relationship Id="rId17" Type="http://schemas.openxmlformats.org/officeDocument/2006/relationships/image" Target="../media/image12.gif"/><Relationship Id="rId18" Type="http://schemas.openxmlformats.org/officeDocument/2006/relationships/image" Target="../media/image12.gif"/><Relationship Id="rId19" Type="http://schemas.openxmlformats.org/officeDocument/2006/relationships/image" Target="../media/image12.gif"/><Relationship Id="rId20" Type="http://schemas.openxmlformats.org/officeDocument/2006/relationships/image" Target="../media/image12.gif"/><Relationship Id="rId21" Type="http://schemas.openxmlformats.org/officeDocument/2006/relationships/image" Target="../media/image12.gif"/><Relationship Id="rId22" Type="http://schemas.openxmlformats.org/officeDocument/2006/relationships/image" Target="../media/image12.gif"/><Relationship Id="rId23" Type="http://schemas.openxmlformats.org/officeDocument/2006/relationships/image" Target="../media/image12.gif"/><Relationship Id="rId24" Type="http://schemas.openxmlformats.org/officeDocument/2006/relationships/image" Target="../media/image12.gif"/><Relationship Id="rId25" Type="http://schemas.openxmlformats.org/officeDocument/2006/relationships/image" Target="../media/image12.gif"/><Relationship Id="rId26" Type="http://schemas.openxmlformats.org/officeDocument/2006/relationships/image" Target="../media/image12.gif"/><Relationship Id="rId27" Type="http://schemas.openxmlformats.org/officeDocument/2006/relationships/image" Target="../media/image12.gif"/><Relationship Id="rId28" Type="http://schemas.openxmlformats.org/officeDocument/2006/relationships/image" Target="../media/image12.gif"/><Relationship Id="rId29" Type="http://schemas.openxmlformats.org/officeDocument/2006/relationships/image" Target="../media/image12.gif"/><Relationship Id="rId30" Type="http://schemas.openxmlformats.org/officeDocument/2006/relationships/image" Target="../media/image12.gif"/><Relationship Id="rId31" Type="http://schemas.openxmlformats.org/officeDocument/2006/relationships/image" Target="../media/image12.gif"/><Relationship Id="rId32" Type="http://schemas.openxmlformats.org/officeDocument/2006/relationships/image" Target="../media/image12.gif"/><Relationship Id="rId33" Type="http://schemas.openxmlformats.org/officeDocument/2006/relationships/image" Target="../media/image12.gif"/><Relationship Id="rId34" Type="http://schemas.openxmlformats.org/officeDocument/2006/relationships/image" Target="../media/image12.gif"/><Relationship Id="rId35" Type="http://schemas.openxmlformats.org/officeDocument/2006/relationships/image" Target="../media/image12.gif"/><Relationship Id="rId36" Type="http://schemas.openxmlformats.org/officeDocument/2006/relationships/image" Target="../media/image12.gif"/><Relationship Id="rId37" Type="http://schemas.openxmlformats.org/officeDocument/2006/relationships/image" Target="../media/image12.gif"/><Relationship Id="rId38" Type="http://schemas.openxmlformats.org/officeDocument/2006/relationships/image" Target="../media/image12.gif"/><Relationship Id="rId39" Type="http://schemas.openxmlformats.org/officeDocument/2006/relationships/image" Target="../media/image4.gif"/><Relationship Id="rId4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3.jpeg"/><Relationship Id="rId15" Type="http://schemas.openxmlformats.org/officeDocument/2006/relationships/image" Target="../media/image14.jpeg"/><Relationship Id="rId16" Type="http://schemas.openxmlformats.org/officeDocument/2006/relationships/image" Target="../media/image13.jpeg"/><Relationship Id="rId17" Type="http://schemas.openxmlformats.org/officeDocument/2006/relationships/image" Target="../media/image14.jpeg"/><Relationship Id="rId18" Type="http://schemas.openxmlformats.org/officeDocument/2006/relationships/image" Target="../media/image10.jpe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4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image" Target="../media/image17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9.gif"/><Relationship Id="rId15" Type="http://schemas.openxmlformats.org/officeDocument/2006/relationships/image" Target="../media/image19.gif"/><Relationship Id="rId16" Type="http://schemas.openxmlformats.org/officeDocument/2006/relationships/image" Target="../media/image19.gif"/><Relationship Id="rId17" Type="http://schemas.openxmlformats.org/officeDocument/2006/relationships/image" Target="../media/image20.gif"/><Relationship Id="rId18" Type="http://schemas.openxmlformats.org/officeDocument/2006/relationships/image" Target="../media/image20.gif"/><Relationship Id="rId19" Type="http://schemas.openxmlformats.org/officeDocument/2006/relationships/image" Target="../media/image20.gif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image" Target="../media/image25.gif"/><Relationship Id="rId7" Type="http://schemas.openxmlformats.org/officeDocument/2006/relationships/image" Target="../media/image25.gif"/><Relationship Id="rId8" Type="http://schemas.openxmlformats.org/officeDocument/2006/relationships/image" Target="../media/image25.gif"/><Relationship Id="rId9" Type="http://schemas.openxmlformats.org/officeDocument/2006/relationships/image" Target="../media/image25.gif"/><Relationship Id="rId10" Type="http://schemas.openxmlformats.org/officeDocument/2006/relationships/image" Target="../media/image25.gi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image" Target="../media/image27.gif"/><Relationship Id="rId7" Type="http://schemas.openxmlformats.org/officeDocument/2006/relationships/image" Target="../media/image27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700360" y="1341360"/>
            <a:ext cx="1368360" cy="514440"/>
            <a:chOff x="2700360" y="1341360"/>
            <a:chExt cx="1368360" cy="5144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3348000" y="1341360"/>
              <a:ext cx="720720" cy="5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2700360" y="1341360"/>
              <a:ext cx="720720" cy="514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461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826920" y="2276640"/>
            <a:ext cx="2351160" cy="3024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50920" y="260280"/>
            <a:ext cx="2016000" cy="165096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5724360" y="4149720"/>
            <a:ext cx="3168000" cy="1584360"/>
            <a:chOff x="5724360" y="4149720"/>
            <a:chExt cx="3168000" cy="1584360"/>
          </a:xfrm>
        </p:grpSpPr>
        <p:grpSp>
          <p:nvGrpSpPr>
            <p:cNvPr id="48" name=""/>
            <p:cNvGrpSpPr/>
            <p:nvPr/>
          </p:nvGrpSpPr>
          <p:grpSpPr>
            <a:xfrm>
              <a:off x="5724360" y="4149720"/>
              <a:ext cx="2592000" cy="863640"/>
              <a:chOff x="5724360" y="4149720"/>
              <a:chExt cx="2592000" cy="863640"/>
            </a:xfrm>
          </p:grpSpPr>
          <p:pic>
            <p:nvPicPr>
              <p:cNvPr id="4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553520" y="4149720"/>
                <a:ext cx="762840" cy="86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724360" y="4149720"/>
                <a:ext cx="763200" cy="86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638040" y="4149720"/>
                <a:ext cx="762840" cy="863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" name=""/>
            <p:cNvGrpSpPr/>
            <p:nvPr/>
          </p:nvGrpSpPr>
          <p:grpSpPr>
            <a:xfrm>
              <a:off x="6300360" y="4870440"/>
              <a:ext cx="2592000" cy="863640"/>
              <a:chOff x="6300360" y="4870440"/>
              <a:chExt cx="2592000" cy="863640"/>
            </a:xfrm>
          </p:grpSpPr>
          <p:pic>
            <p:nvPicPr>
              <p:cNvPr id="5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8129520" y="4870440"/>
                <a:ext cx="762840" cy="86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300360" y="4870440"/>
                <a:ext cx="763200" cy="86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7214040" y="4870440"/>
                <a:ext cx="762840" cy="863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6" name=""/>
          <p:cNvGrpSpPr/>
          <p:nvPr/>
        </p:nvGrpSpPr>
        <p:grpSpPr>
          <a:xfrm>
            <a:off x="2627280" y="260280"/>
            <a:ext cx="6049800" cy="2376720"/>
            <a:chOff x="2627280" y="260280"/>
            <a:chExt cx="6049800" cy="2376720"/>
          </a:xfrm>
        </p:grpSpPr>
        <p:grpSp>
          <p:nvGrpSpPr>
            <p:cNvPr id="57" name=""/>
            <p:cNvGrpSpPr/>
            <p:nvPr/>
          </p:nvGrpSpPr>
          <p:grpSpPr>
            <a:xfrm>
              <a:off x="3708360" y="260280"/>
              <a:ext cx="792000" cy="1584360"/>
              <a:chOff x="3708360" y="260280"/>
              <a:chExt cx="792000" cy="1584360"/>
            </a:xfrm>
          </p:grpSpPr>
          <p:pic>
            <p:nvPicPr>
              <p:cNvPr id="58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08360" y="26028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708360" y="105228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" name=""/>
            <p:cNvGrpSpPr/>
            <p:nvPr/>
          </p:nvGrpSpPr>
          <p:grpSpPr>
            <a:xfrm>
              <a:off x="4788000" y="1052640"/>
              <a:ext cx="792000" cy="1584360"/>
              <a:chOff x="4788000" y="1052640"/>
              <a:chExt cx="792000" cy="1584360"/>
            </a:xfrm>
          </p:grpSpPr>
          <p:pic>
            <p:nvPicPr>
              <p:cNvPr id="61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4788000" y="105264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788000" y="184464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" name=""/>
            <p:cNvGrpSpPr/>
            <p:nvPr/>
          </p:nvGrpSpPr>
          <p:grpSpPr>
            <a:xfrm>
              <a:off x="5867280" y="260280"/>
              <a:ext cx="792000" cy="1584360"/>
              <a:chOff x="5867280" y="260280"/>
              <a:chExt cx="792000" cy="1584360"/>
            </a:xfrm>
          </p:grpSpPr>
          <p:pic>
            <p:nvPicPr>
              <p:cNvPr id="64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867280" y="26028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5867280" y="105228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" name=""/>
            <p:cNvGrpSpPr/>
            <p:nvPr/>
          </p:nvGrpSpPr>
          <p:grpSpPr>
            <a:xfrm>
              <a:off x="6877080" y="981000"/>
              <a:ext cx="792000" cy="1584360"/>
              <a:chOff x="6877080" y="981000"/>
              <a:chExt cx="792000" cy="1584360"/>
            </a:xfrm>
          </p:grpSpPr>
          <p:pic>
            <p:nvPicPr>
              <p:cNvPr id="67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6877080" y="98100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6877080" y="177300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" name=""/>
            <p:cNvGrpSpPr/>
            <p:nvPr/>
          </p:nvGrpSpPr>
          <p:grpSpPr>
            <a:xfrm>
              <a:off x="7885080" y="260280"/>
              <a:ext cx="792000" cy="1584360"/>
              <a:chOff x="7885080" y="260280"/>
              <a:chExt cx="792000" cy="1584360"/>
            </a:xfrm>
          </p:grpSpPr>
          <p:pic>
            <p:nvPicPr>
              <p:cNvPr id="70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7885080" y="26028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7885080" y="105228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2" name=""/>
            <p:cNvGrpSpPr/>
            <p:nvPr/>
          </p:nvGrpSpPr>
          <p:grpSpPr>
            <a:xfrm>
              <a:off x="2627280" y="765000"/>
              <a:ext cx="792000" cy="1584360"/>
              <a:chOff x="2627280" y="765000"/>
              <a:chExt cx="792000" cy="1584360"/>
            </a:xfrm>
          </p:grpSpPr>
          <p:pic>
            <p:nvPicPr>
              <p:cNvPr id="73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2627280" y="765000"/>
                <a:ext cx="792000" cy="79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2627280" y="1557000"/>
                <a:ext cx="792000" cy="792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50920" y="260280"/>
            <a:ext cx="676908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делай к задаче рисунок и реши е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 каждой кадушки по 2 лягушки.                                               Сколько лягушек у 3 кадуше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332000" y="4908600"/>
            <a:ext cx="4408200" cy="1948680"/>
            <a:chOff x="1332000" y="4908600"/>
            <a:chExt cx="4408200" cy="1948680"/>
          </a:xfrm>
        </p:grpSpPr>
        <p:grpSp>
          <p:nvGrpSpPr>
            <p:cNvPr id="254" name=""/>
            <p:cNvGrpSpPr/>
            <p:nvPr/>
          </p:nvGrpSpPr>
          <p:grpSpPr>
            <a:xfrm>
              <a:off x="1332000" y="4908600"/>
              <a:ext cx="1400040" cy="1948680"/>
              <a:chOff x="1332000" y="4908600"/>
              <a:chExt cx="1400040" cy="1948680"/>
            </a:xfrm>
          </p:grpSpPr>
          <p:pic>
            <p:nvPicPr>
              <p:cNvPr id="255" name="Picture 7" descr="Картинка 7 из 33"/>
              <p:cNvPicPr/>
              <p:nvPr/>
            </p:nvPicPr>
            <p:blipFill>
              <a:blip r:embed="rId2"/>
              <a:stretch/>
            </p:blipFill>
            <p:spPr>
              <a:xfrm>
                <a:off x="1523880" y="4908600"/>
                <a:ext cx="1028160" cy="1337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6" name=""/>
              <p:cNvGrpSpPr/>
              <p:nvPr/>
            </p:nvGrpSpPr>
            <p:grpSpPr>
              <a:xfrm>
                <a:off x="1332000" y="6118200"/>
                <a:ext cx="1400040" cy="739080"/>
                <a:chOff x="1332000" y="6118200"/>
                <a:chExt cx="1400040" cy="739080"/>
              </a:xfrm>
            </p:grpSpPr>
            <p:pic>
              <p:nvPicPr>
                <p:cNvPr id="257" name="Picture 19" descr="Картинка 33 из 727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32000" y="6118200"/>
                  <a:ext cx="700200" cy="73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8" name="Picture 19" descr="Картинка 33 из 727"/>
                <p:cNvPicPr/>
                <p:nvPr/>
              </p:nvPicPr>
              <p:blipFill>
                <a:blip r:embed="rId4"/>
                <a:stretch/>
              </p:blipFill>
              <p:spPr>
                <a:xfrm flipH="1">
                  <a:off x="2032200" y="6118200"/>
                  <a:ext cx="699840" cy="73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59" name=""/>
            <p:cNvGrpSpPr/>
            <p:nvPr/>
          </p:nvGrpSpPr>
          <p:grpSpPr>
            <a:xfrm>
              <a:off x="4340160" y="4908600"/>
              <a:ext cx="1400040" cy="1948680"/>
              <a:chOff x="4340160" y="4908600"/>
              <a:chExt cx="1400040" cy="1948680"/>
            </a:xfrm>
          </p:grpSpPr>
          <p:pic>
            <p:nvPicPr>
              <p:cNvPr id="260" name="Picture 7" descr="Картинка 7 из 33"/>
              <p:cNvPicPr/>
              <p:nvPr/>
            </p:nvPicPr>
            <p:blipFill>
              <a:blip r:embed="rId5"/>
              <a:stretch/>
            </p:blipFill>
            <p:spPr>
              <a:xfrm>
                <a:off x="4532040" y="4908600"/>
                <a:ext cx="1028160" cy="1337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1" name=""/>
              <p:cNvGrpSpPr/>
              <p:nvPr/>
            </p:nvGrpSpPr>
            <p:grpSpPr>
              <a:xfrm>
                <a:off x="4340160" y="6118200"/>
                <a:ext cx="1400040" cy="739080"/>
                <a:chOff x="4340160" y="6118200"/>
                <a:chExt cx="1400040" cy="739080"/>
              </a:xfrm>
            </p:grpSpPr>
            <p:pic>
              <p:nvPicPr>
                <p:cNvPr id="262" name="Picture 19" descr="Картинка 33 из 727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340160" y="6118200"/>
                  <a:ext cx="700200" cy="73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3" name="Picture 19" descr="Картинка 33 из 727"/>
                <p:cNvPicPr/>
                <p:nvPr/>
              </p:nvPicPr>
              <p:blipFill>
                <a:blip r:embed="rId7"/>
                <a:stretch/>
              </p:blipFill>
              <p:spPr>
                <a:xfrm flipH="1">
                  <a:off x="5040360" y="6118200"/>
                  <a:ext cx="699840" cy="73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64" name=""/>
            <p:cNvGrpSpPr/>
            <p:nvPr/>
          </p:nvGrpSpPr>
          <p:grpSpPr>
            <a:xfrm>
              <a:off x="2836800" y="4908600"/>
              <a:ext cx="1400040" cy="1948680"/>
              <a:chOff x="2836800" y="4908600"/>
              <a:chExt cx="1400040" cy="1948680"/>
            </a:xfrm>
          </p:grpSpPr>
          <p:pic>
            <p:nvPicPr>
              <p:cNvPr id="265" name="Picture 7" descr="Картинка 7 из 33"/>
              <p:cNvPicPr/>
              <p:nvPr/>
            </p:nvPicPr>
            <p:blipFill>
              <a:blip r:embed="rId8"/>
              <a:stretch/>
            </p:blipFill>
            <p:spPr>
              <a:xfrm>
                <a:off x="3028680" y="4908600"/>
                <a:ext cx="1028520" cy="1337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6" name=""/>
              <p:cNvGrpSpPr/>
              <p:nvPr/>
            </p:nvGrpSpPr>
            <p:grpSpPr>
              <a:xfrm>
                <a:off x="2836800" y="6118200"/>
                <a:ext cx="1400040" cy="739080"/>
                <a:chOff x="2836800" y="6118200"/>
                <a:chExt cx="1400040" cy="739080"/>
              </a:xfrm>
            </p:grpSpPr>
            <p:pic>
              <p:nvPicPr>
                <p:cNvPr id="267" name="Picture 19" descr="Картинка 33 из 727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836800" y="6118200"/>
                  <a:ext cx="700200" cy="73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Picture 19" descr="Картинка 33 из 727"/>
                <p:cNvPicPr/>
                <p:nvPr/>
              </p:nvPicPr>
              <p:blipFill>
                <a:blip r:embed="rId10"/>
                <a:stretch/>
              </p:blipFill>
              <p:spPr>
                <a:xfrm flipH="1">
                  <a:off x="3537000" y="6118200"/>
                  <a:ext cx="699840" cy="739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1620720" y="189000"/>
            <a:ext cx="6286680" cy="3886200"/>
            <a:chOff x="1620720" y="189000"/>
            <a:chExt cx="6286680" cy="3886200"/>
          </a:xfrm>
        </p:grpSpPr>
        <p:grpSp>
          <p:nvGrpSpPr>
            <p:cNvPr id="76" name=""/>
            <p:cNvGrpSpPr/>
            <p:nvPr/>
          </p:nvGrpSpPr>
          <p:grpSpPr>
            <a:xfrm>
              <a:off x="1620720" y="189000"/>
              <a:ext cx="4630320" cy="3311280"/>
              <a:chOff x="1620720" y="189000"/>
              <a:chExt cx="4630320" cy="331128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1620720" y="189000"/>
                <a:ext cx="1463760" cy="2374920"/>
                <a:chOff x="1620720" y="189000"/>
                <a:chExt cx="1463760" cy="2374920"/>
              </a:xfrm>
            </p:grpSpPr>
            <p:pic>
              <p:nvPicPr>
                <p:cNvPr id="7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908000" y="189000"/>
                  <a:ext cx="117648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692360" y="981000"/>
                  <a:ext cx="117612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20720" y="1773360"/>
                  <a:ext cx="117648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1" name=""/>
              <p:cNvGrpSpPr/>
              <p:nvPr/>
            </p:nvGrpSpPr>
            <p:grpSpPr>
              <a:xfrm>
                <a:off x="3276720" y="692280"/>
                <a:ext cx="1463040" cy="2374920"/>
                <a:chOff x="3276720" y="692280"/>
                <a:chExt cx="1463040" cy="2374920"/>
              </a:xfrm>
            </p:grpSpPr>
            <p:pic>
              <p:nvPicPr>
                <p:cNvPr id="8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563640" y="692280"/>
                  <a:ext cx="117612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348000" y="1484280"/>
                  <a:ext cx="117576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76720" y="2276640"/>
                  <a:ext cx="117612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5" name=""/>
              <p:cNvGrpSpPr/>
              <p:nvPr/>
            </p:nvGrpSpPr>
            <p:grpSpPr>
              <a:xfrm>
                <a:off x="4788000" y="1125360"/>
                <a:ext cx="1463040" cy="2374920"/>
                <a:chOff x="4788000" y="1125360"/>
                <a:chExt cx="1463040" cy="2374920"/>
              </a:xfrm>
            </p:grpSpPr>
            <p:pic>
              <p:nvPicPr>
                <p:cNvPr id="8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074920" y="1125360"/>
                  <a:ext cx="117612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859280" y="1917360"/>
                  <a:ext cx="117576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788000" y="2709720"/>
                  <a:ext cx="1176120" cy="790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89" name=""/>
            <p:cNvGrpSpPr/>
            <p:nvPr/>
          </p:nvGrpSpPr>
          <p:grpSpPr>
            <a:xfrm>
              <a:off x="6443640" y="1700280"/>
              <a:ext cx="1463760" cy="2374920"/>
              <a:chOff x="6443640" y="1700280"/>
              <a:chExt cx="1463760" cy="2374920"/>
            </a:xfrm>
          </p:grpSpPr>
          <p:pic>
            <p:nvPicPr>
              <p:cNvPr id="90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730920" y="1700280"/>
                <a:ext cx="1176480" cy="79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15280" y="2492280"/>
                <a:ext cx="1176120" cy="79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443640" y="3284640"/>
                <a:ext cx="1176480" cy="790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>
            <a:alphaModFix amt="71000"/>
          </a:blip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55640" y="3645000"/>
            <a:ext cx="1692360" cy="2089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843280" y="342900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39640" y="260280"/>
            <a:ext cx="2016360" cy="165096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3780000" y="4437000"/>
            <a:ext cx="4250880" cy="1928520"/>
            <a:chOff x="3780000" y="4437000"/>
            <a:chExt cx="4250880" cy="1928520"/>
          </a:xfrm>
        </p:grpSpPr>
        <p:grpSp>
          <p:nvGrpSpPr>
            <p:cNvPr id="98" name=""/>
            <p:cNvGrpSpPr/>
            <p:nvPr/>
          </p:nvGrpSpPr>
          <p:grpSpPr>
            <a:xfrm>
              <a:off x="3780000" y="4437000"/>
              <a:ext cx="4250880" cy="415800"/>
              <a:chOff x="3780000" y="4437000"/>
              <a:chExt cx="4250880" cy="415800"/>
            </a:xfrm>
          </p:grpSpPr>
          <p:pic>
            <p:nvPicPr>
              <p:cNvPr id="9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780000" y="4437000"/>
                <a:ext cx="47808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408560" y="4437000"/>
                <a:ext cx="47808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037840" y="4437000"/>
                <a:ext cx="47808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667120" y="4437000"/>
                <a:ext cx="47808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296040" y="4437000"/>
                <a:ext cx="47844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923520" y="4437000"/>
                <a:ext cx="47808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7552800" y="4437000"/>
                <a:ext cx="478080" cy="415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" name=""/>
            <p:cNvGrpSpPr/>
            <p:nvPr/>
          </p:nvGrpSpPr>
          <p:grpSpPr>
            <a:xfrm>
              <a:off x="3780000" y="5229360"/>
              <a:ext cx="4247640" cy="415440"/>
              <a:chOff x="3780000" y="5229360"/>
              <a:chExt cx="4247640" cy="415440"/>
            </a:xfrm>
          </p:grpSpPr>
          <p:pic>
            <p:nvPicPr>
              <p:cNvPr id="107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80000" y="5229360"/>
                <a:ext cx="47772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408200" y="5229360"/>
                <a:ext cx="47772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036760" y="5229360"/>
                <a:ext cx="47772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5665680" y="5229360"/>
                <a:ext cx="47772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293880" y="5229360"/>
                <a:ext cx="47808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21000" y="5229360"/>
                <a:ext cx="47772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549920" y="5229360"/>
                <a:ext cx="477720" cy="415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" name=""/>
            <p:cNvGrpSpPr/>
            <p:nvPr/>
          </p:nvGrpSpPr>
          <p:grpSpPr>
            <a:xfrm>
              <a:off x="3780000" y="5950080"/>
              <a:ext cx="4250880" cy="415440"/>
              <a:chOff x="3780000" y="5950080"/>
              <a:chExt cx="4250880" cy="415440"/>
            </a:xfrm>
          </p:grpSpPr>
          <p:pic>
            <p:nvPicPr>
              <p:cNvPr id="115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3780000" y="5950080"/>
                <a:ext cx="47808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408560" y="5950080"/>
                <a:ext cx="47808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5037840" y="5950080"/>
                <a:ext cx="47808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667120" y="5950080"/>
                <a:ext cx="47808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6296040" y="5950080"/>
                <a:ext cx="47844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6923520" y="5950080"/>
                <a:ext cx="478080" cy="41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552800" y="5950080"/>
                <a:ext cx="478080" cy="415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>
            <a:alphaModFix amt="71000"/>
          </a:blip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50920" y="3573360"/>
            <a:ext cx="1692360" cy="2089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843280" y="342900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411280" y="3068640"/>
            <a:ext cx="6360840" cy="3542760"/>
            <a:chOff x="2411280" y="3068640"/>
            <a:chExt cx="6360840" cy="3542760"/>
          </a:xfrm>
        </p:grpSpPr>
        <p:grpSp>
          <p:nvGrpSpPr>
            <p:cNvPr id="126" name=""/>
            <p:cNvGrpSpPr/>
            <p:nvPr/>
          </p:nvGrpSpPr>
          <p:grpSpPr>
            <a:xfrm>
              <a:off x="2411280" y="3068640"/>
              <a:ext cx="6216840" cy="877680"/>
              <a:chOff x="2411280" y="3068640"/>
              <a:chExt cx="6216840" cy="877680"/>
            </a:xfrm>
          </p:grpSpPr>
          <p:pic>
            <p:nvPicPr>
              <p:cNvPr id="12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956720" y="3141720"/>
                <a:ext cx="671400" cy="585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8" name=""/>
              <p:cNvGrpSpPr/>
              <p:nvPr/>
            </p:nvGrpSpPr>
            <p:grpSpPr>
              <a:xfrm>
                <a:off x="2411280" y="3068640"/>
                <a:ext cx="5545080" cy="877680"/>
                <a:chOff x="2411280" y="3068640"/>
                <a:chExt cx="5545080" cy="877680"/>
              </a:xfrm>
            </p:grpSpPr>
            <p:pic>
              <p:nvPicPr>
                <p:cNvPr id="12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65400" y="321408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793320" y="306864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521240" y="321408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247000" y="306864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901120" y="328644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629040" y="306864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283160" y="336024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411280" y="306864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37" name=""/>
            <p:cNvGrpSpPr/>
            <p:nvPr/>
          </p:nvGrpSpPr>
          <p:grpSpPr>
            <a:xfrm>
              <a:off x="2484360" y="3933720"/>
              <a:ext cx="6216840" cy="877680"/>
              <a:chOff x="2484360" y="3933720"/>
              <a:chExt cx="6216840" cy="877680"/>
            </a:xfrm>
          </p:grpSpPr>
          <p:pic>
            <p:nvPicPr>
              <p:cNvPr id="138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8029800" y="4006800"/>
                <a:ext cx="671400" cy="585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39" name=""/>
              <p:cNvGrpSpPr/>
              <p:nvPr/>
            </p:nvGrpSpPr>
            <p:grpSpPr>
              <a:xfrm>
                <a:off x="2484360" y="3933720"/>
                <a:ext cx="5545080" cy="877680"/>
                <a:chOff x="2484360" y="3933720"/>
                <a:chExt cx="5545080" cy="877680"/>
              </a:xfrm>
            </p:grpSpPr>
            <p:pic>
              <p:nvPicPr>
                <p:cNvPr id="14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3138480" y="40791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3866400" y="39337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4594320" y="40791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3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5320080" y="39337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5974200" y="41515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6702120" y="39337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356240" y="42253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2484360" y="39337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48" name=""/>
            <p:cNvGrpSpPr/>
            <p:nvPr/>
          </p:nvGrpSpPr>
          <p:grpSpPr>
            <a:xfrm>
              <a:off x="2484360" y="4797360"/>
              <a:ext cx="6216840" cy="877680"/>
              <a:chOff x="2484360" y="4797360"/>
              <a:chExt cx="6216840" cy="877680"/>
            </a:xfrm>
          </p:grpSpPr>
          <p:pic>
            <p:nvPicPr>
              <p:cNvPr id="149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8029800" y="4870440"/>
                <a:ext cx="671400" cy="585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0" name=""/>
              <p:cNvGrpSpPr/>
              <p:nvPr/>
            </p:nvGrpSpPr>
            <p:grpSpPr>
              <a:xfrm>
                <a:off x="2484360" y="4797360"/>
                <a:ext cx="5545080" cy="877680"/>
                <a:chOff x="2484360" y="4797360"/>
                <a:chExt cx="5545080" cy="877680"/>
              </a:xfrm>
            </p:grpSpPr>
            <p:pic>
              <p:nvPicPr>
                <p:cNvPr id="15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3138480" y="494280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3866400" y="47973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4594320" y="494280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5320080" y="47973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5974200" y="50151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6702120" y="47973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356240" y="50889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2484360" y="479736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59" name=""/>
            <p:cNvGrpSpPr/>
            <p:nvPr/>
          </p:nvGrpSpPr>
          <p:grpSpPr>
            <a:xfrm>
              <a:off x="2556000" y="5734080"/>
              <a:ext cx="6216120" cy="877320"/>
              <a:chOff x="2556000" y="5734080"/>
              <a:chExt cx="6216120" cy="877320"/>
            </a:xfrm>
          </p:grpSpPr>
          <p:pic>
            <p:nvPicPr>
              <p:cNvPr id="160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8101080" y="5806800"/>
                <a:ext cx="671040" cy="585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1" name=""/>
              <p:cNvGrpSpPr/>
              <p:nvPr/>
            </p:nvGrpSpPr>
            <p:grpSpPr>
              <a:xfrm>
                <a:off x="2556000" y="5734080"/>
                <a:ext cx="5544720" cy="877320"/>
                <a:chOff x="2556000" y="5734080"/>
                <a:chExt cx="5544720" cy="877320"/>
              </a:xfrm>
            </p:grpSpPr>
            <p:pic>
              <p:nvPicPr>
                <p:cNvPr id="162" name="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3210120" y="58795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3938040" y="573408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4665600" y="58795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5391720" y="573408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6045480" y="595188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" descr="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6773400" y="573408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" descr="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7427520" y="602532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" descr=""/>
                <p:cNvPicPr/>
                <p:nvPr/>
              </p:nvPicPr>
              <p:blipFill>
                <a:blip r:embed="rId38"/>
                <a:stretch/>
              </p:blipFill>
              <p:spPr>
                <a:xfrm>
                  <a:off x="2556000" y="5734080"/>
                  <a:ext cx="673200" cy="586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170" name="" descr=""/>
          <p:cNvPicPr/>
          <p:nvPr/>
        </p:nvPicPr>
        <p:blipFill>
          <a:blip r:embed="rId39"/>
          <a:stretch/>
        </p:blipFill>
        <p:spPr>
          <a:xfrm>
            <a:off x="539640" y="260280"/>
            <a:ext cx="20163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3564000" y="1125360"/>
            <a:ext cx="4873680" cy="3805200"/>
            <a:chOff x="3564000" y="1125360"/>
            <a:chExt cx="4873680" cy="3805200"/>
          </a:xfrm>
        </p:grpSpPr>
        <p:grpSp>
          <p:nvGrpSpPr>
            <p:cNvPr id="172" name=""/>
            <p:cNvGrpSpPr/>
            <p:nvPr/>
          </p:nvGrpSpPr>
          <p:grpSpPr>
            <a:xfrm>
              <a:off x="3564000" y="1125360"/>
              <a:ext cx="1778040" cy="1573200"/>
              <a:chOff x="3564000" y="1125360"/>
              <a:chExt cx="1778040" cy="1573200"/>
            </a:xfrm>
          </p:grpSpPr>
          <p:pic>
            <p:nvPicPr>
              <p:cNvPr id="1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427640" y="112536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564000" y="191736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5" name=""/>
            <p:cNvGrpSpPr/>
            <p:nvPr/>
          </p:nvGrpSpPr>
          <p:grpSpPr>
            <a:xfrm>
              <a:off x="4643280" y="1773000"/>
              <a:ext cx="1778040" cy="1573200"/>
              <a:chOff x="4643280" y="1773000"/>
              <a:chExt cx="1778040" cy="1573200"/>
            </a:xfrm>
          </p:grpSpPr>
          <p:pic>
            <p:nvPicPr>
              <p:cNvPr id="17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506920" y="177300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643280" y="256500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8" name=""/>
            <p:cNvGrpSpPr/>
            <p:nvPr/>
          </p:nvGrpSpPr>
          <p:grpSpPr>
            <a:xfrm>
              <a:off x="5724360" y="2420640"/>
              <a:ext cx="1778040" cy="1573200"/>
              <a:chOff x="5724360" y="2420640"/>
              <a:chExt cx="1778040" cy="1573200"/>
            </a:xfrm>
          </p:grpSpPr>
          <p:pic>
            <p:nvPicPr>
              <p:cNvPr id="17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588000" y="242064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724360" y="321264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1" name=""/>
            <p:cNvGrpSpPr/>
            <p:nvPr/>
          </p:nvGrpSpPr>
          <p:grpSpPr>
            <a:xfrm>
              <a:off x="6659640" y="3357360"/>
              <a:ext cx="1778040" cy="1573200"/>
              <a:chOff x="6659640" y="3357360"/>
              <a:chExt cx="1778040" cy="1573200"/>
            </a:xfrm>
          </p:grpSpPr>
          <p:pic>
            <p:nvPicPr>
              <p:cNvPr id="18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523280" y="335736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659640" y="414936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3564000" y="1773360"/>
            <a:ext cx="4873680" cy="3805200"/>
            <a:chOff x="3564000" y="1773360"/>
            <a:chExt cx="4873680" cy="3805200"/>
          </a:xfrm>
        </p:grpSpPr>
        <p:grpSp>
          <p:nvGrpSpPr>
            <p:cNvPr id="186" name=""/>
            <p:cNvGrpSpPr/>
            <p:nvPr/>
          </p:nvGrpSpPr>
          <p:grpSpPr>
            <a:xfrm>
              <a:off x="3564000" y="1773360"/>
              <a:ext cx="1778040" cy="1573200"/>
              <a:chOff x="3564000" y="1773360"/>
              <a:chExt cx="1778040" cy="1573200"/>
            </a:xfrm>
          </p:grpSpPr>
          <p:pic>
            <p:nvPicPr>
              <p:cNvPr id="18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427640" y="177336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564000" y="256536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9" name=""/>
            <p:cNvGrpSpPr/>
            <p:nvPr/>
          </p:nvGrpSpPr>
          <p:grpSpPr>
            <a:xfrm>
              <a:off x="4643280" y="2421000"/>
              <a:ext cx="1778040" cy="1573200"/>
              <a:chOff x="4643280" y="2421000"/>
              <a:chExt cx="1778040" cy="1573200"/>
            </a:xfrm>
          </p:grpSpPr>
          <p:pic>
            <p:nvPicPr>
              <p:cNvPr id="190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506920" y="242100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4643280" y="321300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2" name=""/>
            <p:cNvGrpSpPr/>
            <p:nvPr/>
          </p:nvGrpSpPr>
          <p:grpSpPr>
            <a:xfrm>
              <a:off x="5724360" y="3068640"/>
              <a:ext cx="1778040" cy="1573200"/>
              <a:chOff x="5724360" y="3068640"/>
              <a:chExt cx="1778040" cy="1573200"/>
            </a:xfrm>
          </p:grpSpPr>
          <p:pic>
            <p:nvPicPr>
              <p:cNvPr id="193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588000" y="306864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5724360" y="386064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5" name=""/>
            <p:cNvGrpSpPr/>
            <p:nvPr/>
          </p:nvGrpSpPr>
          <p:grpSpPr>
            <a:xfrm>
              <a:off x="6659640" y="4005360"/>
              <a:ext cx="1778040" cy="1573200"/>
              <a:chOff x="6659640" y="4005360"/>
              <a:chExt cx="1778040" cy="1573200"/>
            </a:xfrm>
          </p:grpSpPr>
          <p:pic>
            <p:nvPicPr>
              <p:cNvPr id="196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7523280" y="4005360"/>
                <a:ext cx="914400" cy="81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6659640" y="4797360"/>
                <a:ext cx="792000" cy="781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98" name="" descr=""/>
          <p:cNvPicPr/>
          <p:nvPr/>
        </p:nvPicPr>
        <p:blipFill>
          <a:blip r:embed="rId18"/>
          <a:stretch/>
        </p:blipFill>
        <p:spPr>
          <a:xfrm>
            <a:off x="2843280" y="3933720"/>
            <a:ext cx="16365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64000" y="1268280"/>
            <a:ext cx="2254320" cy="2781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4613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2627280" y="4221000"/>
            <a:ext cx="1692360" cy="2087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250920" y="189000"/>
            <a:ext cx="2016000" cy="1650960"/>
          </a:xfrm>
          <a:prstGeom prst="rect">
            <a:avLst/>
          </a:prstGeom>
          <a:ln w="0">
            <a:noFill/>
          </a:ln>
        </p:spPr>
      </p:pic>
      <p:grpSp>
        <p:nvGrpSpPr>
          <p:cNvPr id="203" name=""/>
          <p:cNvGrpSpPr/>
          <p:nvPr/>
        </p:nvGrpSpPr>
        <p:grpSpPr>
          <a:xfrm>
            <a:off x="3924360" y="2924280"/>
            <a:ext cx="4968360" cy="3717720"/>
            <a:chOff x="3924360" y="2924280"/>
            <a:chExt cx="4968360" cy="3717720"/>
          </a:xfrm>
        </p:grpSpPr>
        <p:grpSp>
          <p:nvGrpSpPr>
            <p:cNvPr id="204" name=""/>
            <p:cNvGrpSpPr/>
            <p:nvPr/>
          </p:nvGrpSpPr>
          <p:grpSpPr>
            <a:xfrm>
              <a:off x="7164360" y="5589720"/>
              <a:ext cx="1296720" cy="1052280"/>
              <a:chOff x="7164360" y="5589720"/>
              <a:chExt cx="1296720" cy="1052280"/>
            </a:xfrm>
          </p:grpSpPr>
          <p:pic>
            <p:nvPicPr>
              <p:cNvPr id="20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164360" y="5589720"/>
                <a:ext cx="936360" cy="33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524720" y="6308640"/>
                <a:ext cx="936360" cy="33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380000" y="5948280"/>
                <a:ext cx="936720" cy="333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8" name=""/>
            <p:cNvGrpSpPr/>
            <p:nvPr/>
          </p:nvGrpSpPr>
          <p:grpSpPr>
            <a:xfrm>
              <a:off x="6516720" y="2924280"/>
              <a:ext cx="2376000" cy="1506240"/>
              <a:chOff x="6516720" y="2924280"/>
              <a:chExt cx="2376000" cy="1506240"/>
            </a:xfrm>
          </p:grpSpPr>
          <p:pic>
            <p:nvPicPr>
              <p:cNvPr id="20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16720" y="2924280"/>
                <a:ext cx="963000" cy="60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0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288200" y="3310560"/>
                <a:ext cx="963000" cy="605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7930080" y="3824640"/>
                <a:ext cx="962640" cy="60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2" name=""/>
            <p:cNvGrpSpPr/>
            <p:nvPr/>
          </p:nvGrpSpPr>
          <p:grpSpPr>
            <a:xfrm>
              <a:off x="5651640" y="4365720"/>
              <a:ext cx="2952720" cy="1089000"/>
              <a:chOff x="5651640" y="4365720"/>
              <a:chExt cx="2952720" cy="1089000"/>
            </a:xfrm>
          </p:grpSpPr>
          <p:pic>
            <p:nvPicPr>
              <p:cNvPr id="21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651640" y="4365720"/>
                <a:ext cx="1008000" cy="58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88360" y="4653000"/>
                <a:ext cx="1008000" cy="585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5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596360" y="4868640"/>
                <a:ext cx="1008000" cy="586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6" name=""/>
            <p:cNvGrpSpPr/>
            <p:nvPr/>
          </p:nvGrpSpPr>
          <p:grpSpPr>
            <a:xfrm>
              <a:off x="3924360" y="2924280"/>
              <a:ext cx="3311640" cy="1241280"/>
              <a:chOff x="3924360" y="2924280"/>
              <a:chExt cx="3311640" cy="1241280"/>
            </a:xfrm>
          </p:grpSpPr>
          <p:pic>
            <p:nvPicPr>
              <p:cNvPr id="21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924360" y="2924280"/>
                <a:ext cx="1295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932360" y="3284640"/>
                <a:ext cx="1295280" cy="59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940360" y="3573360"/>
                <a:ext cx="1295640" cy="592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20" name=""/>
          <p:cNvGrpSpPr/>
          <p:nvPr/>
        </p:nvGrpSpPr>
        <p:grpSpPr>
          <a:xfrm>
            <a:off x="395280" y="2492280"/>
            <a:ext cx="2249640" cy="1889280"/>
            <a:chOff x="395280" y="2492280"/>
            <a:chExt cx="2249640" cy="1889280"/>
          </a:xfrm>
        </p:grpSpPr>
        <p:pic>
          <p:nvPicPr>
            <p:cNvPr id="221" name="" descr=""/>
            <p:cNvPicPr/>
            <p:nvPr/>
          </p:nvPicPr>
          <p:blipFill>
            <a:blip r:embed="rId17"/>
            <a:stretch/>
          </p:blipFill>
          <p:spPr>
            <a:xfrm>
              <a:off x="755640" y="2492280"/>
              <a:ext cx="95256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18"/>
            <a:stretch/>
          </p:blipFill>
          <p:spPr>
            <a:xfrm>
              <a:off x="1692360" y="3213000"/>
              <a:ext cx="95256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19"/>
            <a:stretch/>
          </p:blipFill>
          <p:spPr>
            <a:xfrm>
              <a:off x="395280" y="3429000"/>
              <a:ext cx="952560" cy="95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4" name=""/>
          <p:cNvSpPr/>
          <p:nvPr/>
        </p:nvSpPr>
        <p:spPr>
          <a:xfrm>
            <a:off x="2411280" y="333360"/>
            <a:ext cx="673272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делай к задаче рисунок и реши е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 щурёнка, 3 ерш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 сома и 3 лещ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колько рыбок у ко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059280" y="333360"/>
            <a:ext cx="489744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184464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39640" y="4292640"/>
            <a:ext cx="1724040" cy="14288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6443640" y="5013360"/>
            <a:ext cx="2104920" cy="14666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268360" y="260280"/>
            <a:ext cx="687564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делай к задаче рисунок и реши е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 траве бежал котён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 за ним бежал щ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то, ребята сосчит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колько там бежало лап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0" y="3660840"/>
            <a:ext cx="9325080" cy="2431800"/>
            <a:chOff x="0" y="3660840"/>
            <a:chExt cx="9325080" cy="2431800"/>
          </a:xfrm>
        </p:grpSpPr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940360" y="4732200"/>
              <a:ext cx="1584360" cy="1295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2" name=""/>
            <p:cNvGrpSpPr/>
            <p:nvPr/>
          </p:nvGrpSpPr>
          <p:grpSpPr>
            <a:xfrm>
              <a:off x="0" y="3660840"/>
              <a:ext cx="9325080" cy="2431800"/>
              <a:chOff x="0" y="3660840"/>
              <a:chExt cx="9325080" cy="2431800"/>
            </a:xfrm>
          </p:grpSpPr>
          <p:pic>
            <p:nvPicPr>
              <p:cNvPr id="23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4442400"/>
                <a:ext cx="1584360" cy="129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971640" y="4086720"/>
                <a:ext cx="1584360" cy="129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771640" y="4798080"/>
                <a:ext cx="1584360" cy="129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788000" y="3945600"/>
                <a:ext cx="1584360" cy="129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948360" y="4299840"/>
                <a:ext cx="1584360" cy="129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740720" y="3660840"/>
                <a:ext cx="1584360" cy="129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979640" y="3803040"/>
                <a:ext cx="1584360" cy="129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780000" y="4299840"/>
                <a:ext cx="1584000" cy="1294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1" name=""/>
          <p:cNvSpPr/>
          <p:nvPr/>
        </p:nvSpPr>
        <p:spPr>
          <a:xfrm>
            <a:off x="468360" y="0"/>
            <a:ext cx="504036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ружно муравьи живу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 без дела не снуют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и несут травинку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и несут былинку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и несут иголки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колько их под ёлк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340000" y="333360"/>
            <a:ext cx="6624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делай к задаче рисунок и реши е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колько ушей у 6 мыш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50920" y="3716280"/>
            <a:ext cx="8893080" cy="3141720"/>
            <a:chOff x="250920" y="3716280"/>
            <a:chExt cx="8893080" cy="3141720"/>
          </a:xfrm>
        </p:grpSpPr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 flipH="1">
              <a:off x="6804000" y="4581360"/>
              <a:ext cx="117144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5" name=""/>
            <p:cNvGrpSpPr/>
            <p:nvPr/>
          </p:nvGrpSpPr>
          <p:grpSpPr>
            <a:xfrm>
              <a:off x="250920" y="3716280"/>
              <a:ext cx="8893080" cy="3141720"/>
              <a:chOff x="250920" y="3716280"/>
              <a:chExt cx="8893080" cy="3141720"/>
            </a:xfrm>
          </p:grpSpPr>
          <p:pic>
            <p:nvPicPr>
              <p:cNvPr id="24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50920" y="5373720"/>
                <a:ext cx="117144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771640" y="3716280"/>
                <a:ext cx="117180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8" name="" descr=""/>
              <p:cNvPicPr/>
              <p:nvPr/>
            </p:nvPicPr>
            <p:blipFill>
              <a:blip r:embed="rId5"/>
              <a:stretch/>
            </p:blipFill>
            <p:spPr>
              <a:xfrm flipH="1">
                <a:off x="4427640" y="3716280"/>
                <a:ext cx="117144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7972560" y="5715000"/>
                <a:ext cx="117144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900000" y="4076640"/>
                <a:ext cx="1171800" cy="114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7:29:24Z</dcterms:created>
  <dc:creator>XTreme</dc:creator>
  <dc:description/>
  <dc:language>en-US</dc:language>
  <cp:lastModifiedBy>Sergey</cp:lastModifiedBy>
  <dcterms:modified xsi:type="dcterms:W3CDTF">2013-02-09T12:51:54Z</dcterms:modified>
  <cp:revision>25</cp:revision>
  <dc:subject/>
  <dc:title>Слайд 1</dc:title>
</cp:coreProperties>
</file>