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0C983-DE7B-4845-B19C-E51CDB4D7CE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Р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29C6-0643-42AE-BBA9-F1AE585D7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B190-0761-483B-BAF0-75E425354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BBC4-A8AA-45FF-B4E4-520F3B8F3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AA96-75B1-454B-A0B6-78A922F08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CCAC7-EBC8-426B-8D5B-F907047E3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58891-CD41-4F2F-96D7-EFA90F1A2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8432B-3BB6-448E-8EB9-03B044510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0D9AF-0351-4583-8172-50ED528D6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EC28B-D36D-468A-9173-B744096DD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280DB-8CDA-4AC2-9401-9AF4191A1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D3B1D-F56D-4526-A1C1-C96761D89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F53B-41E9-41EE-A594-954CE8E13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1BBD9-0093-479D-BDF5-6D1B6EA01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09201-ED0F-479B-9746-502947E7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E8111-6A2D-4530-B88C-ED1550881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EDE47-A05E-4FCA-9291-D74A75958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8AC8B-F473-4B23-9E77-B814ED6FF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B9D0-347D-43A3-AC79-58F21C198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D461-0629-4142-AA03-B7506F568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BE16-B831-4D06-A35D-7297F0A4B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9DFD-61A1-4219-B557-0489A4207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C736-D0BF-465D-B47A-3D1FAAC3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9172-F487-4DE9-9E02-19A29B66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78A6-E213-47B2-BAD1-31D6255D0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D540D-7EAD-4ADB-BD29-DB7190B0767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2475B-6662-4419-8DDC-E7DA9EFA6CD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Размножение и развитие животных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600" spc="-1" strike="noStrike">
              <a:solidFill>
                <a:srgbClr val="ffffff"/>
              </a:solidFill>
              <a:latin typeface="comic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116000" y="2349360"/>
            <a:ext cx="720108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Назовите детеныша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403236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оро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винь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лошад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в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оз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оба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ош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ури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индюш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ут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580000" y="1267920"/>
            <a:ext cx="295272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тел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орос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жереб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ягн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озл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ще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от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цыпл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индюшо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ут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5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3851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Развитие бабочки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1942920" cy="159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627280" y="1341360"/>
            <a:ext cx="2057400" cy="15717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5076720" y="1341360"/>
            <a:ext cx="1143000" cy="1619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6588000" y="1341360"/>
            <a:ext cx="1943280" cy="16002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045440" y="2997360"/>
            <a:ext cx="7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7"/>
                </a:solidFill>
                <a:latin typeface="Arial"/>
              </a:rPr>
              <a:t>яйц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34880" y="299736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7"/>
                </a:solidFill>
                <a:latin typeface="Arial"/>
              </a:rPr>
              <a:t>личин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78520" y="2997360"/>
            <a:ext cx="106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7"/>
                </a:solidFill>
                <a:latin typeface="Arial"/>
              </a:rPr>
              <a:t>кукол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094880" y="2997360"/>
            <a:ext cx="110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7"/>
                </a:solidFill>
                <a:latin typeface="Arial"/>
              </a:rPr>
              <a:t>бабоч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68360" y="5084640"/>
            <a:ext cx="722160" cy="7923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403280" y="3573360"/>
            <a:ext cx="727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Развитие кузнечи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1476360" y="5013360"/>
            <a:ext cx="1150920" cy="8920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7"/>
          <a:stretch/>
        </p:blipFill>
        <p:spPr>
          <a:xfrm>
            <a:off x="2987640" y="4941720"/>
            <a:ext cx="1440000" cy="9385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6732720" y="4508640"/>
            <a:ext cx="2087280" cy="1350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9"/>
          <a:stretch/>
        </p:blipFill>
        <p:spPr>
          <a:xfrm>
            <a:off x="4716360" y="4724280"/>
            <a:ext cx="179064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" nodeType="afterEffect" fill="hold" presetClass="entr" presetID="21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1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9000"/>
                            </p:stCondLst>
                            <p:childTnLst>
                              <p:par>
                                <p:cTn id="146" nodeType="afterEffect" fill="hold" presetClass="entr" presetID="21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1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3" nodeType="afterEffect" fill="hold" presetClass="entr" presetID="21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1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1000"/>
                            </p:stCondLst>
                            <p:childTnLst>
                              <p:par>
                                <p:cTn id="160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7000"/>
                            </p:stCondLst>
                            <p:childTnLst>
                              <p:par>
                                <p:cTn id="164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9000"/>
                            </p:stCondLst>
                            <p:childTnLst>
                              <p:par>
                                <p:cTn id="168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1000"/>
                            </p:stCondLst>
                            <p:childTnLst>
                              <p:par>
                                <p:cTn id="172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3000"/>
                            </p:stCondLst>
                            <p:childTnLst>
                              <p:par>
                                <p:cTn id="176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5000"/>
                            </p:stCondLst>
                            <p:childTnLst>
                              <p:par>
                                <p:cTn id="180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49360" y="259920"/>
            <a:ext cx="80071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6560" y="333360"/>
            <a:ext cx="2808360" cy="719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рупп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живот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03640" y="333360"/>
            <a:ext cx="2808360" cy="719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змнож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333360"/>
            <a:ext cx="2842920" cy="719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звити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6560" y="1052640"/>
            <a:ext cx="2808360" cy="280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асекомы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03640" y="1052640"/>
            <a:ext cx="2808360" cy="280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ткладываю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яйц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2000" y="1052640"/>
            <a:ext cx="2842920" cy="280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Либо: яйцо ---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личинки 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уколка 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зрослое насеком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бабочк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Либо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яйцо ---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личинка 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зрослое насеком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кузнечик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6560" y="3860640"/>
            <a:ext cx="280836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Рыб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3640" y="3860640"/>
            <a:ext cx="280836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ткладываю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кру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2000" y="3860640"/>
            <a:ext cx="284292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кра --- малек --- рыб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6560" y="4437000"/>
            <a:ext cx="280836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Земноводны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6560" y="5084640"/>
            <a:ext cx="2808360" cy="64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есмыкающиес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03640" y="5084640"/>
            <a:ext cx="2808360" cy="64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ткладывают яйц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12000" y="5084640"/>
            <a:ext cx="2842920" cy="64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Яйцо ---детены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-- взрослое животно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6560" y="5661000"/>
            <a:ext cx="280836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лекопитающ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12000" y="5661000"/>
            <a:ext cx="284292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етеныши ---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зрослое животн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03640" y="4437000"/>
            <a:ext cx="287964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ткладываю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кру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12000" y="4437000"/>
            <a:ext cx="284292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кра --- головастик ---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лягушк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03640" y="5661000"/>
            <a:ext cx="280836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ождают детеныше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8T10:01:01Z</dcterms:created>
  <dc:creator>Учитель</dc:creator>
  <dc:description/>
  <dc:language>en-US</dc:language>
  <cp:lastModifiedBy>XP GAME 2007</cp:lastModifiedBy>
  <dcterms:modified xsi:type="dcterms:W3CDTF">2012-01-26T19:37:16Z</dcterms:modified>
  <cp:revision>15</cp:revision>
  <dc:subject/>
  <dc:title>Размножение и развитие животных</dc:title>
</cp:coreProperties>
</file>