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9181-293A-43B9-BAC8-2FDB59D9D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37C9-0064-4AC8-87F0-73BA4B9B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8A1A-5945-434B-AEE7-0444F9CB4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7090-1662-44B6-B829-1D6A6FB00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A953-A532-4511-AD01-69433868A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82A0-FFA8-4870-AC34-B9D5C48C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153B1-5A93-4E03-8E30-E9D08D41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0C24-D192-417C-BDCA-CD8535B5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20A9-3523-42AA-8913-D12EB55C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FCA0-9D97-48B1-8A7C-ECDC20C0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CF90-6D82-498E-AA2D-B5A86473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717F-6B6A-4DBE-ADBD-551EA159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6D29-B9EA-42FA-BB7C-227795E8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89D30-36D0-409D-953A-ABED63C2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F1418-DBA5-4ADF-9AE4-8F254F30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FEF69-D7BA-4CA6-95A8-3E7960A28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FD05-0AA1-436E-996D-A332C232B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BE067-0156-4730-92F7-7E2204104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74B5A-EFB6-49CA-971F-174F6A0B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B3769-7ED4-4F6A-A657-9F21CD67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71480-4A02-4ED7-9FCA-E0019D09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7F86E-BB35-4AEE-91FB-BF7C8394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BFB8-B40C-4C9B-9660-81DDED27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C6473-7FDC-43BC-8271-43CF35D2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DB526-30C7-4373-9E0D-208BE493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8011A-46DB-4055-B27A-89241E5F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D11A9-6306-48C1-90B5-0395C8F3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BBE02-6155-4BFD-8AC1-7575A491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87F96-F6A6-48A7-861A-DB7F4F629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20ED1-B219-471D-BC6A-D55F5B928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2B0BB-888B-4658-85EC-2CB6A49FB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2D413-BA20-41D7-AF2E-16E0E87E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CDADC-428B-45B4-8D34-F045F217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460C-8F41-447A-86D7-0C44947F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F6D0E-1618-42F9-A391-2FDC1608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0A691-5E71-4BB0-9297-B5A8B951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C4B31-BE8F-4E72-AE59-2B239762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6BB81-FA8B-4838-B2C7-A0D6B1D7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C5D05-EA38-433D-910A-B99F83BF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FDEAD-A78D-49C4-9FF2-1E491F1B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3B11A-5854-4BD1-AAF4-83597866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33E7E-C296-411B-B209-D99D38F4F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A7808-8F3C-4891-978B-460C2DE18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F045-C94F-4787-826E-D04C182D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193E-A7E5-4FBF-9F48-942DD186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FDAE-765F-40F1-BCD4-3C32C320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EF03-2898-4F3B-B3B6-622115D7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F692-2F91-4D73-A98B-CFAC2333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9F4C-11EC-487B-B633-01A8BD28DE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204C-F111-438E-B2D0-709D4E49791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D48A-54B1-49EC-85A2-52D7A667752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89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91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03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22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40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7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48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B596-544B-40C1-9FEA-150C6F5E3046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Рисунок 1" descr="загруженное4.jpg"/>
          <p:cNvPicPr/>
          <p:nvPr/>
        </p:nvPicPr>
        <p:blipFill>
          <a:blip r:embed="rId1"/>
          <a:stretch/>
        </p:blipFill>
        <p:spPr>
          <a:xfrm>
            <a:off x="1928880" y="0"/>
            <a:ext cx="4786200" cy="64911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Рисунок 1" descr="images (3).jpg"/>
          <p:cNvPicPr/>
          <p:nvPr/>
        </p:nvPicPr>
        <p:blipFill>
          <a:blip r:embed="rId1"/>
          <a:stretch/>
        </p:blipFill>
        <p:spPr>
          <a:xfrm>
            <a:off x="2214720" y="214200"/>
            <a:ext cx="4643280" cy="62229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Рисунок 1" descr="чеб.jpg"/>
          <p:cNvPicPr/>
          <p:nvPr/>
        </p:nvPicPr>
        <p:blipFill>
          <a:blip r:embed="rId1"/>
          <a:stretch/>
        </p:blipFill>
        <p:spPr>
          <a:xfrm>
            <a:off x="1428840" y="357120"/>
            <a:ext cx="5929200" cy="5929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8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cc"/>
                </a:solidFill>
                <a:latin typeface="Calibri"/>
              </a:rPr>
              <a:t>Чиполлино</a:t>
            </a:r>
            <a:br>
              <a:rPr sz="9600"/>
            </a:br>
            <a:r>
              <a:rPr b="0" lang="ru-RU" sz="9600" spc="-1" strike="noStrike">
                <a:solidFill>
                  <a:srgbClr val="0000cc"/>
                </a:solidFill>
                <a:latin typeface="Calibri"/>
              </a:rPr>
              <a:t>Винни-Пух</a:t>
            </a:r>
            <a:br>
              <a:rPr sz="9600"/>
            </a:br>
            <a:r>
              <a:rPr b="0" lang="ru-RU" sz="9600" spc="-1" strike="noStrike">
                <a:solidFill>
                  <a:srgbClr val="0000cc"/>
                </a:solidFill>
                <a:latin typeface="Calibri"/>
              </a:rPr>
              <a:t>Чебурашка</a:t>
            </a:r>
            <a:br>
              <a:rPr sz="7200"/>
            </a:b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b050"/>
                </a:solidFill>
                <a:latin typeface="Calibri"/>
              </a:rPr>
              <a:t>Чипо</a:t>
            </a:r>
            <a:r>
              <a:rPr b="0" lang="ru-RU" sz="9600" spc="-1" strike="noStrike" u="sng">
                <a:solidFill>
                  <a:srgbClr val="00b050"/>
                </a:solidFill>
                <a:uFillTx/>
                <a:latin typeface="Calibri"/>
              </a:rPr>
              <a:t>лл</a:t>
            </a:r>
            <a:r>
              <a:rPr b="0" lang="ru-RU" sz="9600" spc="-1" strike="noStrike">
                <a:solidFill>
                  <a:srgbClr val="00b050"/>
                </a:solidFill>
                <a:latin typeface="Calibri"/>
              </a:rPr>
              <a:t>ино</a:t>
            </a:r>
            <a:br>
              <a:rPr sz="9600"/>
            </a:br>
            <a:r>
              <a:rPr b="0" lang="ru-RU" sz="9600" spc="-1" strike="noStrike">
                <a:solidFill>
                  <a:srgbClr val="00b050"/>
                </a:solidFill>
                <a:latin typeface="Calibri"/>
              </a:rPr>
              <a:t>Ви</a:t>
            </a:r>
            <a:r>
              <a:rPr b="0" lang="ru-RU" sz="9600" spc="-1" strike="noStrike" u="sng">
                <a:solidFill>
                  <a:srgbClr val="00b050"/>
                </a:solidFill>
                <a:uFillTx/>
                <a:latin typeface="Calibri"/>
              </a:rPr>
              <a:t>нн</a:t>
            </a:r>
            <a:r>
              <a:rPr b="0" lang="ru-RU" sz="9600" spc="-1" strike="noStrike">
                <a:solidFill>
                  <a:srgbClr val="00b050"/>
                </a:solidFill>
                <a:latin typeface="Calibri"/>
              </a:rPr>
              <a:t>и-Пух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WordArt 4"/>
          <p:cNvSpPr txBox="1"/>
          <p:nvPr/>
        </p:nvSpPr>
        <p:spPr>
          <a:xfrm>
            <a:off x="1332000" y="0"/>
            <a:ext cx="669744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двоенные согласные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корне слова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9000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c6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5"/>
          <p:cNvSpPr/>
          <p:nvPr/>
        </p:nvSpPr>
        <p:spPr>
          <a:xfrm>
            <a:off x="324000" y="981000"/>
            <a:ext cx="8280360" cy="141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324000" y="980640"/>
            <a:ext cx="81374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писание слов с удвоенной согласной буквой надо запомн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4" descr="J0078733"/>
          <p:cNvPicPr/>
          <p:nvPr/>
        </p:nvPicPr>
        <p:blipFill>
          <a:blip r:embed="rId1"/>
          <a:stretch/>
        </p:blipFill>
        <p:spPr>
          <a:xfrm>
            <a:off x="539640" y="2637000"/>
            <a:ext cx="1395360" cy="392724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77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770" fill="hold"/>
                                        <p:tgtEl>
                                          <p:spTgt spid="3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8686440" y="6021000"/>
            <a:ext cx="20628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WordArt 6"/>
          <p:cNvSpPr txBox="1"/>
          <p:nvPr/>
        </p:nvSpPr>
        <p:spPr>
          <a:xfrm>
            <a:off x="1042920" y="0"/>
            <a:ext cx="6481800" cy="378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74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Желаю успеха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самостоятельной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боте!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5000">
    <p:pull dir="l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385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385" fill="hold"/>
                                        <p:tgtEl>
                                          <p:spTgt spid="3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385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385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8T08:32:51Z</dcterms:created>
  <dc:creator>155</dc:creator>
  <dc:description/>
  <dc:language>en-US</dc:language>
  <cp:lastModifiedBy>User</cp:lastModifiedBy>
  <dcterms:modified xsi:type="dcterms:W3CDTF">2013-02-14T21:31:41Z</dcterms:modified>
  <cp:revision>25</cp:revision>
  <dc:subject/>
  <dc:title>Слайд 1</dc:title>
</cp:coreProperties>
</file>