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BFA-BE10-4319-9975-3F053BD1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BAD-8EF6-49C9-917A-5095004E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DE8-8629-4F86-8361-12BB1165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45C-0ABD-4838-B8CA-75B0DF08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E76E-C750-4106-910A-58E0F783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5201-9DC6-4323-820F-AF49E7BB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C597-AF15-420E-A10E-E4C2FA63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235C-8661-41DD-8E7C-4B45CD37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7965-EE89-4362-9230-0BD6DEC9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5840-7760-435C-802A-1271B1F8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47EB-74C0-4F2A-A53F-E2E4FCDA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F48-D08B-4EA0-8E8D-C1229B64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69EF-B340-47A9-BA8A-89626DE0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E448-6883-4E04-A8BD-EC5263B7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102F-C0EC-46AE-9190-87CB9156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348C-A135-48FD-B390-0553EBED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6237-58F5-48E6-8916-C1FE7D2F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5603-0941-4A6A-93A5-FB35FDB8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477A-FBF4-494A-A7C4-8C58150F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8F3CA-0C72-447C-B15D-90CF92A3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44E8A-F71F-40DB-878A-C75E3F25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922DB-F5F8-44E3-A46A-81485355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1A7-77E8-42CF-B421-4ACDB9ED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BC598-3DD4-4BCE-B52F-E0DCCC20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60841-841B-4C28-AD47-493DE7BD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01461-E269-463B-A413-1346579F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3A6B8-8AA7-490E-B608-BB1A78FF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DEB5-4544-41BC-AD49-18E5FF59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4641C-9A12-4076-9076-5C03066E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D0E07-55B4-464F-B233-014F9AD9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CADEB-CE57-4210-8C5B-DA72D833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84EA3-65A0-4299-A6E8-C0F0F919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0ED2F-DE19-4BC7-80E5-C03EE793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ABE-264B-4726-8F13-AD103909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7AFB5-7661-42B5-B3E4-465789DE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D936C-2370-41D2-BB79-D05E6FAE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1E6D0-673F-48A8-97CC-C75AAFE1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13190-848B-44F1-934C-B759E310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B6C3E-0C2A-48AF-AD2D-9D2494DC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A4943-DDD0-42D2-B081-C95A945F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00863-0388-4F3C-9F38-DD5BE00F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5EE74-534F-4071-8943-3602C4A4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FAEC4-D711-4132-9808-69F556A6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1EC-2DC6-4840-924D-0E994760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021F-790C-45C4-A734-0FD3F353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FBF-B999-43DB-83FF-86ABDEE2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316-6912-49DB-B835-3C928630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9C2-F5CA-4F62-8885-F7A03640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D617-B120-4F64-B56F-70110C1AD5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9587-A824-4AAD-89DB-6FE2654143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C6B2-7916-43E4-A6D3-CFC5DBC950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46D5-ABA5-4AAE-82F3-F73F7210834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загруженное4.jpg"/>
          <p:cNvPicPr/>
          <p:nvPr/>
        </p:nvPicPr>
        <p:blipFill>
          <a:blip r:embed="rId1"/>
          <a:stretch/>
        </p:blipFill>
        <p:spPr>
          <a:xfrm>
            <a:off x="1928880" y="0"/>
            <a:ext cx="4786200" cy="6491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images (3).jpg"/>
          <p:cNvPicPr/>
          <p:nvPr/>
        </p:nvPicPr>
        <p:blipFill>
          <a:blip r:embed="rId1"/>
          <a:stretch/>
        </p:blipFill>
        <p:spPr>
          <a:xfrm>
            <a:off x="2214720" y="214200"/>
            <a:ext cx="4643280" cy="622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1" descr="чеб.jpg"/>
          <p:cNvPicPr/>
          <p:nvPr/>
        </p:nvPicPr>
        <p:blipFill>
          <a:blip r:embed="rId1"/>
          <a:stretch/>
        </p:blipFill>
        <p:spPr>
          <a:xfrm>
            <a:off x="1428840" y="357120"/>
            <a:ext cx="5929200" cy="592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иполлино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Винни-Пух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ебурашка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Чипо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лл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но</a:t>
            </a:r>
            <a:br>
              <a:rPr sz="9600"/>
            </a:b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Ви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нн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-Пу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е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85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385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User</cp:lastModifiedBy>
  <dcterms:modified xsi:type="dcterms:W3CDTF">2013-02-14T21:31:41Z</dcterms:modified>
  <cp:revision>25</cp:revision>
  <dc:subject/>
  <dc:title>Слайд 1</dc:title>
</cp:coreProperties>
</file>