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F1B-6C2D-41DB-8FAE-8DAC113C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D3B-A1F1-44D2-8DCA-A3254C52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F31-CA14-4A09-BD47-B9B183EB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FB2-B886-4206-8087-23A3999F1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6681-E63A-4658-98C4-A1F5B25D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68D7-1E61-460D-894B-6168742C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ABCD-93F3-4413-8B5A-F2B9D96C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B597-4424-42E3-82B5-F28E7C72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59AC-6AFC-4A2E-8E9F-30928D97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F387-4D82-4B8A-9186-0E03E2E5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7B16-0756-4B26-BEB4-35556A0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99E-53A7-457B-A394-3AE8458E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0EC0-1E9A-407D-97EB-500B0DF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CA03-0581-4152-AECA-8B1B21BC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7CB7-85D7-491E-A063-496413C9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0FE0-4652-498C-ABA8-CF47DB1D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FAAD-0E61-4715-87EE-2F8DA252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EA54-F7BC-4E2E-8F56-98F1B9E3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EF318-F4DA-4155-8D7F-1D23E111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1DDA-6A9A-4192-A47A-CAEA68E6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F389-B3B5-42F0-962D-2570EBF8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5066B-0B00-4E4E-9805-245616E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612C-E3AD-4672-AC10-2E9923CA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7EB0C-3C2A-4F4D-9BDC-CDBB880F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F15C-0DDE-433A-93A8-587634C5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BF53A-A026-4B9A-A437-DE5E078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ED08-A0C0-435F-A56F-4AFBACF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82E29-4BBE-487E-9E71-C6D6F139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101B3-0956-409D-9CE0-DC7D0108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D00D-51D6-4B6D-BAF9-86DA9FB9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D023-3725-481C-AA08-864038E7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7FF5B-790E-4098-AE97-68FBE8C8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4ADB-2D8B-4C70-B174-498E52E3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30C-1345-45A5-B7AB-2A90CCBF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CDD3-1C7D-4EAD-B327-37D636FF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EF68-A232-4A38-A275-8FEB4CC6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83E6B-9086-40FD-ABFD-AEB0487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7C43F-76FC-477C-B94F-78375DE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16000-A97F-4D73-BF73-CD5690CD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0F9E-B092-4195-BF6B-B036F87A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6AA91-8C10-413C-925C-B48A82C3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7EBE-8A33-47B1-9BED-CBB12727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14BF9-C234-4E70-B3B2-87271078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3A7-086E-4E00-9C03-BC3EF1AF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14A-F659-470B-912A-B44C42B4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6F6-5B98-4403-BA9E-1A45C484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F0D-4239-47C1-99CA-337E272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351F-C788-4940-8E24-0A33519D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DE58-90B7-4D6A-BEC5-0E0C25A8A0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A5CA-F03A-4A57-A834-693DB8B72B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3914-E264-4BE1-BE75-CA1934BF62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9A2C-0B0A-4BF4-8640-54C0EAF4145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загруженное4.jpg"/>
          <p:cNvPicPr/>
          <p:nvPr/>
        </p:nvPicPr>
        <p:blipFill>
          <a:blip r:embed="rId1"/>
          <a:stretch/>
        </p:blipFill>
        <p:spPr>
          <a:xfrm>
            <a:off x="1928880" y="0"/>
            <a:ext cx="4786200" cy="6491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images (3).jpg"/>
          <p:cNvPicPr/>
          <p:nvPr/>
        </p:nvPicPr>
        <p:blipFill>
          <a:blip r:embed="rId1"/>
          <a:stretch/>
        </p:blipFill>
        <p:spPr>
          <a:xfrm>
            <a:off x="2214720" y="214200"/>
            <a:ext cx="4643280" cy="622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1" descr="чеб.jpg"/>
          <p:cNvPicPr/>
          <p:nvPr/>
        </p:nvPicPr>
        <p:blipFill>
          <a:blip r:embed="rId1"/>
          <a:stretch/>
        </p:blipFill>
        <p:spPr>
          <a:xfrm>
            <a:off x="1428840" y="357120"/>
            <a:ext cx="5929200" cy="5929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иполлино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Винни-Пух</a:t>
            </a:r>
            <a:br>
              <a:rPr sz="9600"/>
            </a:br>
            <a:r>
              <a:rPr b="0" lang="ru-RU" sz="9600" spc="-1" strike="noStrike">
                <a:solidFill>
                  <a:srgbClr val="0000cc"/>
                </a:solidFill>
                <a:latin typeface="Calibri"/>
              </a:rPr>
              <a:t>Чебурашка</a:t>
            </a:r>
            <a:br>
              <a:rPr sz="7200"/>
            </a:b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Чипо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лл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но</a:t>
            </a:r>
            <a:br>
              <a:rPr sz="9600"/>
            </a:b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Ви</a:t>
            </a:r>
            <a:r>
              <a:rPr b="0" lang="ru-RU" sz="9600" spc="-1" strike="noStrike" u="sng">
                <a:solidFill>
                  <a:srgbClr val="00b050"/>
                </a:solidFill>
                <a:uFillTx/>
                <a:latin typeface="Calibri"/>
              </a:rPr>
              <a:t>нн</a:t>
            </a:r>
            <a:r>
              <a:rPr b="0" lang="ru-RU" sz="9600" spc="-1" strike="noStrike">
                <a:solidFill>
                  <a:srgbClr val="00b050"/>
                </a:solidFill>
                <a:latin typeface="Calibri"/>
              </a:rPr>
              <a:t>и-Пух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боте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ull dir="l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85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385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User</cp:lastModifiedBy>
  <dcterms:modified xsi:type="dcterms:W3CDTF">2013-02-14T21:31:41Z</dcterms:modified>
  <cp:revision>25</cp:revision>
  <dc:subject/>
  <dc:title>Слайд 1</dc:title>
</cp:coreProperties>
</file>