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19.jpeg" ContentType="image/jpeg"/>
  <Override PartName="/ppt/media/image25.png" ContentType="image/png"/>
  <Override PartName="/ppt/media/image18.png" ContentType="image/png"/>
  <Override PartName="/ppt/media/image16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32.jpeg" ContentType="image/jpeg"/>
  <Override PartName="/ppt/media/image34.jpeg" ContentType="image/jpeg"/>
  <Override PartName="/ppt/media/image31.wmf" ContentType="image/x-wmf"/>
  <Override PartName="/ppt/media/image36.jpeg" ContentType="image/jpeg"/>
  <Override PartName="/ppt/media/image9.jpeg" ContentType="image/jpeg"/>
  <Override PartName="/ppt/media/image37.gif" ContentType="image/gif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4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0.wmf" ContentType="image/x-wmf"/>
  <Override PartName="/ppt/media/image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457-B03F-4471-9FE3-FA48F5C5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AC7-7FD6-46C9-9879-97C06DA5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3C2-7F77-4B92-8267-F9CC06E1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13A-DD78-4661-ABB0-6E545807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E93-EBAA-4C27-811F-01540B3D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6AF-904F-4E9D-81B7-AB831368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A3B-65B5-4C32-BE77-2C6C3E02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E6B-A440-4277-875A-91D6FF73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8DF-317E-48A9-B129-0DBD5599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9AC-FD06-4497-9105-C4F67F5E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AC2-0FC0-4A1B-B795-D266073A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1AA-DC14-40A3-AD10-1E1EEF75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9A5E-6F2C-4D5B-AE95-181B99A86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ото-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971640" y="1341360"/>
            <a:ext cx="712944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150400" cy="20671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Песок"/>
          <p:cNvPicPr/>
          <p:nvPr/>
        </p:nvPicPr>
        <p:blipFill>
          <a:blip r:embed="rId3"/>
          <a:stretch/>
        </p:blipFill>
        <p:spPr>
          <a:xfrm>
            <a:off x="237960" y="1762200"/>
            <a:ext cx="500400" cy="445608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8" descr="Песок"/>
          <p:cNvPicPr/>
          <p:nvPr/>
        </p:nvPicPr>
        <p:blipFill>
          <a:blip r:embed="rId4"/>
          <a:stretch/>
        </p:blipFill>
        <p:spPr>
          <a:xfrm>
            <a:off x="8302680" y="1689120"/>
            <a:ext cx="517320" cy="46022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9" descr=""/>
          <p:cNvPicPr/>
          <p:nvPr/>
        </p:nvPicPr>
        <p:blipFill>
          <a:blip r:embed="rId5"/>
          <a:stretch/>
        </p:blipFill>
        <p:spPr>
          <a:xfrm>
            <a:off x="1390680" y="6224760"/>
            <a:ext cx="660708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10" descr=""/>
          <p:cNvPicPr/>
          <p:nvPr/>
        </p:nvPicPr>
        <p:blipFill>
          <a:blip r:embed="rId6"/>
          <a:stretch/>
        </p:blipFill>
        <p:spPr>
          <a:xfrm>
            <a:off x="1249200" y="3352680"/>
            <a:ext cx="642636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five years of secondary education, pupils take GCSE (General Certificate of Secondary Education) exa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education ends at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leave secondary school                 and go to colleges for furt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hoose to stay at secondary school for two years more and prepare for a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алла 3 003-2"/>
          <p:cNvPicPr/>
          <p:nvPr/>
        </p:nvPicPr>
        <p:blipFill>
          <a:blip r:embed="rId1"/>
          <a:stretch/>
        </p:blipFill>
        <p:spPr>
          <a:xfrm>
            <a:off x="4788000" y="1484280"/>
            <a:ext cx="368136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 A R K 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7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1616400" cy="6094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8" descr=""/>
          <p:cNvPicPr/>
          <p:nvPr/>
        </p:nvPicPr>
        <p:blipFill>
          <a:blip r:embed="rId2"/>
          <a:stretch/>
        </p:blipFill>
        <p:spPr>
          <a:xfrm>
            <a:off x="6583320" y="542880"/>
            <a:ext cx="20732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E N G L I S 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R U S S I A N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ar)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or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ful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WordArt 114" descr=""/>
          <p:cNvPicPr/>
          <p:nvPr/>
        </p:nvPicPr>
        <p:blipFill>
          <a:blip r:embed="rId3"/>
          <a:stretch/>
        </p:blipFill>
        <p:spPr>
          <a:xfrm>
            <a:off x="420840" y="6261120"/>
            <a:ext cx="2077920" cy="61596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116" descr=""/>
          <p:cNvPicPr/>
          <p:nvPr/>
        </p:nvPicPr>
        <p:blipFill>
          <a:blip r:embed="rId4"/>
          <a:stretch/>
        </p:blipFill>
        <p:spPr>
          <a:xfrm>
            <a:off x="3224160" y="6261120"/>
            <a:ext cx="1000080" cy="425520"/>
          </a:xfrm>
          <a:prstGeom prst="rect">
            <a:avLst/>
          </a:prstGeom>
          <a:ln w="0">
            <a:noFill/>
          </a:ln>
        </p:spPr>
      </p:pic>
      <p:pic>
        <p:nvPicPr>
          <p:cNvPr id="87" name="WordArt 117" descr=""/>
          <p:cNvPicPr/>
          <p:nvPr/>
        </p:nvPicPr>
        <p:blipFill>
          <a:blip r:embed="rId5"/>
          <a:stretch/>
        </p:blipFill>
        <p:spPr>
          <a:xfrm>
            <a:off x="4956120" y="6334200"/>
            <a:ext cx="140832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118" descr=""/>
          <p:cNvPicPr/>
          <p:nvPr/>
        </p:nvPicPr>
        <p:blipFill>
          <a:blip r:embed="rId6"/>
          <a:stretch/>
        </p:blipFill>
        <p:spPr>
          <a:xfrm>
            <a:off x="7113600" y="6261120"/>
            <a:ext cx="1073160" cy="425520"/>
          </a:xfrm>
          <a:prstGeom prst="rect">
            <a:avLst/>
          </a:prstGeom>
          <a:ln w="0">
            <a:noFill/>
          </a:ln>
        </p:spPr>
      </p:pic>
      <p:pic>
        <p:nvPicPr>
          <p:cNvPr id="89" name="WordArt 119" descr=""/>
          <p:cNvPicPr/>
          <p:nvPr/>
        </p:nvPicPr>
        <p:blipFill>
          <a:blip r:embed="rId7"/>
          <a:stretch/>
        </p:blipFill>
        <p:spPr>
          <a:xfrm>
            <a:off x="3773520" y="1122480"/>
            <a:ext cx="1474920" cy="40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 RU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3b4d"/>
                </a:solidFill>
                <a:latin typeface="Arial"/>
              </a:rPr>
              <a:t>EVERY  BRITISH  SCHOOL  HAS  ITS  R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 EXAMPLE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hello when you see a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school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 up when a teacher comes into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 your school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eat or drink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run in the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bring mobile phones to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alk to people in 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97749"/>
          <p:cNvPicPr/>
          <p:nvPr/>
        </p:nvPicPr>
        <p:blipFill>
          <a:blip r:embed="rId1"/>
          <a:stretch/>
        </p:blipFill>
        <p:spPr>
          <a:xfrm>
            <a:off x="5796000" y="3821040"/>
            <a:ext cx="3003480" cy="28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99125"/>
          <p:cNvPicPr/>
          <p:nvPr/>
        </p:nvPicPr>
        <p:blipFill>
          <a:blip r:embed="rId2"/>
          <a:stretch/>
        </p:blipFill>
        <p:spPr>
          <a:xfrm>
            <a:off x="539640" y="189000"/>
            <a:ext cx="13683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ECK  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AGE OF PUPIL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TYPE OF SCHOOL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- 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11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6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18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HECK    YOUR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ublic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for every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Boarding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ive there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only boys t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t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stat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re cours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, drama, home eco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maths,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51301"/>
          <p:cNvPicPr/>
          <p:nvPr/>
        </p:nvPicPr>
        <p:blipFill>
          <a:blip r:embed="rId1"/>
          <a:stretch/>
        </p:blipFill>
        <p:spPr>
          <a:xfrm>
            <a:off x="971640" y="134136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86034"/>
          <p:cNvPicPr/>
          <p:nvPr/>
        </p:nvPicPr>
        <p:blipFill>
          <a:blip r:embed="rId2"/>
          <a:stretch/>
        </p:blipFill>
        <p:spPr>
          <a:xfrm>
            <a:off x="971640" y="422100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403280" y="37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ll done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5892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 once mor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IGHER  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begins at 18 and usually lasts three or four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go to universities, polytechnics or colleges of hig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w about 80 universities in Great Bri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ademic year is divided into thre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examinations are held at the end of autumn, spring and summer terms. Only two reexaminations 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universities usually keep to the customs of the past. Upon graduation all the students have to wear long blac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w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students cap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алла 3 004-2"/>
          <p:cNvPicPr/>
          <p:nvPr/>
        </p:nvPicPr>
        <p:blipFill>
          <a:blip r:embed="rId1"/>
          <a:stretch/>
        </p:blipFill>
        <p:spPr>
          <a:xfrm>
            <a:off x="5003640" y="1700280"/>
            <a:ext cx="3168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XFORD  AND  CAM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ford  University is the oldest and most famous in Britain. It was founded in the 12-th century  and is a collection of colleges with more then 12,000 students and 1,000 teac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is the second oldest. It was founded in the 13-th century and has 27 colle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have a reputation of privileged schools. Many prominent people studied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utorial system is one of the ways in which these universities differ from all other. Every student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plans hi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алла 3 008-2"/>
          <p:cNvPicPr/>
          <p:nvPr/>
        </p:nvPicPr>
        <p:blipFill>
          <a:blip r:embed="rId1"/>
          <a:stretch/>
        </p:blipFill>
        <p:spPr>
          <a:xfrm>
            <a:off x="1763640" y="1197000"/>
            <a:ext cx="5688000" cy="260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RDS  OF  WISD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 o r   y o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m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 learn while they t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is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is the best of all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makes per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to write well, or not to write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is the dress of thou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before you sp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 time is never fou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B140003"/>
          <p:cNvPicPr/>
          <p:nvPr/>
        </p:nvPicPr>
        <p:blipFill>
          <a:blip r:embed="rId1"/>
          <a:stretch/>
        </p:blipFill>
        <p:spPr>
          <a:xfrm>
            <a:off x="5148360" y="1600200"/>
            <a:ext cx="297648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B140001"/>
          <p:cNvPicPr/>
          <p:nvPr/>
        </p:nvPicPr>
        <p:blipFill>
          <a:blip r:embed="rId2"/>
          <a:stretch/>
        </p:blipFill>
        <p:spPr>
          <a:xfrm>
            <a:off x="5148360" y="3938760"/>
            <a:ext cx="2976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RITE  ABOUT  YOUR 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914051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Q U E S T I O N 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( a s   a   p l a 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necessary to have edu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compulsory education start in Rus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does primary education l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ld were you when you started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 are you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jects do you study at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choose your sub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is the most important subject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have to wear a uni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school rules at you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ood in your school? What is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going to do after finishing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7"/>
          <p:cNvPicPr/>
          <p:nvPr/>
        </p:nvPicPr>
        <p:blipFill>
          <a:blip r:embed="rId1"/>
          <a:stretch/>
        </p:blipFill>
        <p:spPr>
          <a:xfrm>
            <a:off x="6443640" y="4408560"/>
            <a:ext cx="2494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lso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д.)подготов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i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ладш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s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тский с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ед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ще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а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сударственн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arding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тер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-boys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кола дл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ь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S00554_"/>
          <p:cNvPicPr/>
          <p:nvPr/>
        </p:nvPicPr>
        <p:blipFill>
          <a:blip r:embed="rId1"/>
          <a:stretch/>
        </p:blipFill>
        <p:spPr>
          <a:xfrm>
            <a:off x="5003640" y="1844640"/>
            <a:ext cx="3124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4024440" y="3006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4" descr="anima022"/>
          <p:cNvPicPr/>
          <p:nvPr/>
        </p:nvPicPr>
        <p:blipFill>
          <a:blip r:embed="rId1"/>
          <a:stretch/>
        </p:blipFill>
        <p:spPr>
          <a:xfrm>
            <a:off x="3244680" y="1989000"/>
            <a:ext cx="2206800" cy="2303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667640" y="6453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T.G.M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 d u c a t i o 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rings  a  child  the wor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ritish children start school at the age of  3 or 4 if there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ay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heir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choo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rs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are not compuls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re taught to sing, draw, they play different creative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 education begins at the age of 5, when children go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schoo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алла 3 007-3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алла 3 012-2"/>
          <p:cNvPicPr/>
          <p:nvPr/>
        </p:nvPicPr>
        <p:blipFill>
          <a:blip r:embed="rId2"/>
          <a:stretch/>
        </p:blipFill>
        <p:spPr>
          <a:xfrm>
            <a:off x="5003640" y="415116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 R I M A R Y   E D U C A T I 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 start primary school by the age of 5. Primary education lasts for six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ttend th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ant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5 to 7 and th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junior scho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y are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arents pay for their children to atte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ool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ll children have the right to go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tate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chools are calle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m a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oarding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ritish children attend state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nglish schools pupils have to address men teachers “Sir” and women teachers “Miss” or “Mr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алла 3 013-2"/>
          <p:cNvPicPr/>
          <p:nvPr/>
        </p:nvPicPr>
        <p:blipFill>
          <a:blip r:embed="rId1"/>
          <a:stretch/>
        </p:blipFill>
        <p:spPr>
          <a:xfrm>
            <a:off x="755640" y="1600200"/>
            <a:ext cx="3441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famou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ols in Britain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on, Harrow, Winch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ear at Eton costs 17,000 pounds. It is very old, and a lot of important people used to be students there. It i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-boys sch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 William, the Queen’s grandson, went to Eton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j0293236"/>
          <p:cNvPicPr/>
          <p:nvPr/>
        </p:nvPicPr>
        <p:blipFill>
          <a:blip r:embed="rId1"/>
          <a:stretch/>
        </p:blipFill>
        <p:spPr>
          <a:xfrm>
            <a:off x="730872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11" descr=""/>
          <p:cNvPicPr/>
          <p:nvPr/>
        </p:nvPicPr>
        <p:blipFill>
          <a:blip r:embed="rId2"/>
          <a:stretch/>
        </p:blipFill>
        <p:spPr>
          <a:xfrm>
            <a:off x="457200" y="225360"/>
            <a:ext cx="7259760" cy="13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алла 3 002-2"/>
          <p:cNvPicPr/>
          <p:nvPr/>
        </p:nvPicPr>
        <p:blipFill>
          <a:blip r:embed="rId3"/>
          <a:stretch/>
        </p:blipFill>
        <p:spPr>
          <a:xfrm>
            <a:off x="684360" y="3440160"/>
            <a:ext cx="7848360" cy="307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яз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выбор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культатив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естественно-науч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подаватель( в Оксфорде и Кембридже) закрепленный за студ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нтия ( одежда английских студентов и професс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03166_"/>
          <p:cNvPicPr/>
          <p:nvPr/>
        </p:nvPicPr>
        <p:blipFill>
          <a:blip r:embed="rId1"/>
          <a:stretch/>
        </p:blipFill>
        <p:spPr>
          <a:xfrm>
            <a:off x="4932360" y="206064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97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557360"/>
            <a:ext cx="3959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six years of primary education children take exams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s and go to a secondary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study compulsory (core) su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(information technolo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us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r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foreig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cience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rt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(physical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алла 3 007-2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08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алла 3 013-4"/>
          <p:cNvPicPr/>
          <p:nvPr/>
        </p:nvPicPr>
        <p:blipFill>
          <a:blip r:embed="rId2"/>
          <a:stretch/>
        </p:blipFill>
        <p:spPr>
          <a:xfrm>
            <a:off x="468360" y="4076640"/>
            <a:ext cx="4032360" cy="238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UNI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t of people think that school uniforms in England are for the children from rich families at the country’s best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n’t always true.In fact, uniforms first came to schools for poor because they were cheap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 a lot of British  schools have uniforms. Usually  they differ only in colours but include a blazer, a pullover, a shirt (a blouse), trousers (a skirt), tights or socks, shoes and boots, a scarf and gloves of a certain colour, a cap or a hat. School badge is on a cap and on a blazer’s poc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the most important elements of the uniform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 school 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алла 3 004-3"/>
          <p:cNvPicPr/>
          <p:nvPr/>
        </p:nvPicPr>
        <p:blipFill>
          <a:blip r:embed="rId1"/>
          <a:stretch/>
        </p:blipFill>
        <p:spPr>
          <a:xfrm>
            <a:off x="324000" y="2305080"/>
            <a:ext cx="403200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ti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нгличан есть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To be true to your school ti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верным своему школьному галсту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значает, что и через много лет выпускники сохраняют  верность своим школьным друзьям               и всегда готовы помоч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пускников престижных частных школ такой галстук является не только символом дружбы и взаимопомощи, но и пропуском в общество самых известных и влиятельных люд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0293236"/>
          <p:cNvPicPr/>
          <p:nvPr/>
        </p:nvPicPr>
        <p:blipFill>
          <a:blip r:embed="rId1"/>
          <a:stretch/>
        </p:blipFill>
        <p:spPr>
          <a:xfrm>
            <a:off x="716436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8" descr=""/>
          <p:cNvPicPr/>
          <p:nvPr/>
        </p:nvPicPr>
        <p:blipFill>
          <a:blip r:embed="rId2"/>
          <a:stretch/>
        </p:blipFill>
        <p:spPr>
          <a:xfrm>
            <a:off x="457200" y="255600"/>
            <a:ext cx="7120080" cy="135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алла 3 007-2"/>
          <p:cNvPicPr/>
          <p:nvPr/>
        </p:nvPicPr>
        <p:blipFill>
          <a:blip r:embed="rId3"/>
          <a:stretch/>
        </p:blipFill>
        <p:spPr>
          <a:xfrm>
            <a:off x="900000" y="3933720"/>
            <a:ext cx="7280280" cy="240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7:43:13Z</dcterms:created>
  <dc:creator>VIMPELCOM</dc:creator>
  <dc:description/>
  <dc:language>en-US</dc:language>
  <cp:lastModifiedBy>Юрий</cp:lastModifiedBy>
  <dcterms:modified xsi:type="dcterms:W3CDTF">2013-02-18T08:04:13Z</dcterms:modified>
  <cp:revision>45</cp:revision>
  <dc:subject/>
  <dc:title>Слайд 1</dc:title>
</cp:coreProperties>
</file>