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2D6-0EA9-4791-BCB7-07AB89F4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658D-71EC-46BF-910C-2D02B5EB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32C-1F5B-4E84-BEFD-93A967C9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C550-86E8-4474-A1E1-B686158B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F546-88E0-4D31-A5E4-AF8C449C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622-0BC3-4655-9F05-CFE6983D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8CFC-FA93-415A-9457-609FE143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3CB-0B35-47B7-ADEA-861EDA94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2C6-7995-4DC6-AB80-E6769670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3D1-7C88-446A-8D2D-AFAFA555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4C1-5AD6-4AE2-9629-8BA7CE4F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E5B-4E4F-44A3-AECC-19835FF9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5ab"/>
            </a:gs>
            <a:gs pos="50000">
              <a:srgbClr val="ffffcc"/>
            </a:gs>
            <a:gs pos="100000">
              <a:srgbClr val="ffd5a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A42E-4A1C-445D-8AF9-7209489ED3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arkov3.narod.ru/" TargetMode="External"/><Relationship Id="rId2" Type="http://schemas.openxmlformats.org/officeDocument/2006/relationships/hyperlink" Target="http://supervektor.narod.ru/galereya.htm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7898E6F"/>
          <p:cNvPicPr/>
          <p:nvPr/>
        </p:nvPicPr>
        <p:blipFill>
          <a:blip r:embed="rId1"/>
          <a:srcRect l="26677" t="0" r="0" b="20471"/>
          <a:stretch/>
        </p:blipFill>
        <p:spPr>
          <a:xfrm rot="20449800">
            <a:off x="6305040" y="439200"/>
            <a:ext cx="1943280" cy="29196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sp>
        <p:nvSpPr>
          <p:cNvPr id="42" name="Rectangle 4"/>
          <p:cNvSpPr/>
          <p:nvPr/>
        </p:nvSpPr>
        <p:spPr>
          <a:xfrm>
            <a:off x="324000" y="2071800"/>
            <a:ext cx="8351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100% з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без очков и линз  за 7 минут в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367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эвид К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84360" y="4071960"/>
            <a:ext cx="799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ьная фитнес-программа для глаз, рекомендуемая пользователям компьютера и всем, кто хочет использовать свой зрительный потенциал на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348000" y="4076640"/>
            <a:ext cx="554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Дуэт Принцессы и Трубадура.mp3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4"/>
          <p:cNvSpPr/>
          <p:nvPr/>
        </p:nvSpPr>
        <p:spPr>
          <a:xfrm>
            <a:off x="4140360" y="1052640"/>
            <a:ext cx="72720" cy="3960720"/>
          </a:xfrm>
          <a:prstGeom prst="line">
            <a:avLst/>
          </a:prstGeom>
          <a:ln w="5176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1258920" y="549360"/>
            <a:ext cx="0" cy="1152360"/>
          </a:xfrm>
          <a:prstGeom prst="line">
            <a:avLst/>
          </a:prstGeom>
          <a:ln w="19044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268360" y="1413000"/>
            <a:ext cx="0" cy="1655640"/>
          </a:xfrm>
          <a:prstGeom prst="line">
            <a:avLst/>
          </a:prstGeom>
          <a:ln w="25416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3851280" y="2276640"/>
            <a:ext cx="0" cy="1871640"/>
          </a:xfrm>
          <a:prstGeom prst="line">
            <a:avLst/>
          </a:prstGeom>
          <a:ln w="31752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5292720" y="3284640"/>
            <a:ext cx="0" cy="2160360"/>
          </a:xfrm>
          <a:prstGeom prst="line">
            <a:avLst/>
          </a:prstGeom>
          <a:ln w="3808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H="1">
            <a:off x="7164000" y="3645000"/>
            <a:ext cx="71640" cy="3024000"/>
          </a:xfrm>
          <a:prstGeom prst="line">
            <a:avLst/>
          </a:prstGeom>
          <a:ln w="44460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"/>
          <p:cNvSpPr/>
          <p:nvPr/>
        </p:nvSpPr>
        <p:spPr>
          <a:xfrm>
            <a:off x="1258920" y="549360"/>
            <a:ext cx="0" cy="1152360"/>
          </a:xfrm>
          <a:prstGeom prst="line">
            <a:avLst/>
          </a:prstGeom>
          <a:ln w="19044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2268360" y="1413000"/>
            <a:ext cx="0" cy="1655640"/>
          </a:xfrm>
          <a:prstGeom prst="line">
            <a:avLst/>
          </a:prstGeom>
          <a:ln w="25416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3851280" y="2276640"/>
            <a:ext cx="0" cy="1871640"/>
          </a:xfrm>
          <a:prstGeom prst="line">
            <a:avLst/>
          </a:prstGeom>
          <a:ln w="31752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5292720" y="3284640"/>
            <a:ext cx="0" cy="2160360"/>
          </a:xfrm>
          <a:prstGeom prst="line">
            <a:avLst/>
          </a:prstGeom>
          <a:ln w="3808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H="1">
            <a:off x="7164000" y="3645000"/>
            <a:ext cx="71640" cy="3024000"/>
          </a:xfrm>
          <a:prstGeom prst="line">
            <a:avLst/>
          </a:prstGeom>
          <a:ln w="44460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55640" y="69228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Берегите своё з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Делайте чаще упражнения для глаз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j0233064"/>
          <p:cNvPicPr/>
          <p:nvPr/>
        </p:nvPicPr>
        <p:blipFill>
          <a:blip r:embed="rId1"/>
          <a:stretch/>
        </p:blipFill>
        <p:spPr>
          <a:xfrm>
            <a:off x="2050920" y="2565360"/>
            <a:ext cx="4537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692360" y="6922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В работе использованы материалы сайтов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195640" y="13406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kov3.narod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124000" y="2059920"/>
            <a:ext cx="42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upervektor.narod.ru/galereya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за компом"/>
          <p:cNvPicPr/>
          <p:nvPr/>
        </p:nvPicPr>
        <p:blipFill>
          <a:blip r:embed="rId3"/>
          <a:stretch/>
        </p:blipFill>
        <p:spPr>
          <a:xfrm>
            <a:off x="2843280" y="2997360"/>
            <a:ext cx="2592360" cy="21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 flipV="1">
            <a:off x="7451640" y="1125000"/>
            <a:ext cx="0" cy="525636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H="1" flipV="1">
            <a:off x="1402920" y="333360"/>
            <a:ext cx="730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 flipV="1">
            <a:off x="1979640" y="333000"/>
            <a:ext cx="0" cy="525636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 flipH="1" flipV="1">
            <a:off x="7667280" y="2997360"/>
            <a:ext cx="730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0"/>
          <p:cNvSpPr/>
          <p:nvPr/>
        </p:nvSpPr>
        <p:spPr>
          <a:xfrm flipV="1">
            <a:off x="4140360" y="475920"/>
            <a:ext cx="0" cy="4869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924360" y="3333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4"/>
          <p:cNvSpPr/>
          <p:nvPr/>
        </p:nvSpPr>
        <p:spPr>
          <a:xfrm flipV="1">
            <a:off x="4211640" y="189000"/>
            <a:ext cx="0" cy="642600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7"/>
          <p:cNvSpPr/>
          <p:nvPr/>
        </p:nvSpPr>
        <p:spPr>
          <a:xfrm flipV="1">
            <a:off x="4356000" y="2060280"/>
            <a:ext cx="0" cy="1584360"/>
          </a:xfrm>
          <a:prstGeom prst="line">
            <a:avLst/>
          </a:prstGeom>
          <a:ln w="244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4500720" y="1268280"/>
            <a:ext cx="0" cy="37432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4"/>
          <p:cNvSpPr/>
          <p:nvPr/>
        </p:nvSpPr>
        <p:spPr>
          <a:xfrm flipV="1">
            <a:off x="4067280" y="1699920"/>
            <a:ext cx="7128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7380360" y="1844280"/>
            <a:ext cx="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0.37813 -3.33333E-006 E">
                                      <p:cBhvr>
                                        <p:cTn id="5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-0.63785 0.00533 E">
                                      <p:cBhvr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4"/>
          <p:cNvSpPr/>
          <p:nvPr/>
        </p:nvSpPr>
        <p:spPr>
          <a:xfrm flipV="1">
            <a:off x="4356000" y="3068280"/>
            <a:ext cx="7164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H="1">
            <a:off x="4427640" y="404640"/>
            <a:ext cx="712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00399 -0.43565 E">
                                      <p:cBhvr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0.00416 0.43079 E">
                                      <p:cBhvr>
                                        <p:cTn id="8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7"/>
          <p:cNvSpPr/>
          <p:nvPr/>
        </p:nvSpPr>
        <p:spPr>
          <a:xfrm flipV="1">
            <a:off x="4427640" y="2060280"/>
            <a:ext cx="0" cy="331164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4427640" y="1915920"/>
            <a:ext cx="0" cy="338436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5"/>
          <p:cNvSpPr/>
          <p:nvPr/>
        </p:nvSpPr>
        <p:spPr>
          <a:xfrm flipV="1">
            <a:off x="2556000" y="3284640"/>
            <a:ext cx="4174920" cy="7128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H="1">
            <a:off x="2700000" y="3357720"/>
            <a:ext cx="4032360" cy="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8:12:36Z</dcterms:created>
  <dc:creator>Любовь</dc:creator>
  <dc:description/>
  <dc:language>en-US</dc:language>
  <cp:lastModifiedBy>1</cp:lastModifiedBy>
  <dcterms:modified xsi:type="dcterms:W3CDTF">2013-02-19T16:23:00Z</dcterms:modified>
  <cp:revision>13</cp:revision>
  <dc:subject/>
  <dc:title>Слайд 1</dc:title>
</cp:coreProperties>
</file>