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99F-DA2E-48AC-8A68-58EA956E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3AA-74BA-4B1C-BDE7-6D85668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B56-7C6F-4BC5-9402-FC82A16F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96A-AA5D-4F7D-9657-6122D68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038-60BF-4031-B943-04C59988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8FDC-3A2E-47AE-9221-FBA0556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465-95A9-4DDF-80B7-5F60CBC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DBA6-E224-4E10-BDC2-B40ECEE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12A-0F33-4FA3-93F8-812B33D6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5007-95FE-48FA-93C1-9592163C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A66E-5FE3-466A-8CC2-ACE5F97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0FC-A761-4EEF-94D6-AE427580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95E8-FD2D-4D47-883B-678027C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5E7-B167-4ADF-B877-ACD2649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D729-4F2F-477E-AC40-E12F561E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FA56-14EB-427B-8FEF-28CC5AAB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2FE-B828-41F0-8672-D868DC48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571-5C93-459E-853D-38DFBD4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47F-9051-4779-B040-F32785E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2F6-1D2E-40B9-BA7E-F039660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7E3-9F2A-49DD-939E-0A9AA744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D8D-E21B-40FA-B479-53A239A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6EB-467B-4FF8-8F24-75DF8E2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E59-A03F-4A80-96BD-0723A86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E86-C2FB-4D4D-A85E-EAD8B54C73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42F-5259-4DD1-996A-395B1FE65C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Твори добро,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и ты растворишь зло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Евгений Андреевич Пермяк</a:t>
            </a:r>
            <a:br>
              <a:rPr sz="6000"/>
            </a:br>
            <a:br>
              <a:rPr sz="7200"/>
            </a:b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«Надёжный человек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ermyak"/>
          <p:cNvPicPr/>
          <p:nvPr/>
        </p:nvPicPr>
        <p:blipFill>
          <a:blip r:embed="rId1"/>
          <a:stretch/>
        </p:blipFill>
        <p:spPr>
          <a:xfrm>
            <a:off x="468360" y="333360"/>
            <a:ext cx="3701880" cy="612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NadcheO1"/>
          <p:cNvPicPr/>
          <p:nvPr/>
        </p:nvPicPr>
        <p:blipFill>
          <a:blip r:embed="rId2"/>
          <a:stretch/>
        </p:blipFill>
        <p:spPr>
          <a:xfrm>
            <a:off x="4572000" y="549360"/>
            <a:ext cx="361476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694476"/>
          <p:cNvPicPr/>
          <p:nvPr/>
        </p:nvPicPr>
        <p:blipFill>
          <a:blip r:embed="rId1"/>
          <a:stretch/>
        </p:blipFill>
        <p:spPr>
          <a:xfrm>
            <a:off x="1547640" y="0"/>
            <a:ext cx="183528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_55f49_40b321c6_M"/>
          <p:cNvPicPr/>
          <p:nvPr/>
        </p:nvPicPr>
        <p:blipFill>
          <a:blip r:embed="rId2"/>
          <a:stretch/>
        </p:blipFill>
        <p:spPr>
          <a:xfrm>
            <a:off x="5292720" y="260280"/>
            <a:ext cx="1606680" cy="20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413412"/>
          <p:cNvPicPr/>
          <p:nvPr/>
        </p:nvPicPr>
        <p:blipFill>
          <a:blip r:embed="rId3"/>
          <a:stretch/>
        </p:blipFill>
        <p:spPr>
          <a:xfrm>
            <a:off x="7137360" y="3357720"/>
            <a:ext cx="2006640" cy="32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000196814"/>
          <p:cNvPicPr/>
          <p:nvPr/>
        </p:nvPicPr>
        <p:blipFill>
          <a:blip r:embed="rId4"/>
          <a:stretch/>
        </p:blipFill>
        <p:spPr>
          <a:xfrm>
            <a:off x="2411280" y="314172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36882"/>
          <p:cNvPicPr/>
          <p:nvPr/>
        </p:nvPicPr>
        <p:blipFill>
          <a:blip r:embed="rId5"/>
          <a:stretch/>
        </p:blipFill>
        <p:spPr>
          <a:xfrm>
            <a:off x="6948360" y="0"/>
            <a:ext cx="1865520" cy="30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avcvrO1"/>
          <p:cNvPicPr/>
          <p:nvPr/>
        </p:nvPicPr>
        <p:blipFill>
          <a:blip r:embed="rId6"/>
          <a:stretch/>
        </p:blipFill>
        <p:spPr>
          <a:xfrm>
            <a:off x="0" y="0"/>
            <a:ext cx="142884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260583453"/>
          <p:cNvPicPr/>
          <p:nvPr/>
        </p:nvPicPr>
        <p:blipFill>
          <a:blip r:embed="rId7"/>
          <a:stretch/>
        </p:blipFill>
        <p:spPr>
          <a:xfrm>
            <a:off x="3492360" y="0"/>
            <a:ext cx="1866960" cy="2381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514853"/>
          <p:cNvPicPr/>
          <p:nvPr/>
        </p:nvPicPr>
        <p:blipFill>
          <a:blip r:embed="rId8"/>
          <a:stretch/>
        </p:blipFill>
        <p:spPr>
          <a:xfrm>
            <a:off x="4859280" y="3213000"/>
            <a:ext cx="189864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640753"/>
          <p:cNvPicPr/>
          <p:nvPr/>
        </p:nvPicPr>
        <p:blipFill>
          <a:blip r:embed="rId9"/>
          <a:stretch/>
        </p:blipFill>
        <p:spPr>
          <a:xfrm>
            <a:off x="468360" y="3284640"/>
            <a:ext cx="1739880" cy="292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107172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500040"/>
            <a:ext cx="85406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ётчик-испытател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тот, кто производит проверку, испытание самолё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ворат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быть больным, переносить какую- нибудь  болезн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ойчивый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– упорный, твёрдый в достижении чего-нибуд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прягатьс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(в сан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ружба – главное чудо всег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 открытий для нас таящ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любая беда не бе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сли рядом друзья настоящ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press"/>
          <p:cNvPicPr/>
          <p:nvPr/>
        </p:nvPicPr>
        <p:blipFill>
          <a:blip r:embed="rId1"/>
          <a:stretch/>
        </p:blipFill>
        <p:spPr>
          <a:xfrm>
            <a:off x="539640" y="189000"/>
            <a:ext cx="2008440" cy="15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ostluk09"/>
          <p:cNvPicPr/>
          <p:nvPr/>
        </p:nvPicPr>
        <p:blipFill>
          <a:blip r:embed="rId2"/>
          <a:stretch/>
        </p:blipFill>
        <p:spPr>
          <a:xfrm rot="19837200">
            <a:off x="826920" y="4076280"/>
            <a:ext cx="1567080" cy="233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wwwpeoplemd"/>
          <p:cNvPicPr/>
          <p:nvPr/>
        </p:nvPicPr>
        <p:blipFill>
          <a:blip r:embed="rId3"/>
          <a:stretch/>
        </p:blipFill>
        <p:spPr>
          <a:xfrm rot="1833000">
            <a:off x="6372000" y="4005360"/>
            <a:ext cx="2247840" cy="244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6_tattys"/>
          <p:cNvPicPr/>
          <p:nvPr/>
        </p:nvPicPr>
        <p:blipFill>
          <a:blip r:embed="rId4"/>
          <a:stretch/>
        </p:blipFill>
        <p:spPr>
          <a:xfrm>
            <a:off x="7020000" y="189000"/>
            <a:ext cx="180180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125280"/>
            <a:ext cx="8510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680" y="357120"/>
            <a:ext cx="8540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за сотрудничество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Вы настоящ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ники и умниц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21:06:45Z</dcterms:created>
  <dc:creator>user</dc:creator>
  <dc:description/>
  <dc:language>en-US</dc:language>
  <cp:lastModifiedBy>Русинова Татьяна Федоровна</cp:lastModifiedBy>
  <dcterms:modified xsi:type="dcterms:W3CDTF">2013-02-24T17:09:12Z</dcterms:modified>
  <cp:revision>17</cp:revision>
  <dc:subject/>
  <dc:title>Слайд 1</dc:title>
</cp:coreProperties>
</file>