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35F-1A36-452F-8007-A4F3E461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CBA-2704-4358-8C9C-91E6D313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27A-47BB-4730-AF8E-F041135F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7DD-6C6C-44EC-9509-36C020AD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D413-CE99-454F-8D1B-C900F78E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5FBF-7C33-49D2-ADE8-E2333F48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3302-11BA-4DB0-ADAC-DC40935E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0A6B-FA4B-47B4-9777-EF331CD5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1605-FFF7-4DBF-B554-0D731AAE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B2EE-01D0-4633-B17F-ACC589AF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96ED-1D52-461E-A352-583CB68A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C17-E1F5-490F-A4FE-2AE72542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CCF6-9258-4572-960F-DC9F337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D307-9560-4D4C-8092-6B24248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54BB-A1D3-48CD-AE1B-A70367C4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829A-1006-4265-9D30-940375DF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C6AE-20D1-4819-8977-7F88FF79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0F4-5723-4789-8093-A265FB7C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AEE-89F1-4A81-A76F-FCD2B87C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B31-DA6C-4E27-AC47-1331958D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8B8-21A5-4682-8330-CDA0F705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76B-AEB8-48DB-8ED9-2FEEEDD3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9B2-F69F-42FD-97E6-BD105EDA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BE1-01A3-4C0A-AADC-2D62BEF3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BC0A-9CA9-4A83-AC0E-7636C19FE7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E55E-7848-4D57-B4CE-DFC1C2C000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Твори добро, 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и ты растворишь зло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Евгений Андреевич Пермяк</a:t>
            </a:r>
            <a:br>
              <a:rPr sz="6000"/>
            </a:br>
            <a:br>
              <a:rPr sz="7200"/>
            </a:b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«Надёжный человек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ermyak"/>
          <p:cNvPicPr/>
          <p:nvPr/>
        </p:nvPicPr>
        <p:blipFill>
          <a:blip r:embed="rId1"/>
          <a:stretch/>
        </p:blipFill>
        <p:spPr>
          <a:xfrm>
            <a:off x="468360" y="333360"/>
            <a:ext cx="3701880" cy="612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NadcheO1"/>
          <p:cNvPicPr/>
          <p:nvPr/>
        </p:nvPicPr>
        <p:blipFill>
          <a:blip r:embed="rId2"/>
          <a:stretch/>
        </p:blipFill>
        <p:spPr>
          <a:xfrm>
            <a:off x="4572000" y="549360"/>
            <a:ext cx="3614760" cy="57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694476"/>
          <p:cNvPicPr/>
          <p:nvPr/>
        </p:nvPicPr>
        <p:blipFill>
          <a:blip r:embed="rId1"/>
          <a:stretch/>
        </p:blipFill>
        <p:spPr>
          <a:xfrm>
            <a:off x="1547640" y="0"/>
            <a:ext cx="1835280" cy="285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_55f49_40b321c6_M"/>
          <p:cNvPicPr/>
          <p:nvPr/>
        </p:nvPicPr>
        <p:blipFill>
          <a:blip r:embed="rId2"/>
          <a:stretch/>
        </p:blipFill>
        <p:spPr>
          <a:xfrm>
            <a:off x="5292720" y="260280"/>
            <a:ext cx="1606680" cy="20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413412"/>
          <p:cNvPicPr/>
          <p:nvPr/>
        </p:nvPicPr>
        <p:blipFill>
          <a:blip r:embed="rId3"/>
          <a:stretch/>
        </p:blipFill>
        <p:spPr>
          <a:xfrm>
            <a:off x="7137360" y="3357720"/>
            <a:ext cx="2006640" cy="32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1000196814"/>
          <p:cNvPicPr/>
          <p:nvPr/>
        </p:nvPicPr>
        <p:blipFill>
          <a:blip r:embed="rId4"/>
          <a:stretch/>
        </p:blipFill>
        <p:spPr>
          <a:xfrm>
            <a:off x="2411280" y="3141720"/>
            <a:ext cx="1905120" cy="300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36882"/>
          <p:cNvPicPr/>
          <p:nvPr/>
        </p:nvPicPr>
        <p:blipFill>
          <a:blip r:embed="rId5"/>
          <a:stretch/>
        </p:blipFill>
        <p:spPr>
          <a:xfrm>
            <a:off x="6948360" y="0"/>
            <a:ext cx="1865520" cy="309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NavcvrO1"/>
          <p:cNvPicPr/>
          <p:nvPr/>
        </p:nvPicPr>
        <p:blipFill>
          <a:blip r:embed="rId6"/>
          <a:stretch/>
        </p:blipFill>
        <p:spPr>
          <a:xfrm>
            <a:off x="0" y="0"/>
            <a:ext cx="142884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1260583453"/>
          <p:cNvPicPr/>
          <p:nvPr/>
        </p:nvPicPr>
        <p:blipFill>
          <a:blip r:embed="rId7"/>
          <a:stretch/>
        </p:blipFill>
        <p:spPr>
          <a:xfrm>
            <a:off x="3492360" y="0"/>
            <a:ext cx="1866960" cy="2381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514853"/>
          <p:cNvPicPr/>
          <p:nvPr/>
        </p:nvPicPr>
        <p:blipFill>
          <a:blip r:embed="rId8"/>
          <a:stretch/>
        </p:blipFill>
        <p:spPr>
          <a:xfrm>
            <a:off x="4859280" y="3213000"/>
            <a:ext cx="189864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640753"/>
          <p:cNvPicPr/>
          <p:nvPr/>
        </p:nvPicPr>
        <p:blipFill>
          <a:blip r:embed="rId9"/>
          <a:stretch/>
        </p:blipFill>
        <p:spPr>
          <a:xfrm>
            <a:off x="468360" y="3284640"/>
            <a:ext cx="1739880" cy="292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107172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1680" y="500040"/>
            <a:ext cx="85406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ётчик-испытател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тот, кто производит проверку, испытание самолё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ворат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быть больным, переносить какую- нибудь  болезн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стойчивый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– упорный, твёрдый в достижении чего-нибуд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прягатьс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(в сани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ружба – главное чудо всег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 открытий для нас таяще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 любая беда не бе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Если рядом друзья настоящ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press"/>
          <p:cNvPicPr/>
          <p:nvPr/>
        </p:nvPicPr>
        <p:blipFill>
          <a:blip r:embed="rId1"/>
          <a:stretch/>
        </p:blipFill>
        <p:spPr>
          <a:xfrm>
            <a:off x="539640" y="189000"/>
            <a:ext cx="2008440" cy="15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ostluk09"/>
          <p:cNvPicPr/>
          <p:nvPr/>
        </p:nvPicPr>
        <p:blipFill>
          <a:blip r:embed="rId2"/>
          <a:stretch/>
        </p:blipFill>
        <p:spPr>
          <a:xfrm rot="19837200">
            <a:off x="826920" y="4076280"/>
            <a:ext cx="1567080" cy="233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wwwpeoplemd"/>
          <p:cNvPicPr/>
          <p:nvPr/>
        </p:nvPicPr>
        <p:blipFill>
          <a:blip r:embed="rId3"/>
          <a:stretch/>
        </p:blipFill>
        <p:spPr>
          <a:xfrm rot="1833000">
            <a:off x="6372000" y="4005360"/>
            <a:ext cx="2247840" cy="244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6_tattys"/>
          <p:cNvPicPr/>
          <p:nvPr/>
        </p:nvPicPr>
        <p:blipFill>
          <a:blip r:embed="rId4"/>
          <a:stretch/>
        </p:blipFill>
        <p:spPr>
          <a:xfrm>
            <a:off x="7020000" y="189000"/>
            <a:ext cx="180180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-125280"/>
            <a:ext cx="8510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1680" y="357120"/>
            <a:ext cx="8540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за сотрудничество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Вы настоящ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мники и умниц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21:06:45Z</dcterms:created>
  <dc:creator>user</dc:creator>
  <dc:description/>
  <dc:language>en-US</dc:language>
  <cp:lastModifiedBy>Русинова Татьяна Федоровна</cp:lastModifiedBy>
  <dcterms:modified xsi:type="dcterms:W3CDTF">2013-02-24T17:09:12Z</dcterms:modified>
  <cp:revision>17</cp:revision>
  <dc:subject/>
  <dc:title>Слайд 1</dc:title>
</cp:coreProperties>
</file>