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336-69E7-45B4-8E2C-B3E12B8D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412-F565-4DFA-96CB-B511BDE7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B89-DBDD-4C42-8B88-8CA42E69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E63-1297-4934-9882-FA332161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B65E-6262-4900-BB18-46A69D21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311F-E5F6-4DAD-870C-722150C6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0AB0-054E-49CD-9E89-DB6078C4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B702-1E9A-4FB0-838B-BC9E0845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B910-7431-4459-98A4-F266576D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EAD1-D897-4842-BC0F-777B50C3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70E8-618C-4111-BAFB-F11E6C06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614-9152-4654-969D-5EFE9109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361D-CC9A-49F2-8E9D-12D4A2EC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A55F-7473-46CF-B42F-4D1D97C0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FFF4-88DB-496F-96B5-3F813DBC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7734-8E06-4FA5-91A5-625EBB0F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8888-6B43-4729-B8A0-EC92AEEA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E25-8A09-4F2C-AF6D-58F4F6E6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482-89BD-4CBD-8416-67E2857C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D90-E082-4494-951E-BE9AF11A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690-9805-4148-94B9-FC75911B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9DD9-857B-4FB5-899F-D89CF8DD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BC3-5770-426D-A1AF-2BE8C1AE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327-5B0A-483F-BACB-6A6CE297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7165-B0C3-4E8A-A3B1-8C5C51F6AE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151E-611E-4039-A4A1-1621116AB5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Твори добро, </a:t>
            </a: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и ты растворишь зло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361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840" y="64260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Евгений Андреевич Пермяк</a:t>
            </a:r>
            <a:br>
              <a:rPr sz="6000"/>
            </a:br>
            <a:br>
              <a:rPr sz="7200"/>
            </a:b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«Надёжный человек»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5361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Permyak"/>
          <p:cNvPicPr/>
          <p:nvPr/>
        </p:nvPicPr>
        <p:blipFill>
          <a:blip r:embed="rId1"/>
          <a:stretch/>
        </p:blipFill>
        <p:spPr>
          <a:xfrm>
            <a:off x="468360" y="333360"/>
            <a:ext cx="3701880" cy="6120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NadcheO1"/>
          <p:cNvPicPr/>
          <p:nvPr/>
        </p:nvPicPr>
        <p:blipFill>
          <a:blip r:embed="rId2"/>
          <a:stretch/>
        </p:blipFill>
        <p:spPr>
          <a:xfrm>
            <a:off x="4572000" y="549360"/>
            <a:ext cx="3614760" cy="57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694476"/>
          <p:cNvPicPr/>
          <p:nvPr/>
        </p:nvPicPr>
        <p:blipFill>
          <a:blip r:embed="rId1"/>
          <a:stretch/>
        </p:blipFill>
        <p:spPr>
          <a:xfrm>
            <a:off x="1547640" y="0"/>
            <a:ext cx="1835280" cy="2852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_55f49_40b321c6_M"/>
          <p:cNvPicPr/>
          <p:nvPr/>
        </p:nvPicPr>
        <p:blipFill>
          <a:blip r:embed="rId2"/>
          <a:stretch/>
        </p:blipFill>
        <p:spPr>
          <a:xfrm>
            <a:off x="5292720" y="260280"/>
            <a:ext cx="1606680" cy="201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413412"/>
          <p:cNvPicPr/>
          <p:nvPr/>
        </p:nvPicPr>
        <p:blipFill>
          <a:blip r:embed="rId3"/>
          <a:stretch/>
        </p:blipFill>
        <p:spPr>
          <a:xfrm>
            <a:off x="7137360" y="3357720"/>
            <a:ext cx="2006640" cy="321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1000196814"/>
          <p:cNvPicPr/>
          <p:nvPr/>
        </p:nvPicPr>
        <p:blipFill>
          <a:blip r:embed="rId4"/>
          <a:stretch/>
        </p:blipFill>
        <p:spPr>
          <a:xfrm>
            <a:off x="2411280" y="3141720"/>
            <a:ext cx="1905120" cy="300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b36882"/>
          <p:cNvPicPr/>
          <p:nvPr/>
        </p:nvPicPr>
        <p:blipFill>
          <a:blip r:embed="rId5"/>
          <a:stretch/>
        </p:blipFill>
        <p:spPr>
          <a:xfrm>
            <a:off x="6948360" y="0"/>
            <a:ext cx="1865520" cy="309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NavcvrO1"/>
          <p:cNvPicPr/>
          <p:nvPr/>
        </p:nvPicPr>
        <p:blipFill>
          <a:blip r:embed="rId6"/>
          <a:stretch/>
        </p:blipFill>
        <p:spPr>
          <a:xfrm>
            <a:off x="0" y="0"/>
            <a:ext cx="142884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1260583453"/>
          <p:cNvPicPr/>
          <p:nvPr/>
        </p:nvPicPr>
        <p:blipFill>
          <a:blip r:embed="rId7"/>
          <a:stretch/>
        </p:blipFill>
        <p:spPr>
          <a:xfrm>
            <a:off x="3492360" y="0"/>
            <a:ext cx="1866960" cy="2381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514853"/>
          <p:cNvPicPr/>
          <p:nvPr/>
        </p:nvPicPr>
        <p:blipFill>
          <a:blip r:embed="rId8"/>
          <a:stretch/>
        </p:blipFill>
        <p:spPr>
          <a:xfrm>
            <a:off x="4859280" y="3213000"/>
            <a:ext cx="1898640" cy="251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640753"/>
          <p:cNvPicPr/>
          <p:nvPr/>
        </p:nvPicPr>
        <p:blipFill>
          <a:blip r:embed="rId9"/>
          <a:stretch/>
        </p:blipFill>
        <p:spPr>
          <a:xfrm>
            <a:off x="468360" y="3284640"/>
            <a:ext cx="1739880" cy="292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-107172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1680" y="500040"/>
            <a:ext cx="85406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ётчик-испытатель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- тот, кто производит проверку, испытание самолё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Хворать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- быть больным, переносить какую- нибудь  болезн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стойчивый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– упорный, твёрдый в достижении чего-нибуд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прягаться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(в сани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ружба – главное чудо всегд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то открытий для нас таяще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 любая беда не бед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Если рядом друзья настоящ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press"/>
          <p:cNvPicPr/>
          <p:nvPr/>
        </p:nvPicPr>
        <p:blipFill>
          <a:blip r:embed="rId1"/>
          <a:stretch/>
        </p:blipFill>
        <p:spPr>
          <a:xfrm>
            <a:off x="539640" y="189000"/>
            <a:ext cx="2008440" cy="152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ostluk09"/>
          <p:cNvPicPr/>
          <p:nvPr/>
        </p:nvPicPr>
        <p:blipFill>
          <a:blip r:embed="rId2"/>
          <a:stretch/>
        </p:blipFill>
        <p:spPr>
          <a:xfrm rot="19837200">
            <a:off x="826920" y="4076280"/>
            <a:ext cx="1567080" cy="2336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wwwpeoplemd"/>
          <p:cNvPicPr/>
          <p:nvPr/>
        </p:nvPicPr>
        <p:blipFill>
          <a:blip r:embed="rId3"/>
          <a:stretch/>
        </p:blipFill>
        <p:spPr>
          <a:xfrm rot="1833000">
            <a:off x="6372000" y="4005360"/>
            <a:ext cx="2247840" cy="244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p6_tattys"/>
          <p:cNvPicPr/>
          <p:nvPr/>
        </p:nvPicPr>
        <p:blipFill>
          <a:blip r:embed="rId4"/>
          <a:stretch/>
        </p:blipFill>
        <p:spPr>
          <a:xfrm>
            <a:off x="7020000" y="189000"/>
            <a:ext cx="1801800" cy="198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-125280"/>
            <a:ext cx="8510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1680" y="357120"/>
            <a:ext cx="854064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за сотрудничество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Вы настоящ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умники и умницы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21:06:45Z</dcterms:created>
  <dc:creator>user</dc:creator>
  <dc:description/>
  <dc:language>en-US</dc:language>
  <cp:lastModifiedBy>Русинова Татьяна Федоровна</cp:lastModifiedBy>
  <dcterms:modified xsi:type="dcterms:W3CDTF">2013-02-24T17:09:12Z</dcterms:modified>
  <cp:revision>17</cp:revision>
  <dc:subject/>
  <dc:title>Слайд 1</dc:title>
</cp:coreProperties>
</file>