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9FA7C-41BC-4576-92CE-F6A80348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13E2-11E0-46BA-9F61-786C9F74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3DE0E-F367-4E1C-83AD-17830E9F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71281-58E2-465C-8EB6-E18024C4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D1D5-CBBF-4FFB-A111-255FEEE3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946B-9600-43E1-8861-189E52D5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0858-812C-4DA4-BBC7-187328EA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EFF7-68FD-4388-93C6-D67E9C24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FE81-8F04-4D05-A2CC-F99C53CF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B113-0E11-4DD3-9BE8-56DBC20A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2975-52CA-4488-8224-20A09140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23C16-523A-423C-B8EE-F18B6B0A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B70E-3C73-4BDA-BDDA-D010B324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BF70-68A9-41CA-B98D-01A674B1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ED06-83A7-4376-97DB-76730DA6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2F62-2DCF-4B21-9B34-9A409989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16D8-3D49-4489-8487-BEA041D6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C48B-378B-4A8E-BFA4-1BEA1A21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C5C1-43A0-4F52-A107-97DE4FD8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8CBF-1A27-4D08-86D2-A4D96FA5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C02C-B119-4B83-A01B-D086803A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5A5A-C1BC-4D2C-B4C8-A502F503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3490-BFE5-47C6-A3B5-32410275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39DC-9FB4-4EC4-BDD8-2ABD869D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9713-E1F0-4B7A-A6CD-8A68156307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9A77-BE99-4C38-8F9A-C0A60E3C92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5" descr="autor_img"/>
          <p:cNvPicPr/>
          <p:nvPr/>
        </p:nvPicPr>
        <p:blipFill>
          <a:blip r:embed="rId1"/>
          <a:stretch/>
        </p:blipFill>
        <p:spPr>
          <a:xfrm>
            <a:off x="1908000" y="1773360"/>
            <a:ext cx="4969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. Рождественск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Если б только люди жили вечно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это было бы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бесчеловечно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Как узнать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чего ты в жизни стоиш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Как почуять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что такое риск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В море броситься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Так не утонешь!.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а костер взойти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Так не сгоришь!.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ле распахат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том успею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рох выдумат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А для чего?!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аслаждались бы ленивой спесью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ленники бессмертья своего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ичего они бы не свершили!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икогда б не вылезли из тьмы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Может, самый главный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стимул жизни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В горькой истине, что смертны м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5" descr="рис2"/>
          <p:cNvPicPr/>
          <p:nvPr/>
        </p:nvPicPr>
        <p:blipFill>
          <a:blip r:embed="rId1"/>
          <a:stretch/>
        </p:blipFill>
        <p:spPr>
          <a:xfrm>
            <a:off x="981000" y="1600200"/>
            <a:ext cx="299088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дь такова Жизнь, суетная и скоропреходящая. Только жизнь заставляет страдать. Умереть не больн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ереть – усну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мерть – это значит конец, пок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чему же тогда мне не хочется умира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«Любовь к жизни» - это рассказ о мужественном человеке, который выстоял в таких страшных испытаниях, как одиночество, предательство друга и борьба с суровой северной природой. Самое главное - преодолел себя, свой страх, свою бол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жек Лондон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(1876 – 1916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жек Лондон (настоящее имя Джон Гриффин) родился 12 января  1876 года в Сан-Франциско в семье разорившегося фермер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8" descr="рис"/>
          <p:cNvPicPr/>
          <p:nvPr/>
        </p:nvPicPr>
        <p:blipFill>
          <a:blip r:embed="rId1"/>
          <a:stretch/>
        </p:blipFill>
        <p:spPr>
          <a:xfrm>
            <a:off x="250920" y="1557360"/>
            <a:ext cx="4335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Золотая лихорад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1896 году на Аляске были открыты залежи золо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Золотая лихорадка» захватила и Джека Лондо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12" descr="рисунок"/>
          <p:cNvPicPr/>
          <p:nvPr/>
        </p:nvPicPr>
        <p:blipFill>
          <a:blip r:embed="rId1"/>
          <a:stretch/>
        </p:blipFill>
        <p:spPr>
          <a:xfrm>
            <a:off x="468360" y="2133720"/>
            <a:ext cx="40323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сказы Джека Лондо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нувшись в Сан-Франциско, он полностью отдается писательскому труду. 1899 год становится переломным в судьбе Лондона: один за другим выходят его «Северные рассказы» среди них был и рассказ «Любовь к жизни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7" descr="Белый клык  "/>
          <p:cNvPicPr/>
          <p:nvPr/>
        </p:nvPicPr>
        <p:blipFill>
          <a:blip r:embed="rId1"/>
          <a:stretch/>
        </p:blipFill>
        <p:spPr>
          <a:xfrm>
            <a:off x="250920" y="1341360"/>
            <a:ext cx="1904760" cy="288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Любовь к жизни"/>
          <p:cNvPicPr/>
          <p:nvPr/>
        </p:nvPicPr>
        <p:blipFill>
          <a:blip r:embed="rId2"/>
          <a:stretch/>
        </p:blipFill>
        <p:spPr>
          <a:xfrm>
            <a:off x="2195640" y="4086360"/>
            <a:ext cx="1714320" cy="27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Обложка книги: Расса Кингмана «Иллюстрированная жизнь Дж. Лондона»"/>
          <p:cNvPicPr/>
          <p:nvPr/>
        </p:nvPicPr>
        <p:blipFill>
          <a:blip r:embed="rId3"/>
          <a:stretch/>
        </p:blipFill>
        <p:spPr>
          <a:xfrm>
            <a:off x="2411280" y="1052640"/>
            <a:ext cx="1905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 в Калифофорн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ом в Калифорн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ледние годы своей жизни Лондон провёл на калифорнинийском ранчо. 22 ноября 1916 года Джек Лондон скончался. За неполных 20 лет литературной деятельности Джек Лондон создал свыше 200 рассказов, 20 романов и 3 пьес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8" descr="дом В Калифорнии"/>
          <p:cNvPicPr/>
          <p:nvPr/>
        </p:nvPicPr>
        <p:blipFill>
          <a:blip r:embed="rId1"/>
          <a:stretch/>
        </p:blipFill>
        <p:spPr>
          <a:xfrm>
            <a:off x="826920" y="1773360"/>
            <a:ext cx="34578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игра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асколько человек побеждает стра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астолько он человек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Томас Корлейль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англ. писатель и историк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Любовь к  жизни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6" descr="рис1"/>
          <p:cNvPicPr/>
          <p:nvPr/>
        </p:nvPicPr>
        <p:blipFill>
          <a:blip r:embed="rId1"/>
          <a:stretch/>
        </p:blipFill>
        <p:spPr>
          <a:xfrm>
            <a:off x="2340000" y="1628640"/>
            <a:ext cx="4319640" cy="3702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530028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Билл шёл вперёд, даже не оглядываясь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кстремальная ситуац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от.лат.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tremu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« крайний») Экстремальная ситуация – ситуация, крайне напряжённая, опасная, требующая от человека наивысшего подъёма душевных и физических си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же он будет смеяться над Биллом, еслим это Билл, если эти бело-розовые кости-всё,  что осталось от Билл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9" descr="джек"/>
          <p:cNvPicPr/>
          <p:nvPr/>
        </p:nvPicPr>
        <p:blipFill>
          <a:blip r:embed="rId1"/>
          <a:stretch/>
        </p:blipFill>
        <p:spPr>
          <a:xfrm>
            <a:off x="468360" y="1628640"/>
            <a:ext cx="374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6:03:39Z</dcterms:created>
  <dc:creator>Андрей</dc:creator>
  <dc:description/>
  <dc:language>en-US</dc:language>
  <cp:lastModifiedBy>Компьютер я. Машина!</cp:lastModifiedBy>
  <dcterms:modified xsi:type="dcterms:W3CDTF">2001-12-31T19:34:38Z</dcterms:modified>
  <cp:revision>18</cp:revision>
  <dc:subject/>
  <dc:title>Джек Лондон</dc:title>
</cp:coreProperties>
</file>