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27B2-E304-4D94-9301-FB1F6512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5B63-A82D-4360-837C-FF1017DE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1902-5E14-4E0F-B9D7-2D324BD7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B472-FF00-4D63-BD87-B184DBDB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00BE-8613-44DA-AB05-6F048851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0CED-3E71-485A-BF87-146E8CD0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19BE-516A-40F6-93B0-C0B2B92E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E7B6-CB1D-4C7D-BC7C-B58BBC08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D8FC-907D-4144-AE8E-970EFBB3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C034-F60C-40B5-ACA2-3F7BA44F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E989-448E-4279-8171-D7795C2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BB63-A1DB-4BEC-881F-6C7109AA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CFB1-A4C7-4222-B091-ED5B1F44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190A-9F57-4C8A-9621-F06627B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4DF2-E88D-4CF0-800F-32B3E0C4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B84E-DA9D-4CDA-8094-35934E4F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7A88-E287-4537-8E87-4142BDBC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172D-1254-49CC-B386-5F9B117C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6FC5-5CA5-4F87-8C38-3D40743F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931D-6AC3-4500-BB94-DB07A527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0DD3-1E8F-43B8-A6EC-A2382939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8C29-78DB-43BA-A9CB-709D5AAF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BE45-B935-478A-8471-45F296E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4641-8553-4E98-A1CB-BE05B197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56D-743F-4138-B79B-4B0FD34DD5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5B66-9AEE-489C-8259-6ECDEFF767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autor_img"/>
          <p:cNvPicPr/>
          <p:nvPr/>
        </p:nvPicPr>
        <p:blipFill>
          <a:blip r:embed="rId1"/>
          <a:stretch/>
        </p:blipFill>
        <p:spPr>
          <a:xfrm>
            <a:off x="1908000" y="1773360"/>
            <a:ext cx="4969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. Рождественск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Если б только люди жили вечно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это было бы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бесчеловечно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узна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его ты в жизни стоиш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почуя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то такое риск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море броситься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утоне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 костер взойти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сгори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ле распах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том успею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рох выдум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 для чего?!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слаждались бы ленивой спесью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ленники бессмертья своего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чего они бы не свершили!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когда б не вылезли из тьмы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Может, самый главный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стимул жизн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горькой истине, что смертны 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5" descr="рис2"/>
          <p:cNvPicPr/>
          <p:nvPr/>
        </p:nvPicPr>
        <p:blipFill>
          <a:blip r:embed="rId1"/>
          <a:stretch/>
        </p:blipFill>
        <p:spPr>
          <a:xfrm>
            <a:off x="981000" y="1600200"/>
            <a:ext cx="299088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дь такова Жизнь, суетная и скоропреходящая. Только жизнь заставляет страдать. Умереть не больн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реть – усну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мерть – это значит конец, по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чему же тогда мне не хочется умира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«Любовь к жизни» - это рассказ о мужественном человеке, который выстоял в таких страшных испытаниях, как одиночество, предательство друга и борьба с суровой северной природой. Самое главное - преодолел себя, свой страх, свою бо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жек Лондон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1876 – 1916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ек Лондон (настоящее имя Джон Гриффин) родился 12 января  1876 года в Сан-Франциско в семье разорившегося ферме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рис"/>
          <p:cNvPicPr/>
          <p:nvPr/>
        </p:nvPicPr>
        <p:blipFill>
          <a:blip r:embed="rId1"/>
          <a:stretch/>
        </p:blipFill>
        <p:spPr>
          <a:xfrm>
            <a:off x="250920" y="1557360"/>
            <a:ext cx="433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Золотая лихорад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896 году на Аляске были открыты залежи золо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олотая лихорадка» захватила и Джека Лонд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12" descr="рисунок"/>
          <p:cNvPicPr/>
          <p:nvPr/>
        </p:nvPicPr>
        <p:blipFill>
          <a:blip r:embed="rId1"/>
          <a:stretch/>
        </p:blipFill>
        <p:spPr>
          <a:xfrm>
            <a:off x="468360" y="2133720"/>
            <a:ext cx="4032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ы Джека Лонд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нувшись в Сан-Франциско, он полностью отдается писательскому труду. 1899 год становится переломным в судьбе Лондона: один за другим выходят его «Северные рассказы» среди них был и рассказ «Любовь к жизни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Белый клык  "/>
          <p:cNvPicPr/>
          <p:nvPr/>
        </p:nvPicPr>
        <p:blipFill>
          <a:blip r:embed="rId1"/>
          <a:stretch/>
        </p:blipFill>
        <p:spPr>
          <a:xfrm>
            <a:off x="250920" y="1341360"/>
            <a:ext cx="1904760" cy="288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Любовь к жизни"/>
          <p:cNvPicPr/>
          <p:nvPr/>
        </p:nvPicPr>
        <p:blipFill>
          <a:blip r:embed="rId2"/>
          <a:stretch/>
        </p:blipFill>
        <p:spPr>
          <a:xfrm>
            <a:off x="2195640" y="4086360"/>
            <a:ext cx="1714320" cy="27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бложка книги: Расса Кингмана «Иллюстрированная жизнь Дж. Лондона»"/>
          <p:cNvPicPr/>
          <p:nvPr/>
        </p:nvPicPr>
        <p:blipFill>
          <a:blip r:embed="rId3"/>
          <a:stretch/>
        </p:blipFill>
        <p:spPr>
          <a:xfrm>
            <a:off x="2411280" y="1052640"/>
            <a:ext cx="1905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 в Калифофорн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ом в Калифорн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ие годы своей жизни Лондон провёл на калифорнинийском ранчо. 22 ноября 1916 года Джек Лондон скончался. За неполных 20 лет литературной деятельности Джек Лондон создал свыше 200 рассказов, 20 романов и 3 пье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дом В Калифорнии"/>
          <p:cNvPicPr/>
          <p:nvPr/>
        </p:nvPicPr>
        <p:blipFill>
          <a:blip r:embed="rId1"/>
          <a:stretch/>
        </p:blipFill>
        <p:spPr>
          <a:xfrm>
            <a:off x="826920" y="1773360"/>
            <a:ext cx="345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игра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колько человек побеждает стра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только он человек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Томас Корлейль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англ. писатель и истори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Любовь к  жизн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рис1"/>
          <p:cNvPicPr/>
          <p:nvPr/>
        </p:nvPicPr>
        <p:blipFill>
          <a:blip r:embed="rId1"/>
          <a:stretch/>
        </p:blipFill>
        <p:spPr>
          <a:xfrm>
            <a:off x="2340000" y="1628640"/>
            <a:ext cx="4319640" cy="3702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Билл шёл вперёд, даже не оглядываяс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кстремальная ситуац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от.лат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tremu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« крайний») Экстремальная ситуация – ситуация, крайне напряжённая, опасная, требующая от человека наивысшего подъёма душевных и физических си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же он будет смеяться над Биллом, еслим это Билл, если эти бело-розовые кости-всё,  что осталось от Билл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9" descr="джек"/>
          <p:cNvPicPr/>
          <p:nvPr/>
        </p:nvPicPr>
        <p:blipFill>
          <a:blip r:embed="rId1"/>
          <a:stretch/>
        </p:blipFill>
        <p:spPr>
          <a:xfrm>
            <a:off x="468360" y="1628640"/>
            <a:ext cx="374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6:03:39Z</dcterms:created>
  <dc:creator>Андрей</dc:creator>
  <dc:description/>
  <dc:language>en-US</dc:language>
  <cp:lastModifiedBy>Компьютер я. Машина!</cp:lastModifiedBy>
  <dcterms:modified xsi:type="dcterms:W3CDTF">2001-12-31T19:34:38Z</dcterms:modified>
  <cp:revision>18</cp:revision>
  <dc:subject/>
  <dc:title>Джек Лондон</dc:title>
</cp:coreProperties>
</file>