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327-3479-4DB5-93C3-23C72260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AD2-CB3D-40A6-9611-D8CBFB6A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B26-4509-4DF0-B9C4-13D17410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9E2-8CFE-4E64-9147-C763215A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C7DC-19B1-4F1F-AE50-7AFC29E9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A470-60F6-4E87-915E-DB3E646A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26A-56C5-4693-954C-15A863A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BC8B-B702-40BE-A0F6-F5936BE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190B-8C60-4567-824D-1BD85F6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0FF5-3731-49A9-954C-7C7AF25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033-B940-4C8E-856A-6D415B8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653-3271-4EFE-BEB7-704CCD6E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B1F5-1781-4D20-8528-C0CB8AC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34ED-9C70-4C4B-AE65-A3243DB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A1C5-583D-4F04-80B5-181DE658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5636-538A-4B41-99EB-1F1271D4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523F-39DE-460F-97EC-C47A9CB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E36F-DA4F-41A4-9B78-44B6F1E1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2F04-5CDF-42C8-B8E2-DF4C308C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CA2F-7803-464B-A30B-C9E60F42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8EC9-D6BB-44ED-9081-E6E84CC8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5BF8-0BDA-42C8-BE05-3CABCF13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5BB-6752-4FC5-A38F-28BF800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1815-21C6-4D45-8790-496D40CE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F98B-356E-4FA7-B939-81D6335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984A-1FFF-458C-9DC0-33CC5E7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BA4A-C42F-40EA-98B8-AA79039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F6AF-8B86-48AB-8597-85E4BEE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2F7C-A22A-4B86-8563-0D390A73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6928-89D8-4899-AD2B-54995EB6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221C2-237D-4C34-A49C-FE56B91E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852D-F741-4BD5-BF31-4CE6135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2A8B-101C-4C73-A4CD-BC79661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D03-9544-4CEE-A015-8984C29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A3A0-5F5F-4EC7-99A6-04FA7D3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820B-B941-4BB8-93A4-0BA0F015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F9F0-78CE-4309-AC58-273B7B31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1515-C138-40D5-9782-A3947AA6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42A1-570E-4DFE-B3F9-D16B62B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1F16-05E4-41D1-8DF5-0C8594BD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B381-23E3-489B-BF08-790F5709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95B1-EBB4-4454-93E8-5067136E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E86D-0ED1-4E13-A0AB-EB6CE47F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7724-5997-4CA7-8DBC-F58FE5DC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7AE-5355-462D-AF69-4588D337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CB519-7F92-41BD-9F43-B417F60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8BEC4-C7E2-495D-AC6D-C2FCC79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6E75-780F-4EFE-A131-1B3C8F1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5E6F-05D4-4643-8E88-87D29379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B74E-4F91-4DE3-954C-E7CB451C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5F09-52FF-4252-A0CC-A519801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00EC4-682F-4412-A67D-56E4BEC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3153-67B0-4AAD-8338-1EF5653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DA46-BDD4-4779-A964-9E58427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4807-0BB2-45F4-B75D-CD3D7A08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F04-698D-4783-83AF-9ED2085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70403-2E8E-49B1-AF2A-7AAA3722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2CE-79FB-46AA-A451-141E044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CFA-DC3D-43B4-9A11-C80F643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054-A224-477C-946B-3369267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3601-3C2C-4817-AF8A-5A937F1EDE4A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244B-7F11-4E3D-9C2B-1510224AD672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BDD7-0D91-43BA-B5FD-012EAE3E50D1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76D7-EB4F-4F4C-9E8A-AA8A5D493517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2AA-4722-4E91-A336-30520404F21A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5"/>
          <p:cNvSpPr/>
          <p:nvPr/>
        </p:nvSpPr>
        <p:spPr>
          <a:xfrm>
            <a:off x="1258920" y="476280"/>
            <a:ext cx="6697800" cy="6192720"/>
          </a:xfrm>
          <a:custGeom>
            <a:avLst/>
            <a:gdLst>
              <a:gd name="textAreaLeft" fmla="*/ 1528920 w 6697800"/>
              <a:gd name="textAreaRight" fmla="*/ 5168880 w 6697800"/>
              <a:gd name="textAreaTop" fmla="*/ 1413720 h 6192720"/>
              <a:gd name="textAreaBottom" fmla="*/ 47790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57120" y="2708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348000" y="37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 – (+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- (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85880" y="1143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 входит в основ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двух корне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786800" y="571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изменить значение слова на противоположно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 превратить в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леньк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сколько суффиксов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олько одна  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слова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н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вляются однокоренным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лолёд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два корн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но ли, что в приставка на –з и (-с)  перед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звонкими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ми пишется 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,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перед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глухими – 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37000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32748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98100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рно ли, что слова белый, белая, белое, белые –  являются </a:t>
            </a:r>
            <a:r>
              <a:rPr b="0" lang="ru-RU" sz="4800" spc="-1" strike="noStrike">
                <a:solidFill>
                  <a:srgbClr val="da1f28"/>
                </a:solidFill>
                <a:latin typeface="Arial"/>
              </a:rPr>
              <a:t>однокоренны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298360" y="496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042920" y="1268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виз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Если правило ты знаеш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з запинки отвечаеш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YQTAR7CAHT7S23CA9K1OVBCA0FN4O2CA90I43JCAA3S870CA57NV95CATPEYGCCAJ0RSZ3CAHMUH3CCAS7YTKHCAD3MKK1CAI53JBECAU6HDVNCABYZJ9QCASXJXMUCAHFJG7DCAWDQ70RCA70BFI3CA6PS10R"/>
          <p:cNvPicPr/>
          <p:nvPr/>
        </p:nvPicPr>
        <p:blipFill>
          <a:blip r:embed="rId1"/>
          <a:stretch/>
        </p:blipFill>
        <p:spPr>
          <a:xfrm>
            <a:off x="5940360" y="400536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55640" y="10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о ли, что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со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приставках, кроме приставок на -з ( с) и приставок  пре- и при- , пишутся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одинако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зависимо от произно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70000" y="5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8226720" y="42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39640" y="71280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но ли , что в корне слова после шипящих под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сег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ишется   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84360" y="1341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но ли, что буква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сле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шется в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корн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словах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на –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29836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ca478fc61bab81f033cd9834f430ec50"/>
          <p:cNvPicPr/>
          <p:nvPr/>
        </p:nvPicPr>
        <p:blipFill>
          <a:blip r:embed="rId1"/>
          <a:stretch/>
        </p:blipFill>
        <p:spPr>
          <a:xfrm>
            <a:off x="6300720" y="4149720"/>
            <a:ext cx="2460600" cy="2244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63640" y="63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1484280"/>
            <a:ext cx="851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; 2 + ;3+; 4 -; 5 +; 6+; 7 -; 8 +; 9+; 10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+; 12+; 13-; 14+; 15+; 16-; 17- ; 18+;19 – ;20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Рисунок16"/>
          <p:cNvPicPr/>
          <p:nvPr/>
        </p:nvPicPr>
        <p:blipFill>
          <a:blip r:embed="rId1"/>
          <a:stretch/>
        </p:blipFill>
        <p:spPr>
          <a:xfrm>
            <a:off x="0" y="-171360"/>
            <a:ext cx="3311640" cy="410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843280" y="620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РИТЕРИИ ОЦ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24000" y="393480"/>
            <a:ext cx="727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и ме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-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-15  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- 20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2222"/>
          <p:cNvPicPr/>
          <p:nvPr/>
        </p:nvPicPr>
        <p:blipFill>
          <a:blip r:embed="rId2"/>
          <a:stretch/>
        </p:blipFill>
        <p:spPr>
          <a:xfrm>
            <a:off x="67327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3333"/>
          <p:cNvPicPr/>
          <p:nvPr/>
        </p:nvPicPr>
        <p:blipFill>
          <a:blip r:embed="rId3"/>
          <a:stretch/>
        </p:blipFill>
        <p:spPr>
          <a:xfrm>
            <a:off x="6877080" y="2492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444"/>
          <p:cNvPicPr/>
          <p:nvPr/>
        </p:nvPicPr>
        <p:blipFill>
          <a:blip r:embed="rId4"/>
          <a:stretch/>
        </p:blipFill>
        <p:spPr>
          <a:xfrm>
            <a:off x="6948360" y="3429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555"/>
          <p:cNvPicPr/>
          <p:nvPr/>
        </p:nvPicPr>
        <p:blipFill>
          <a:blip r:embed="rId5"/>
          <a:stretch/>
        </p:blipFill>
        <p:spPr>
          <a:xfrm>
            <a:off x="7093080" y="436572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11430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еми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одно и то ж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главная значимая  часть сло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изменяемой частью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785880" y="114300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ужат для образования форм одного  и того же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-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это часть слова без оконч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корни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 из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й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уквы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у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лова есть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11T17:37:51Z</dcterms:modified>
  <cp:revision>44</cp:revision>
  <dc:subject/>
  <dc:title>Слайд 1</dc:title>
</cp:coreProperties>
</file>