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8B6-7A09-4C45-8BE7-844F065B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F54-68F2-4E4E-9069-19F6B9A4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0EA-8F08-49B0-9C18-52794DBA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505-4826-44FD-8F19-A5396CA4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0935-F3FF-4E18-A571-6D069083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CD02-B760-4DE4-901B-7B32E570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B7FE-5B25-4357-A833-DF43E3EA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8B03-1121-4B2D-A22C-57CED955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9F23-954E-4562-88C7-43F739A5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A8DD-5B1B-453C-B4EA-13280F6D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D283-D450-463A-8967-C8A804FE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76D-C099-42C8-A2D5-BC5A2B27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0CF9-BE4A-45D3-AC37-228FA707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39FD-08B9-4CED-AC64-6BB68355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02C8-D745-4B23-9DD6-5347B8BE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055A-B403-4338-A0D9-25C39B59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4BD6-3AFC-4942-ABC6-90E53E0E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5AD3-FD65-4F72-B3DF-5107FADE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E684E-1628-47F2-8387-6438814E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37687-FAC1-42A6-B892-36984197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E27E3-7FBA-4E89-8A66-D6A9519C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DA26-17A8-4A2F-9026-CEAC2473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2BE-DDC7-4B93-A409-3E609BE8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D9C6-0306-4D07-8E38-B52A99F6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F285-66E7-43AD-9E63-397CDB0D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EB0B-2243-4BDD-BB0F-C2227B9A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FF539-21BC-4F9C-B4C3-D2D996D2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6BF8-E9C6-45FD-8C4A-2AA72241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CFE0-EBA2-4EDA-8EDD-5CAE9F5E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F76B-AC58-4FD2-A0A1-9B44CD71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7D36B-40BA-4C91-B619-9465A959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DEA9-3AAA-4879-BF8B-D0E93228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367D6-E0D8-431D-9F02-108E3573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7E4-3036-47B3-AF8E-28EC6B40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B040-EB4C-49D3-92EA-078B51BC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3289C-E803-47CB-8C2F-BE4029BC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AB230-B39C-4B2E-BF6D-3C9616D3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8BC1-07DB-406D-8F19-66B8620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CCDC5-8D69-4129-B899-5BEA8105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E501F-702C-4253-91B8-8B65359B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C613D-72D3-4E22-8D7E-499EE80D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1759-F80D-421B-9F09-7189FD7B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DDDB4-1482-4F1C-8A3F-0FACAE53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0BF9E-D214-4DE4-A391-1249D4FE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7BB-DE10-4921-AE02-6DF01DB4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CB53-00AB-4C40-A69E-6D3B94D6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D7191-0CE9-4FE7-90C1-169D2531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D836D-22DA-4646-9C94-E8D0D2FA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3BF01-CBDE-4D0C-B5B3-0AD080B3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E38C3-1EE2-49EE-ADFA-FDC90C68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50A88-62DD-4C52-A172-F435DF36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C97F-FA80-4FFE-A961-F88F12FD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87650-08FD-468A-8681-B2F43696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143B0-9070-409B-9232-FCD11B50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A1DD4-04D8-4996-90D1-94CC9CF3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7FC-1F6C-4771-BA8F-14B540BF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2E85C-CE61-453A-9571-D7B845E6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456-A1E9-4280-9CC8-2367291F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AA5-B8A3-4418-8C0C-CCD73715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296-CAC1-4195-BE4B-5C1EBC01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B988-36CF-45FE-90FA-A291144E7427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820B-B139-47E0-B8A3-43CB3D1CA86B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DE96-06BC-4AEF-A2E9-8BBE5A49FB7A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38D8-CAE6-4D91-88D0-C8CF1E8E6D7B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2CC6-7FF6-4622-832C-5F8A7AB17631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5"/>
          <p:cNvSpPr/>
          <p:nvPr/>
        </p:nvSpPr>
        <p:spPr>
          <a:xfrm>
            <a:off x="1258920" y="476280"/>
            <a:ext cx="6697800" cy="6192720"/>
          </a:xfrm>
          <a:custGeom>
            <a:avLst/>
            <a:gdLst>
              <a:gd name="textAreaLeft" fmla="*/ 1528920 w 6697800"/>
              <a:gd name="textAreaRight" fmla="*/ 5168880 w 6697800"/>
              <a:gd name="textAreaTop" fmla="*/ 1413720 h 6192720"/>
              <a:gd name="textAreaBottom" fmla="*/ 477900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57120" y="270828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й диктант</a:t>
            </a:r>
            <a:r>
              <a:rPr b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348000" y="3716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 – (+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т- (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785880" y="1143000"/>
            <a:ext cx="764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кончание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е входит в основу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существую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а,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остоящие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з двух корне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7786800" y="5716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ожет изменить значение слова на противоположно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ожет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большо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едмет превратить в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аленьки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может быть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сколько суффиксов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может быть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олько одна  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слова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има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имни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являются однокоренными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лолёд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два корня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но ли, что в приставка на –з и (-с)  перед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звонкими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ласными пишется 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,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 перед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глухими – З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370000" y="42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327480" y="53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826920" y="981000"/>
            <a:ext cx="777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ерно ли, что слова белый, белая, белое, белые –  являются </a:t>
            </a:r>
            <a:r>
              <a:rPr b="0" lang="ru-RU" sz="4800" spc="-1" strike="noStrike">
                <a:solidFill>
                  <a:srgbClr val="da1f28"/>
                </a:solidFill>
                <a:latin typeface="Arial"/>
              </a:rPr>
              <a:t>однокоренным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298360" y="496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042920" y="126828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евиз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Если правило ты знаеш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без запинки отвечаеш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YQTAR7CAHT7S23CA9K1OVBCA0FN4O2CA90I43JCAA3S870CA57NV95CATPEYGCCAJ0RSZ3CAHMUH3CCAS7YTKHCAD3MKK1CAI53JBECAU6HDVNCABYZJ9QCASXJXMUCAHFJG7DCAWDQ70RCA70BFI3CA6PS10R"/>
          <p:cNvPicPr/>
          <p:nvPr/>
        </p:nvPicPr>
        <p:blipFill>
          <a:blip r:embed="rId1"/>
          <a:stretch/>
        </p:blipFill>
        <p:spPr>
          <a:xfrm>
            <a:off x="5940360" y="4005360"/>
            <a:ext cx="2519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755640" y="105264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рно ли, что 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глас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соглас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 приставках, кроме приставок на -з ( с) и приставок  пре- и при- , пишутся 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одинаков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езависимо от произношени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370000" y="5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8226720" y="42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539640" y="71280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но ли , что в корне слова после шипящих под ударени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всегд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ишется    </a:t>
            </a: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О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684360" y="134136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но ли, что буква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сле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шется в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корн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в словах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на –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298360" y="42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ca478fc61bab81f033cd9834f430ec50"/>
          <p:cNvPicPr/>
          <p:nvPr/>
        </p:nvPicPr>
        <p:blipFill>
          <a:blip r:embed="rId1"/>
          <a:stretch/>
        </p:blipFill>
        <p:spPr>
          <a:xfrm>
            <a:off x="6300720" y="4149720"/>
            <a:ext cx="2460600" cy="2244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1763640" y="639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Проверя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95280" y="1484280"/>
            <a:ext cx="851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-; 2 + ;3+; 4 -; 5 +; 6+; 7 -; 8 +; 9+; 10+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+; 12+; 13-; 14+; 15+; 16-; 17- ; 18+;19 – ;20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Рисунок16"/>
          <p:cNvPicPr/>
          <p:nvPr/>
        </p:nvPicPr>
        <p:blipFill>
          <a:blip r:embed="rId1"/>
          <a:stretch/>
        </p:blipFill>
        <p:spPr>
          <a:xfrm>
            <a:off x="0" y="-171360"/>
            <a:ext cx="3311640" cy="41050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2843280" y="62064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РИТЕРИИ ОЦ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24000" y="393480"/>
            <a:ext cx="727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и ме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-14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-15  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 - 20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2222"/>
          <p:cNvPicPr/>
          <p:nvPr/>
        </p:nvPicPr>
        <p:blipFill>
          <a:blip r:embed="rId2"/>
          <a:stretch/>
        </p:blipFill>
        <p:spPr>
          <a:xfrm>
            <a:off x="6732720" y="1557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3333"/>
          <p:cNvPicPr/>
          <p:nvPr/>
        </p:nvPicPr>
        <p:blipFill>
          <a:blip r:embed="rId3"/>
          <a:stretch/>
        </p:blipFill>
        <p:spPr>
          <a:xfrm>
            <a:off x="6877080" y="2492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4444"/>
          <p:cNvPicPr/>
          <p:nvPr/>
        </p:nvPicPr>
        <p:blipFill>
          <a:blip r:embed="rId4"/>
          <a:stretch/>
        </p:blipFill>
        <p:spPr>
          <a:xfrm>
            <a:off x="6948360" y="3429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5555"/>
          <p:cNvPicPr/>
          <p:nvPr/>
        </p:nvPicPr>
        <p:blipFill>
          <a:blip r:embed="rId5"/>
          <a:stretch/>
        </p:blipFill>
        <p:spPr>
          <a:xfrm>
            <a:off x="7093080" y="4365720"/>
            <a:ext cx="76356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214200" y="1143000"/>
            <a:ext cx="87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еми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я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одно и то ж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главная значимая  часть слов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онч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вляется изменяемой частью сл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785880" y="1143000"/>
            <a:ext cx="7643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лужат для образования форм одного  и того же сл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а-   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это часть слова без оконча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существую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корни,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остоящие из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ной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буквы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у </a:t>
            </a:r>
            <a:r>
              <a:rPr b="1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юбого</a:t>
            </a:r>
            <a:r>
              <a:rPr b="1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лова есть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кончание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3-03-11T17:37:51Z</dcterms:modified>
  <cp:revision>44</cp:revision>
  <dc:subject/>
  <dc:title>Слайд 1</dc:title>
</cp:coreProperties>
</file>