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C46-DB4F-4C4A-926F-8E02A32A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112-76A4-4185-A6F7-E2FAA201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79CD9-E7A5-4642-BE48-150E9AC2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DCB9A-805A-4920-8385-F672E7A1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36FA4-AB58-4AC5-B7BC-D5C91471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9F44A-072A-444E-BEC9-C15D3584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C4DF9-0C46-49CC-977A-6CAABCF6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1831B-BB67-41FE-8113-7DB2515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5E123-9DA5-417C-AB93-5C3BF6F6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627EB-C8A9-4E33-8F25-FE9346AC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47A03-D62E-4B9C-9262-9C8A096B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E857D-8DCD-4264-B9F7-4E6D6546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F0B-6683-4532-9FDA-829701DC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9AE44-924A-4C45-AF3E-DCD47114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1C830-19AF-467D-AE23-5F5C7959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7D795-8BA7-48A8-AA5F-776547EF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E2B1E-70D6-427D-855E-1EFBC9F6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BE887-B7C1-4C13-91FB-5A74CF8A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0EFFA-4F9C-4D60-890A-CB87A35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4D67B-45CC-4411-99DA-64634787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EE6D2-7468-4A14-841A-6DB283D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EF9BD-3C36-4E5B-95FE-BFEF6CE6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99E24-22DB-4AFF-BCDE-C9961110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785-A8EB-4ADD-85C8-51E8315C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5A5EE-20C5-4DE7-BEC5-A8BAC96E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4EA75-29B4-41A1-9778-F011D061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79A9C-31D5-4C61-9EF0-C5F18134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7DFEA-5633-41B8-955A-143B30CF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7E7AA-D131-484A-9F4A-9F33EE5C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2614-0F4F-44B5-B995-E98D657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E76E2-C780-4454-A561-108143C8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2AE92-0CAD-4CF0-B415-C05D170E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4D494-AF5E-485B-A247-FF749AA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75242-3A3A-492E-BE3B-AC1254D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E0F2-F4A3-4062-8F17-9CE00A7F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3CC90-FA43-4124-9FE9-D8888D81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B7FD8-E3C5-40AA-AB58-BF2B1EDD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21691-13CA-4487-B80D-F7F4C055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3EA6-9692-4893-9705-D22340BD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E329-2592-4A2E-9A9F-2AC9A36E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296C-5E0E-4EBC-8D69-DF9067A9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5FD5-FDFD-4F97-966E-46161E45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2DAC-577D-49FE-96BD-6D2CA46B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D7DD-E212-46A7-8265-EE665058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57F-309C-4A7B-85B8-9D55B58F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A8CA-1300-466F-8D07-AE69781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CBF8-6486-4BAC-82F7-8853A68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A8DE-1C08-4A53-83CB-1025B52C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5F78-5436-4D18-B48B-FAB0718C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346A-05C3-44F9-A032-7B0F4F44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5F3D-9D68-4F95-8173-ABFEED2D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EF3B-1856-4746-A065-62573AB7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4864-3EDE-47E5-B904-0DA80659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1DD7-D77A-4A08-9F38-544C9BFD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1E4D-9028-4B83-88DE-F980AD5A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8D3-A129-49CC-AB8E-73606B3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F93D-C851-4D18-A85A-EF47FFF9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AD938-4D79-4F95-AFFB-9B879CCB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DA7CF-A8A7-4EED-B4FC-9456C56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6343-8061-4F16-A4D4-6A4EEB8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FA77-B63C-4CC6-8356-E74C255E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81BF-638C-4962-B5B1-D190D68E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8E28-DBC3-4E79-8554-D9F270E0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6B923-7A2D-4E30-8056-DC69CCE1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5D9C-6D7D-48EC-94C0-0953EEC3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FA16-6872-47DC-A5A1-1A7E7637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63D-85A2-4996-9119-A9123E6A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A259-221E-4E85-BB4C-AE5CBB93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A7BD1-2585-4B6E-9253-02F016D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75F7-8B36-4C88-A280-527CE7C6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33902-A28B-4A12-BE68-C1C32D2F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DC7F-A87C-4F5B-A9A0-D5A9BAE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B0FE-F65D-4964-807C-B83BAA1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B965-D336-40CC-90C9-F35BC6E4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F7ED4-C306-490F-8654-D155E776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1FFF-E63C-4A0B-B310-7658DEF1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B98D4-5A4E-47A4-A68A-FDBE34AF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B6F-BA24-4C75-8A38-69010ABC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DD1B1-10C7-4BB1-8F15-1F82F2C7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E1CCD-D6AE-4188-9A79-BBF220A8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0A78-77B7-446B-9729-CD57D4D8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D734C-845B-4F64-BE60-0F5F39B7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47783-B407-4D62-866A-78DFDA73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4E374-A757-47ED-9F11-800067D1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B0661-E144-423B-9C5B-6CC60D41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97D6-3C68-46CE-9C31-801E6C54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BE7E-85DD-437B-AF3C-6479BDE9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07CE0-AEC4-4B74-9CA8-60EE638E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763-44AD-408D-9377-0BD0BE24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83F59-B2F3-4A2A-B02A-47FE10FC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05EFA-079C-43E2-9B0C-0E3D42F8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1B2FF-8F38-4322-8FC6-DBEB936B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7D590-6CAA-4490-B57A-DF0E5264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A10F9-6794-489B-A273-75281D40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010C1-D6DC-4DA0-92D5-489FC06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82F0C-43AE-47D1-B809-15415DE7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6D073-680A-41FD-97FC-C1B04FEB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96E61-910D-456E-AB98-53A24A2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F2A1E-6B2E-493B-AC1B-36246B9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94D-ADC6-4F47-8EFE-365BC02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8DBE1-67A6-4E67-95ED-4CB7C803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92A2B-CEB9-4ABD-BEF3-26BF6199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030BE-1BE1-4261-9F15-0F938008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A81E-A70F-4F51-B086-7055A8AE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D6DED-C57B-4624-9915-12E42BA0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F305-F4B6-4E78-BEE6-C43D7353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A0D8C-254B-4C41-AEDE-97A27571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6A0C-FA1B-4A85-8325-ADB11EFD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2AC17-8F9F-4395-8F18-C5171A1B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432F2-8D3D-4F13-9827-30466638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8C7-15FC-4B3A-97F8-C774EA63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57E0-B08F-42E1-8CB2-413397FE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F7F39-43BB-4117-A40A-3EDDA31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E3524-EE11-411C-B002-ADAF8AA5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42501-FAF1-4BB3-AC11-4F9E73A5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EEAF8-AB18-41BD-B985-34EC5198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8EFCE-41CB-48FD-81BB-F52BF4AE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9E67-9436-454D-AB4B-18081C3A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76762-6373-4153-8BBB-3D4ED3F9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94A55-DD11-452B-85D8-B71F0D97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DAE39-A059-4E30-8715-8F1EB3DA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547-A8F4-4782-A70D-B6ACA1A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1116B-D54F-4AB2-9137-F5074125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84B9-A645-43CA-9171-F67655C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80BCF-B648-44B4-A4B7-7766D5EE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22F0A-4A87-4E13-9299-37FC3B57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6B323-FF10-4D77-81FF-A1239EB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C27A6-272E-4C2B-817B-5159A18F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03FF7-A573-4208-B14E-2C85DE53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2334F-AB86-4DA2-BC3F-660F4196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54854-516A-4DA1-A0B3-408494C4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C8B99-9806-4D4F-804D-8B90D883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0B3079-9566-4EEF-9516-9C12570409B4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4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4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BCD5C4-122D-4893-B15D-CD1065C96542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FEABEA-A05F-42AE-BF0B-7627E55E9D01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771E19-08FF-4CB6-9CAE-FEB8D28D2CBF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1C3E01-CE8D-4435-A504-29DFC1113705}" type="slidenum">
              <a:rPr b="0" lang="ru-RU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047539-00AD-4FA7-B036-936127A1D374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8E533D-C63D-4221-92C4-384CC9B921F8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D59E07-AF2B-47A6-BE14-B05064585E5A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7F36C1-25D0-45C5-A9B5-9F9F6E3445DC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FDCEAA-0102-4D4A-AECE-5860E3B6AB8B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83C790-8A0C-4D05-9EE7-CE2459DF7226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754080" y="922320"/>
            <a:ext cx="21430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20160" tIns="50400" bIns="504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Прямая соединительная линия 4"/>
          <p:cNvSpPr/>
          <p:nvPr/>
        </p:nvSpPr>
        <p:spPr>
          <a:xfrm flipH="1">
            <a:off x="4397040" y="356472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одзаголовок 2"/>
          <p:cNvSpPr/>
          <p:nvPr/>
        </p:nvSpPr>
        <p:spPr>
          <a:xfrm>
            <a:off x="5969160" y="2351160"/>
            <a:ext cx="43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ЁМ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03280" y="1692360"/>
            <a:ext cx="37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Line 636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0" name="Rectangle 717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0" y="0"/>
          <a:ext cx="10080720" cy="7556400"/>
        </p:xfrm>
        <a:graphic>
          <a:graphicData uri="http://schemas.openxmlformats.org/drawingml/2006/table">
            <a:tbl>
              <a:tblPr/>
              <a:tblGrid>
                <a:gridCol w="1338120"/>
                <a:gridCol w="1459080"/>
                <a:gridCol w="1455840"/>
                <a:gridCol w="1457280"/>
                <a:gridCol w="1455480"/>
                <a:gridCol w="1459080"/>
                <a:gridCol w="1455840"/>
              </a:tblGrid>
              <a:tr h="75564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6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0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95440" y="0"/>
          <a:ext cx="9072360" cy="7182000"/>
        </p:xfrm>
        <a:graphic>
          <a:graphicData uri="http://schemas.openxmlformats.org/drawingml/2006/table">
            <a:tbl>
              <a:tblPr/>
              <a:tblGrid>
                <a:gridCol w="1204920"/>
                <a:gridCol w="1311120"/>
                <a:gridCol w="1311120"/>
                <a:gridCol w="1311480"/>
                <a:gridCol w="1311120"/>
                <a:gridCol w="1311480"/>
                <a:gridCol w="1311120"/>
              </a:tblGrid>
              <a:tr h="7174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3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6336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d320"/>
                </a:solidFill>
                <a:latin typeface="Arial"/>
              </a:rPr>
              <a:t>ВОДОЁ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учёные называют водоёмам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ой водоём называется озером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называют рекой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веди примеры искусственных водоёмов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 называются самые большие водоёмы на Земле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В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исток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устье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русло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чему у истока река узкая, а в устье – широкая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С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на с.15 ТПО(№30):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кажи на схеме: устье реки, исток реки, приток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кажи стрелкой направление течения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означь на схеме правый и левый берега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ЗЕРО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0" y="1355760"/>
            <a:ext cx="10080720" cy="62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РЕКА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216000" y="1403280"/>
            <a:ext cx="986472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ДЕКОРАТИВНЫЙ ПРУД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0" y="1547640"/>
            <a:ext cx="100807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НУГУШСКОЕ ВОДОХРАНИЛИЩ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0" y="1555920"/>
            <a:ext cx="10080720" cy="60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КЕАН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0" y="1116000"/>
            <a:ext cx="1008072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1"/>
          <p:cNvSpPr/>
          <p:nvPr/>
        </p:nvSpPr>
        <p:spPr>
          <a:xfrm>
            <a:off x="-81000" y="314280"/>
            <a:ext cx="10161720" cy="7105680"/>
          </a:xfrm>
          <a:prstGeom prst="pie">
            <a:avLst/>
          </a:prstGeom>
          <a:solidFill>
            <a:srgbClr val="d7ae85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"/>
          <p:cNvSpPr/>
          <p:nvPr/>
        </p:nvSpPr>
        <p:spPr>
          <a:xfrm>
            <a:off x="357120" y="208080"/>
            <a:ext cx="714600" cy="714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71720" y="684360"/>
            <a:ext cx="634680" cy="237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911160" y="922320"/>
            <a:ext cx="23832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"/>
          <p:cNvSpPr/>
          <p:nvPr/>
        </p:nvSpPr>
        <p:spPr>
          <a:xfrm flipV="1">
            <a:off x="1071720" y="205920"/>
            <a:ext cx="555480" cy="241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"/>
          <p:cNvSpPr/>
          <p:nvPr/>
        </p:nvSpPr>
        <p:spPr>
          <a:xfrm flipH="1">
            <a:off x="593640" y="922320"/>
            <a:ext cx="8280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"/>
          <p:cNvSpPr/>
          <p:nvPr/>
        </p:nvSpPr>
        <p:spPr>
          <a:xfrm flipH="1">
            <a:off x="-1800" y="763560"/>
            <a:ext cx="439560" cy="477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8"/>
          <p:cNvSpPr/>
          <p:nvPr/>
        </p:nvSpPr>
        <p:spPr>
          <a:xfrm flipH="1">
            <a:off x="-1800" y="525600"/>
            <a:ext cx="360360" cy="79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29160" bIns="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9"/>
          <p:cNvSpPr/>
          <p:nvPr/>
        </p:nvSpPr>
        <p:spPr>
          <a:xfrm flipH="1" flipV="1">
            <a:off x="-1800" y="-1800"/>
            <a:ext cx="439560" cy="37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"/>
          <p:cNvSpPr/>
          <p:nvPr/>
        </p:nvSpPr>
        <p:spPr>
          <a:xfrm flipV="1">
            <a:off x="673200" y="-1440"/>
            <a:ext cx="3240" cy="210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1"/>
          <p:cNvSpPr/>
          <p:nvPr/>
        </p:nvSpPr>
        <p:spPr>
          <a:xfrm flipV="1">
            <a:off x="911160" y="-1800"/>
            <a:ext cx="238320" cy="290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"/>
          <p:cNvSpPr/>
          <p:nvPr/>
        </p:nvSpPr>
        <p:spPr>
          <a:xfrm>
            <a:off x="0" y="1487520"/>
            <a:ext cx="8402760" cy="607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13"/>
          <p:cNvSpPr/>
          <p:nvPr/>
        </p:nvSpPr>
        <p:spPr>
          <a:xfrm>
            <a:off x="6537240" y="314280"/>
            <a:ext cx="1424160" cy="1217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174600" y="1795320"/>
            <a:ext cx="49118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ека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одный поток, текущий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ыработанном им углуб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"/>
          <p:cNvSpPr/>
          <p:nvPr/>
        </p:nvSpPr>
        <p:spPr>
          <a:xfrm flipH="1">
            <a:off x="2974680" y="5207040"/>
            <a:ext cx="111420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 rot="19620000">
            <a:off x="2610000" y="5122800"/>
            <a:ext cx="20019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Течение р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7500960" y="1398600"/>
            <a:ext cx="216000" cy="212760"/>
          </a:xfrm>
          <a:custGeom>
            <a:avLst/>
            <a:gdLst>
              <a:gd name="textAreaLeft" fmla="*/ 88920 w 216000"/>
              <a:gd name="textAreaRight" fmla="*/ 127080 w 216000"/>
              <a:gd name="textAreaTop" fmla="*/ 87480 h 212760"/>
              <a:gd name="textAreaBottom" fmla="*/ 125280 h 2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-12600" bIns="-12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7977240" y="1241280"/>
            <a:ext cx="1827000" cy="7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сток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о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9"/>
          <p:cNvSpPr/>
          <p:nvPr/>
        </p:nvSpPr>
        <p:spPr>
          <a:xfrm flipH="1">
            <a:off x="7818480" y="1477800"/>
            <a:ext cx="479520" cy="3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2976480" y="5896080"/>
            <a:ext cx="7620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Усть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место впадения реки в океан, море, озеро, р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1"/>
          <p:cNvSpPr/>
          <p:nvPr/>
        </p:nvSpPr>
        <p:spPr>
          <a:xfrm>
            <a:off x="2341440" y="6081840"/>
            <a:ext cx="317520" cy="317520"/>
          </a:xfrm>
          <a:custGeom>
            <a:avLst/>
            <a:gdLst>
              <a:gd name="textAreaLeft" fmla="*/ 130680 w 317520"/>
              <a:gd name="textAreaRight" fmla="*/ 186840 w 317520"/>
              <a:gd name="textAreaTop" fmla="*/ 130680 h 317520"/>
              <a:gd name="textAreaBottom" fmla="*/ 1868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2"/>
          <p:cNvSpPr/>
          <p:nvPr/>
        </p:nvSpPr>
        <p:spPr>
          <a:xfrm flipH="1">
            <a:off x="2655720" y="6161040"/>
            <a:ext cx="401760" cy="79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3"/>
          <p:cNvSpPr/>
          <p:nvPr/>
        </p:nvSpPr>
        <p:spPr>
          <a:xfrm rot="16860000">
            <a:off x="5191560" y="3199680"/>
            <a:ext cx="179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лавн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 flipH="1" rot="18600000">
            <a:off x="3334320" y="3794760"/>
            <a:ext cx="1565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5"/>
          <p:cNvSpPr/>
          <p:nvPr/>
        </p:nvSpPr>
        <p:spPr>
          <a:xfrm rot="18900000">
            <a:off x="6878880" y="3883680"/>
            <a:ext cx="1430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7"/>
          <p:cNvSpPr/>
          <p:nvPr/>
        </p:nvSpPr>
        <p:spPr>
          <a:xfrm>
            <a:off x="2500200" y="1557360"/>
            <a:ext cx="5081760" cy="4603680"/>
          </a:xfrm>
          <a:prstGeom prst="pie">
            <a:avLst/>
          </a:pr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30"/>
          <p:cNvSpPr txBox="1"/>
          <p:nvPr/>
        </p:nvSpPr>
        <p:spPr>
          <a:xfrm>
            <a:off x="1944720" y="366840"/>
            <a:ext cx="4842000" cy="206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996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Что такое река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94" name="Text Box 25"/>
          <p:cNvSpPr/>
          <p:nvPr/>
        </p:nvSpPr>
        <p:spPr>
          <a:xfrm rot="20541600">
            <a:off x="4097520" y="4081320"/>
            <a:ext cx="18417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а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5"/>
          <p:cNvSpPr/>
          <p:nvPr/>
        </p:nvSpPr>
        <p:spPr>
          <a:xfrm rot="20541600">
            <a:off x="3555000" y="5389920"/>
            <a:ext cx="18414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е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41:24Z</dcterms:created>
  <dc:creator/>
  <dc:description/>
  <dc:language>en-US</dc:language>
  <cp:lastModifiedBy>*****</cp:lastModifiedBy>
  <dcterms:modified xsi:type="dcterms:W3CDTF">2011-10-29T04:33:39Z</dcterms:modified>
  <cp:revision>6</cp:revision>
  <dc:subject/>
  <dc:title>Слайд 1</dc:title>
</cp:coreProperties>
</file>