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F77-4609-4407-9801-84A2A3A6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E416-BA4B-469A-BAF6-B4C8F8A8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1B795-B343-4823-B7E6-A97C21F4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DAC71-3B0A-4209-9AD3-65B2F0F9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3D2C8-A39B-4D15-9A4F-85F25951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3420B-B8E1-4ECB-9EFB-6BC39406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26D98-893D-43BA-A4E1-F9E419E8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17DD7-F75C-4B3A-9DF7-214A8A3C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E6E0C-57C6-4404-8698-BC05F479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B5FCA-6057-47B9-8DA2-3B19E662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93681-1C6B-46B8-A7A1-964C6A36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85CF7-C9F4-4F00-BE82-636B4FA3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A49C-6A9F-4618-B19C-0FCA5989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FC52D-DA52-4BCA-9691-C13CD23A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93E67-50F5-42D3-95B3-87EE8B10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5538C-45B9-4264-9F7E-31AA36DD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78A16-03B9-4689-924D-92BE09DA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67562-B386-4B25-B4AC-841EB567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8FDF3-42B7-47CC-A72E-A89E9665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8F3B5-CE7E-4F6A-9324-8624227A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1E015-66DB-4BF9-A917-A8170138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85A34-4819-43D5-B951-480550EE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8C5D1-CBC0-456C-8048-53FBE31D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45A2-05E6-4333-902B-148A5D7B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5C038-E319-42E4-8DC5-A0984702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87BB1-B7A4-4D34-BCB0-AE016C1E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D4713-6AA6-4626-8697-374A241D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DD8F5-3A39-4331-AB4D-DD0D640C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42CB5-2147-4C97-9E93-7F7ADC1B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47004-7703-4C56-A700-5B183E98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9A17C-F8FB-46EA-8631-F4F673A9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F8DD2-EC30-4277-810E-A61F7746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BA849-9B59-4B5D-BDC1-F18600DB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B4BCF-1A66-4C1F-A05E-B052F9B2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648F-596B-4B50-8986-B1D8497F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A3C6E-4493-4296-A9B6-EEEC9659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7BEF9-15BD-440A-A4DC-067AB748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352B3-DA38-48FA-B1F5-0A3BFEAF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160C-1430-489E-A606-4F035E73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2F3C-7BE9-4063-8CFB-E80BBBF7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7CB4-2E6F-49F4-96AF-443CE1F1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EC93-69E4-4A4B-B73F-C8750CD7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3258-B67B-4CDC-8778-CC7E1B8C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F0AA-F4AB-41F5-96F1-52AFDFA8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A64-1F4C-45F5-A362-F95526D3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7C99-1151-4A74-9D10-5325C67E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3805-FB19-46D3-9E4C-127D654F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9065-5E94-4969-ABBE-2D8E4957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3147-4865-4A08-9B27-DA8744D5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9414-585A-4201-9A35-08641E65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CFED5-9DCE-4772-9297-19BB2487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15CEB-D0A7-42FA-BB86-D90C1A14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49903-A945-458A-BA86-D7FD4466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1F839-BFAF-4FB8-8354-4B3621FC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56E91-7357-4FA1-BD04-2672B76F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EB2-6A6C-40CF-9F03-57C578F2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1ED0B-8FA7-47BC-8261-20607F78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767EA-8414-4C24-A5F2-1ADD54CB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ACECB-CBAA-4158-B751-AF8DD7FD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9FCB0-ED2C-443E-90A7-71AF76CB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85CAD-F856-4899-B411-0DBC6EF2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B6472-1E14-4535-9C3D-5DC6709D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2118D-CFFC-4C1E-9889-41EA2099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69839-DBA6-4552-AEFD-CA17B76A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CE591-C73B-4952-8C72-E95B5102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602D9-5219-4699-8BA3-8CCA0394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5C3B-BB2C-4383-BC3E-E0D8ED7B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BEE89-735A-4904-9CBC-8A1995CF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3E077-80A3-4498-A9C1-B970202A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18D83-7255-4078-85AE-4C878739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D2186-CC16-454A-B7F9-4A56AF07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1C9DD-DE35-49CB-A443-3AEB1AB4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D68A7-BDDF-4A4F-92AF-2C106989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62649-16FC-4A4E-AA1B-AD951364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93AA8-54F4-4DFB-B96F-38F9CCC8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C6FC4-C19B-4CA8-8B74-716D7F9F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E1825-2241-4B9F-B08D-0C0804FA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B74-1F65-446A-9239-A6D8FE16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BD564-BD30-4F0E-B098-162DCC88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D7AE5-6A74-49CC-AC62-EFC02C9B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EE55C-70FB-4D02-9DA8-089134E2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28BAD-B2BA-4A36-8693-28D6046C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EFD1E-A33C-48EF-8FCD-922BCAB4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344AC-A43D-45AE-8A8D-2965FE5B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959CA-C752-4773-8D2A-6D509811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63200-8705-4474-9C9D-6646B5D2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E2ED6-C1F0-4B48-BFD7-35680F66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F61F6-3B29-47AE-92B9-EBF95587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8BAA-EFFC-434A-BFAD-0355C5D1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03CF1-227D-4156-B1FE-E3866579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DAC1D-0B1B-4660-9F81-40FB3256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7A92B-D781-4597-AE15-8A06B13B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81163-ABEE-4110-BBEB-E7A92CB7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99D83-24F7-42C1-978A-7A348E10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B7BFA-3AB8-46BD-B654-843DE437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3EF1F-4CA1-4C22-B023-63BFB781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68055-5E15-4068-919F-D82E86EA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53796-910D-4DC5-B658-ED919970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66FBE-82BA-4D4A-8B23-7669B23C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0DBC-6CC5-40B2-B63F-A31E5D18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A9473-72AC-4A67-8437-C0F0FFDF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AED8A-0F18-4805-BD71-F48BCC57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E83B0-778C-4536-9238-58B0E894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D30D6-3A21-4ABD-B3D1-D8414046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D6953-7D4E-4638-9583-B6E6102A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785BC-E7E5-4380-A02A-1154ABA4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6BC25-CCFF-4DC0-8F2E-C29B94F6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A9C04-BFD9-4214-9CD8-4899B836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824E9-17F5-403D-9DF0-8233A7E3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7FAEC-52A2-4A87-BA6C-A089E2FE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495-2C20-4717-9D9E-89EEC7E8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0EBE8-458E-4123-ABF2-953973CF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55664-AB37-4319-9502-B777C538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3B627-283D-4CDE-BE26-59BFE60E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B53BB-4E15-46B5-AA30-5E201388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B2E4B-069F-4EFF-B044-FF9E7EB5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9D769-C998-411B-B947-B83E2FE0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83065-88AD-4E4F-9039-1DA13AC4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164ED-2EDE-460C-B96B-53E04656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63023-8742-429B-87D1-4EFFB755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CAF38-28FB-4740-BF03-FC4D5023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447-9498-4D3E-BC03-2FFB86E6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F5411-C44C-4F74-9AEA-B5DBAE38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CC17A-7F97-4D9B-A50B-BD945AB1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5CCE4-CD94-4E17-A604-B4978009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F70A5-55B4-4D86-8758-BB059CBE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DDE1D-6304-4A85-B294-111AA161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3BD94-9C37-413E-A496-B1EF882D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D0E15-2082-40DA-8866-9A960406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34CA7-8FED-4D25-8A22-A95ADD0D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DC441-4D00-4B14-B10C-7F381FAA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28A94-454C-45EC-9885-7CF76014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B6D489-81D9-4FC2-9204-31119612FD86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44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4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4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EC5DFD-0EAA-41D2-9471-7A53124FCE3A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49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4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EC4A56-3065-4960-BDA7-DDBEF1808174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03A083-3312-4C18-81EE-B87CB2D6B4F0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3AB7F5-3967-403A-95E0-7E3411570613}" type="slidenum">
              <a:rPr b="0" lang="ru-RU" sz="13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854D1C-FDAA-4164-B532-3A48AC9E42D2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528E7D-94AA-4DE0-B999-1710CEC970E4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E26D9F-7A7D-4B14-B2A4-5746BD8B56E9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C2579F-E972-41B5-9F08-2C717F85D887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647772-CB58-40B2-A4F8-D5ECFC4CD48A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с одним вырезанным скругленным углом 13"/>
          <p:cNvSpPr/>
          <p:nvPr/>
        </p:nvSpPr>
        <p:spPr>
          <a:xfrm flipV="1" rot="420000">
            <a:off x="3489120" y="1220400"/>
            <a:ext cx="5797440" cy="453708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ый треугольник 14"/>
          <p:cNvSpPr/>
          <p:nvPr/>
        </p:nvSpPr>
        <p:spPr>
          <a:xfrm flipV="1" rot="420000">
            <a:off x="8823240" y="5907960"/>
            <a:ext cx="171360" cy="17136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400" bIns="5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олилиния 15"/>
          <p:cNvSpPr/>
          <p:nvPr/>
        </p:nvSpPr>
        <p:spPr>
          <a:xfrm flipV="1">
            <a:off x="-10800" y="641196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олилиния 16"/>
          <p:cNvSpPr/>
          <p:nvPr/>
        </p:nvSpPr>
        <p:spPr>
          <a:xfrm flipV="1">
            <a:off x="4830840" y="685584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904240" y="7007040"/>
            <a:ext cx="6732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19FB58-B14C-4AA9-9474-DD0F4CAD0310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3754080" y="922320"/>
            <a:ext cx="21430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20160" tIns="50400" bIns="50400" anchor="t"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1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Прямая соединительная линия 4"/>
          <p:cNvSpPr/>
          <p:nvPr/>
        </p:nvSpPr>
        <p:spPr>
          <a:xfrm flipH="1">
            <a:off x="4397040" y="3564720"/>
            <a:ext cx="142884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одзаголовок 2"/>
          <p:cNvSpPr/>
          <p:nvPr/>
        </p:nvSpPr>
        <p:spPr>
          <a:xfrm>
            <a:off x="5969160" y="2351160"/>
            <a:ext cx="4314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lang="ru-RU" sz="12000" spc="-1" strike="noStrike">
                <a:solidFill>
                  <a:srgbClr val="000000"/>
                </a:solidFill>
                <a:latin typeface="Constantia"/>
              </a:rPr>
              <a:t>ЁМЫ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503280" y="1692360"/>
            <a:ext cx="374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Line 636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7120" y="1241280"/>
          <a:ext cx="9723600" cy="57150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16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0" name="Rectangle 717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1" name=""/>
          <p:cNvGraphicFramePr/>
          <p:nvPr/>
        </p:nvGraphicFramePr>
        <p:xfrm>
          <a:off x="0" y="0"/>
          <a:ext cx="10080720" cy="7556400"/>
        </p:xfrm>
        <a:graphic>
          <a:graphicData uri="http://schemas.openxmlformats.org/drawingml/2006/table">
            <a:tbl>
              <a:tblPr/>
              <a:tblGrid>
                <a:gridCol w="1338120"/>
                <a:gridCol w="1459080"/>
                <a:gridCol w="1455840"/>
                <a:gridCol w="1457280"/>
                <a:gridCol w="1455480"/>
                <a:gridCol w="1459080"/>
                <a:gridCol w="1455840"/>
              </a:tblGrid>
              <a:tr h="75564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57120" y="1241280"/>
          <a:ext cx="9723600" cy="57150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16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6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357120" y="1241280"/>
          <a:ext cx="9723600" cy="57150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16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357120" y="1241280"/>
          <a:ext cx="9723600" cy="57312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312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5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57120" y="1241280"/>
          <a:ext cx="9723600" cy="57312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312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0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357120" y="1241280"/>
          <a:ext cx="9723600" cy="57312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312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5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595440" y="0"/>
          <a:ext cx="9072360" cy="7182000"/>
        </p:xfrm>
        <a:graphic>
          <a:graphicData uri="http://schemas.openxmlformats.org/drawingml/2006/table">
            <a:tbl>
              <a:tblPr/>
              <a:tblGrid>
                <a:gridCol w="1204920"/>
                <a:gridCol w="1311120"/>
                <a:gridCol w="1311120"/>
                <a:gridCol w="1311480"/>
                <a:gridCol w="1311120"/>
                <a:gridCol w="1311480"/>
                <a:gridCol w="1311120"/>
              </a:tblGrid>
              <a:tr h="7174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3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 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75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0" y="63360"/>
            <a:ext cx="10080720" cy="755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56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d320"/>
                </a:solidFill>
                <a:latin typeface="Arial"/>
              </a:rPr>
              <a:t>ВОДОЁМ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10080720" cy="755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5526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ЗАДАНИЕ А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учёные называют водоёмам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акой водоём называется озером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называют рекой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веди примеры искусственных водоёмов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ак называются самые большие водоёмы на Земле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ЗАДАНИЕ В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такое исток рек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такое устье рек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такое русло рек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чему у истока река узкая, а в устье – широкая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ЗАДАНИЕ С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полнить практическую работу на с.15 ТПО(№30):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кажи на схеме: устье реки, исток реки, приток рек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кажи стрелкой направление течения рек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означь на схеме правый и левый берега рек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ОЗЕРО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2"/>
          <a:stretch/>
        </p:blipFill>
        <p:spPr>
          <a:xfrm>
            <a:off x="0" y="1355760"/>
            <a:ext cx="10080720" cy="62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РЕКА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7" name="Picture 3" descr=""/>
          <p:cNvPicPr/>
          <p:nvPr/>
        </p:nvPicPr>
        <p:blipFill>
          <a:blip r:embed="rId2"/>
          <a:stretch/>
        </p:blipFill>
        <p:spPr>
          <a:xfrm>
            <a:off x="216000" y="1403280"/>
            <a:ext cx="9864720" cy="61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ДЕКОРАТИВНЫЙ ПРУД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2"/>
          <a:stretch/>
        </p:blipFill>
        <p:spPr>
          <a:xfrm>
            <a:off x="0" y="1547640"/>
            <a:ext cx="10080720" cy="60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НУГУШСКОЕ ВОДОХРАНИЛИЩ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2"/>
          <a:stretch/>
        </p:blipFill>
        <p:spPr>
          <a:xfrm>
            <a:off x="0" y="1555920"/>
            <a:ext cx="10080720" cy="60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ОКЕАН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6" name="Picture 3" descr=""/>
          <p:cNvPicPr/>
          <p:nvPr/>
        </p:nvPicPr>
        <p:blipFill>
          <a:blip r:embed="rId2"/>
          <a:stretch/>
        </p:blipFill>
        <p:spPr>
          <a:xfrm>
            <a:off x="0" y="1116000"/>
            <a:ext cx="10080720" cy="64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reeform 1"/>
          <p:cNvSpPr/>
          <p:nvPr/>
        </p:nvSpPr>
        <p:spPr>
          <a:xfrm>
            <a:off x="-81000" y="314280"/>
            <a:ext cx="10161720" cy="7105680"/>
          </a:xfrm>
          <a:prstGeom prst="pie">
            <a:avLst/>
          </a:prstGeom>
          <a:solidFill>
            <a:srgbClr val="d7ae85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"/>
          <p:cNvSpPr/>
          <p:nvPr/>
        </p:nvSpPr>
        <p:spPr>
          <a:xfrm>
            <a:off x="357120" y="208080"/>
            <a:ext cx="714600" cy="7142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"/>
          <p:cNvSpPr/>
          <p:nvPr/>
        </p:nvSpPr>
        <p:spPr>
          <a:xfrm>
            <a:off x="1071720" y="684360"/>
            <a:ext cx="634680" cy="237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4"/>
          <p:cNvSpPr/>
          <p:nvPr/>
        </p:nvSpPr>
        <p:spPr>
          <a:xfrm>
            <a:off x="911160" y="922320"/>
            <a:ext cx="238320" cy="396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5"/>
          <p:cNvSpPr/>
          <p:nvPr/>
        </p:nvSpPr>
        <p:spPr>
          <a:xfrm flipV="1">
            <a:off x="1071720" y="205920"/>
            <a:ext cx="555480" cy="2415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6"/>
          <p:cNvSpPr/>
          <p:nvPr/>
        </p:nvSpPr>
        <p:spPr>
          <a:xfrm flipH="1">
            <a:off x="593640" y="922320"/>
            <a:ext cx="82800" cy="396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7"/>
          <p:cNvSpPr/>
          <p:nvPr/>
        </p:nvSpPr>
        <p:spPr>
          <a:xfrm flipH="1">
            <a:off x="-1800" y="763560"/>
            <a:ext cx="439560" cy="477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8"/>
          <p:cNvSpPr/>
          <p:nvPr/>
        </p:nvSpPr>
        <p:spPr>
          <a:xfrm flipH="1">
            <a:off x="-1800" y="525600"/>
            <a:ext cx="360360" cy="79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29160" bIns="291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9"/>
          <p:cNvSpPr/>
          <p:nvPr/>
        </p:nvSpPr>
        <p:spPr>
          <a:xfrm flipH="1" flipV="1">
            <a:off x="-1800" y="-1800"/>
            <a:ext cx="439560" cy="37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0"/>
          <p:cNvSpPr/>
          <p:nvPr/>
        </p:nvSpPr>
        <p:spPr>
          <a:xfrm flipV="1">
            <a:off x="673200" y="-1440"/>
            <a:ext cx="3240" cy="210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1"/>
          <p:cNvSpPr/>
          <p:nvPr/>
        </p:nvSpPr>
        <p:spPr>
          <a:xfrm flipV="1">
            <a:off x="911160" y="-1800"/>
            <a:ext cx="238320" cy="290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2"/>
          <p:cNvSpPr/>
          <p:nvPr/>
        </p:nvSpPr>
        <p:spPr>
          <a:xfrm>
            <a:off x="0" y="1487520"/>
            <a:ext cx="8402760" cy="607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13"/>
          <p:cNvSpPr/>
          <p:nvPr/>
        </p:nvSpPr>
        <p:spPr>
          <a:xfrm>
            <a:off x="6537240" y="314280"/>
            <a:ext cx="1424160" cy="1217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4"/>
          <p:cNvSpPr/>
          <p:nvPr/>
        </p:nvSpPr>
        <p:spPr>
          <a:xfrm>
            <a:off x="174600" y="1795320"/>
            <a:ext cx="49118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Река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водный поток, текущий 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выработанном им углублен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5"/>
          <p:cNvSpPr/>
          <p:nvPr/>
        </p:nvSpPr>
        <p:spPr>
          <a:xfrm flipH="1">
            <a:off x="2974680" y="5207040"/>
            <a:ext cx="1114200" cy="71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6"/>
          <p:cNvSpPr/>
          <p:nvPr/>
        </p:nvSpPr>
        <p:spPr>
          <a:xfrm rot="19620000">
            <a:off x="2610000" y="5122800"/>
            <a:ext cx="200196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Течение ре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7500960" y="1398600"/>
            <a:ext cx="216000" cy="212760"/>
          </a:xfrm>
          <a:custGeom>
            <a:avLst/>
            <a:gdLst>
              <a:gd name="textAreaLeft" fmla="*/ 88920 w 216000"/>
              <a:gd name="textAreaRight" fmla="*/ 127080 w 216000"/>
              <a:gd name="textAreaTop" fmla="*/ 87480 h 212760"/>
              <a:gd name="textAreaBottom" fmla="*/ 125280 h 212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-12600" bIns="-12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8"/>
          <p:cNvSpPr/>
          <p:nvPr/>
        </p:nvSpPr>
        <p:spPr>
          <a:xfrm>
            <a:off x="7977240" y="1241280"/>
            <a:ext cx="1827000" cy="7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Исток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чало ре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9"/>
          <p:cNvSpPr/>
          <p:nvPr/>
        </p:nvSpPr>
        <p:spPr>
          <a:xfrm flipH="1">
            <a:off x="7818480" y="1477800"/>
            <a:ext cx="479520" cy="3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0"/>
          <p:cNvSpPr/>
          <p:nvPr/>
        </p:nvSpPr>
        <p:spPr>
          <a:xfrm>
            <a:off x="2976480" y="5896080"/>
            <a:ext cx="7620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Устье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– место впадения реки в океан, море, озеро, ре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21"/>
          <p:cNvSpPr/>
          <p:nvPr/>
        </p:nvSpPr>
        <p:spPr>
          <a:xfrm>
            <a:off x="2341440" y="6081840"/>
            <a:ext cx="317520" cy="317520"/>
          </a:xfrm>
          <a:custGeom>
            <a:avLst/>
            <a:gdLst>
              <a:gd name="textAreaLeft" fmla="*/ 130680 w 317520"/>
              <a:gd name="textAreaRight" fmla="*/ 186840 w 317520"/>
              <a:gd name="textAreaTop" fmla="*/ 130680 h 317520"/>
              <a:gd name="textAreaBottom" fmla="*/ 186840 h 31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760" bIns="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2"/>
          <p:cNvSpPr/>
          <p:nvPr/>
        </p:nvSpPr>
        <p:spPr>
          <a:xfrm flipH="1">
            <a:off x="2655720" y="6161040"/>
            <a:ext cx="401760" cy="795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3"/>
          <p:cNvSpPr/>
          <p:nvPr/>
        </p:nvSpPr>
        <p:spPr>
          <a:xfrm rot="16860000">
            <a:off x="5191560" y="3199680"/>
            <a:ext cx="179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лавная р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4"/>
          <p:cNvSpPr/>
          <p:nvPr/>
        </p:nvSpPr>
        <p:spPr>
          <a:xfrm flipH="1" rot="18600000">
            <a:off x="3334320" y="3794760"/>
            <a:ext cx="15652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5"/>
          <p:cNvSpPr/>
          <p:nvPr/>
        </p:nvSpPr>
        <p:spPr>
          <a:xfrm rot="18900000">
            <a:off x="6878880" y="3883680"/>
            <a:ext cx="14302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27"/>
          <p:cNvSpPr/>
          <p:nvPr/>
        </p:nvSpPr>
        <p:spPr>
          <a:xfrm>
            <a:off x="2500200" y="1557360"/>
            <a:ext cx="5081760" cy="4603680"/>
          </a:xfrm>
          <a:prstGeom prst="pie">
            <a:avLst/>
          </a:prstGeom>
          <a:noFill/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WordArt 30"/>
          <p:cNvSpPr txBox="1"/>
          <p:nvPr/>
        </p:nvSpPr>
        <p:spPr>
          <a:xfrm>
            <a:off x="1944720" y="366840"/>
            <a:ext cx="4842000" cy="206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0996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Что такое река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94" name="Text Box 25"/>
          <p:cNvSpPr/>
          <p:nvPr/>
        </p:nvSpPr>
        <p:spPr>
          <a:xfrm rot="20541600">
            <a:off x="4097520" y="4081320"/>
            <a:ext cx="184176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авый 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5"/>
          <p:cNvSpPr/>
          <p:nvPr/>
        </p:nvSpPr>
        <p:spPr>
          <a:xfrm rot="20541600">
            <a:off x="3555000" y="5389920"/>
            <a:ext cx="184140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Левый 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41:24Z</dcterms:created>
  <dc:creator/>
  <dc:description/>
  <dc:language>en-US</dc:language>
  <cp:lastModifiedBy>*****</cp:lastModifiedBy>
  <dcterms:modified xsi:type="dcterms:W3CDTF">2011-10-29T04:33:39Z</dcterms:modified>
  <cp:revision>6</cp:revision>
  <dc:subject/>
  <dc:title>Слайд 1</dc:title>
</cp:coreProperties>
</file>