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925-9906-431E-B396-9FD78A61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1A9-5B70-4654-B75E-715E678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220B4-3167-42F0-BBA0-56537F7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5279-83E3-4175-9170-75DB3B2C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4B08F-C5B6-48B5-85B2-77CB75F0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5C6DA-99E5-4ABF-8D01-1392592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6F9D0-3586-4827-B55A-ADF12A0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35FC9-989F-496E-9EDE-35EC707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B1BD3-E073-4133-AB0E-8B9E57EF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4F7BA-A5C0-4D53-8AFB-A63EA422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2FB67-3906-4914-81FE-9531A356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D3AA1-72B8-441B-9DB4-2DBD10D1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A19-87FC-4489-84FD-9F67871D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C3F91-347D-4CDA-AD94-F1382091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B3F39-9520-4AC0-A64A-94CDF3F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EBC47-94AE-4375-B828-5905ED6A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938E4-E5EB-44FA-B511-4905D018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502C5-68C8-460E-AB20-CE22F47D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E0D29-5799-45F5-A095-BECEAA9D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16119-B1CA-442F-A045-A659C0A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C03D4-2447-412B-B097-BE465F0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B2119-4CCC-4115-8655-67F9AEEA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99BF8-1A7D-4487-836D-0D774214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BC4-7EED-4561-8513-B98AEA53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E3B0F-2BB4-40AD-BEAA-B2EE2027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9D942-6578-49CD-B906-5A682488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94435-57C2-4E14-A4B1-C4690D43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06718-55C3-42BF-9D9D-E2D6C795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95CC-69D1-4EE6-87F8-3F3851A2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A12F-48AB-4D28-A5BC-87B47AF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FFBF-5466-41E1-9C11-867876C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916F2-FA98-478F-849E-F14ECDA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4002B-5E62-4421-9D01-947BEE85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7B83B-7A1F-4202-B62E-3ECF5D1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FB1C-9B94-419E-8389-D0CA1627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7CC41-496F-49DB-9AF5-FCD260C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F2D58-31FC-4583-A44D-E5E0AE78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0DFFA-DB5D-452F-A768-F5AF2F83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A3E-4049-492A-88FA-41D1200A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BC2F-69D6-4E9D-9D7C-19FCD9C5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8D43-19AE-49A0-AD24-A207988F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9330-8577-4E8A-B6DE-F4C3EB00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FD5-7F68-4D33-A547-75986469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DCCF-BF0E-4CFE-BDB9-ED97432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F4E-D285-4672-90B1-F73F7988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8DDB-3C4A-4B94-8852-3BF3442D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7F2D-CC33-455C-9A56-5BBD4E7D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1FC-FD6E-4893-86C6-930B113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620-9819-4032-8532-3FCAF35C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396F-DEE4-4C56-8D35-709208B9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EC04-C0EC-4BF4-AA65-C53E2698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48F8-399B-4CC7-9119-1F40228C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1132-6AB6-469B-8BD4-6E2D9C56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CCD6-CFDE-4F67-9931-A6A64F1C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965C-D325-4DC2-B86E-6CF2B0FF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0B4-1CE3-4241-9A7F-8E33F87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280E-6F0B-4825-A01E-59A94F99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7423-8A95-459F-9FFB-29479C9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6190-7A0B-4239-B064-E005F43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777B-156E-4BEC-991F-324A98D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9B72-1945-4D92-80BA-AC597A3A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8A96-C073-469F-9C31-88200DC4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D9C3-51A3-4E97-B6E8-7681B348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BA9B-434E-4B45-9DA7-CC6B6286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DF43-57CC-4925-9079-DC07BD40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5911-22A3-4016-84F2-BBA216B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96F-C2F8-43B6-B336-270DD6D5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2B2D-097C-48E6-B318-2C9DD3BC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39A0-CC7F-4481-82AB-786E6D8E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2DBA-CFB3-4A60-BD09-F1A17F5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70DE-700E-4C15-8E3C-007532A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1967-9292-463A-9A3B-F962D97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152F-2313-48C0-B6DA-DA0E29A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DE2B-A60E-4FFE-AFA4-7132E7DC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A4A0-1CA1-47CE-88D4-A28D42D7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F20E-6DDB-4137-93A8-1A90160A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49341-B25F-415D-9352-809DD499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9E2-8F33-4859-B848-DC68D76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10CF-416A-4919-B8FE-8484794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9B103-29CD-4FB8-B2B8-5A2D16F6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19B9-BB05-46A9-844E-2C94B3D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2DBF-5A7E-4223-832D-486D3CD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83E2-99C0-4378-8828-9DF82757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2F215-C20B-4BFB-BC5C-D0E8813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3C5E-A6C7-4C33-9D7A-67F526C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B344C-8B38-4D94-A609-13C02EC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DD57-6BE7-4C3E-889A-A141008B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3674-A07B-411D-A917-1374284D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DEE-4ECC-45D4-AA0B-C464C762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C524-C7A2-46EC-9977-E9A642FF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0A3E-0AF9-4238-8967-D4ED2854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C5CB-C6FD-42A7-AB58-9C22DA85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B033B-AE5D-475D-9B2A-B3DF3525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F540-D5F4-479C-A67A-9EBC4064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2354-40BD-4D22-AB29-88B6C253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CEA03-8999-4A53-BB41-EBD34E7F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3E719-C01B-4FD5-9800-CDE15D1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EBBF-68E0-443D-9DC6-7EA0B2D8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085B-7E8E-4E0A-B127-655C60F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DA3-22A2-4BDB-8170-065E2FB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2F6CD-41BC-447B-B336-0106DB22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1B52-CEB9-4294-A161-7E2F19F3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4AA21-7960-4AC3-A67A-231D602D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C690-A6F9-413C-96B7-68E92807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D76A-39DE-4E98-912C-156745A9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2DFE-D800-4A22-B128-6E1183A3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BDA1E-9593-4196-A32F-5CCB98BE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9AA8F-73A1-4941-871B-D9F07054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AD9E-2AE9-43DE-BB0E-6A93E26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E25B-E67F-4D15-85ED-35D598B5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DAE-4222-46C3-87A9-60A8F0A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9FFA-0210-482C-AD96-AB169D6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FF68-D89D-45D9-8D9A-67559CD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EF364-D0FC-4F7A-BF39-4509F39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CE58-D1F5-4A43-9B40-12C4ACF3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BDFE-8833-4151-8E16-5B6D0918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8E85-2BEB-42C5-9FAC-3F6EE098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958C1-FBFD-4709-AB39-B7DABC36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FC02-82DD-4BCA-BE8B-F18D1D9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85E5C-D2A7-45A0-B4DE-669238E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36D8F-195C-4232-B2CF-1683CF51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0B8-749D-4324-B93E-1DD10FA0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A93FE-2BE7-4A36-BDCF-BF39D32C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FF9BF-BF9F-4CEC-8C4E-2F0CAC4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092A4-24AC-4CD5-887E-A09A265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07521-2583-49CA-941F-BFEF00C7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96373-5F60-4294-82DF-7691D9A3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DCB3-4D8E-4175-BA4F-B6C1C402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DA0B2-35A9-4B6F-AABF-743DA91D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4D77B-1A94-4000-8D31-A9F51037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88B22-6E9E-4557-92AB-F7AF211E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0D8BF-600A-4001-964F-2589D4F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4B9AF3-7778-4CD0-952A-45F5FD988579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A1C239-0951-4526-85CD-141FCBF4AA9C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2ED0C4-3298-44A7-927B-884755B7AC5A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48573C-9AD3-4933-8473-1931D1FCD956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0DC22B-9D66-4196-B339-926F217EDD61}" type="slidenum">
              <a:rPr b="0" lang="ru-RU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C501EA-3D33-49D7-9CC6-4BFA3B392575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3C196B-2C97-467A-A2A3-58B28E18F0C8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6CD31D-E620-4C76-9449-B6FBCA656564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F58857-2962-4B2D-9C66-CC4988BA26FB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B11E04-D4AD-4A2E-BE98-1A367225CF0C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788404-F311-453C-8648-6E8D7A7D6E5D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754080" y="922320"/>
            <a:ext cx="21430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20160" tIns="50400" bIns="504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Прямая соединительная линия 4"/>
          <p:cNvSpPr/>
          <p:nvPr/>
        </p:nvSpPr>
        <p:spPr>
          <a:xfrm flipH="1">
            <a:off x="4397040" y="35647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одзаголовок 2"/>
          <p:cNvSpPr/>
          <p:nvPr/>
        </p:nvSpPr>
        <p:spPr>
          <a:xfrm>
            <a:off x="5969160" y="2351160"/>
            <a:ext cx="43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ЁМ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3280" y="1692360"/>
            <a:ext cx="37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Line 636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0" name="Rectangle 717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0" y="0"/>
          <a:ext cx="10080720" cy="7556400"/>
        </p:xfrm>
        <a:graphic>
          <a:graphicData uri="http://schemas.openxmlformats.org/drawingml/2006/table">
            <a:tbl>
              <a:tblPr/>
              <a:tblGrid>
                <a:gridCol w="1338120"/>
                <a:gridCol w="1459080"/>
                <a:gridCol w="1455840"/>
                <a:gridCol w="1457280"/>
                <a:gridCol w="1455480"/>
                <a:gridCol w="1459080"/>
                <a:gridCol w="1455840"/>
              </a:tblGrid>
              <a:tr h="75564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95440" y="0"/>
          <a:ext cx="9072360" cy="7182000"/>
        </p:xfrm>
        <a:graphic>
          <a:graphicData uri="http://schemas.openxmlformats.org/drawingml/2006/table">
            <a:tbl>
              <a:tblPr/>
              <a:tblGrid>
                <a:gridCol w="1204920"/>
                <a:gridCol w="1311120"/>
                <a:gridCol w="1311120"/>
                <a:gridCol w="1311480"/>
                <a:gridCol w="1311120"/>
                <a:gridCol w="1311480"/>
                <a:gridCol w="1311120"/>
              </a:tblGrid>
              <a:tr h="7174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3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6336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d320"/>
                </a:solidFill>
                <a:latin typeface="Arial"/>
              </a:rPr>
              <a:t>ВОДОЁ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учёные называют водоёмам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ой водоём называется озером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называют рекой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и примеры искусственных водоёмо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называются самые большие водоёмы на Земл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В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исток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устье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русло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чему у истока река узкая, а в устье – широкая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С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на с.15 ТПО(№30)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кажи на схеме: устье реки, исток реки, приток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кажи стрелкой направление течения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означь на схеме правый и левый берега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ЗЕРО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0" y="1355760"/>
            <a:ext cx="1008072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РЕКА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216000" y="1403280"/>
            <a:ext cx="9864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ДЕКОРАТИВНЫЙ ПРУД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0" y="1547640"/>
            <a:ext cx="100807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НУГУШСКОЕ ВОДОХРАНИЛИЩ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0" y="1555920"/>
            <a:ext cx="1008072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КЕАН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0" y="1116000"/>
            <a:ext cx="100807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1"/>
          <p:cNvSpPr/>
          <p:nvPr/>
        </p:nvSpPr>
        <p:spPr>
          <a:xfrm>
            <a:off x="-81000" y="314280"/>
            <a:ext cx="10161720" cy="7105680"/>
          </a:xfrm>
          <a:prstGeom prst="pie">
            <a:avLst/>
          </a:prstGeom>
          <a:solidFill>
            <a:srgbClr val="d7ae85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357120" y="208080"/>
            <a:ext cx="714600" cy="714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71720" y="684360"/>
            <a:ext cx="634680" cy="237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911160" y="922320"/>
            <a:ext cx="23832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1071720" y="205920"/>
            <a:ext cx="555480" cy="241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 flipH="1">
            <a:off x="593640" y="922320"/>
            <a:ext cx="8280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"/>
          <p:cNvSpPr/>
          <p:nvPr/>
        </p:nvSpPr>
        <p:spPr>
          <a:xfrm flipH="1">
            <a:off x="-1800" y="763560"/>
            <a:ext cx="439560" cy="47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"/>
          <p:cNvSpPr/>
          <p:nvPr/>
        </p:nvSpPr>
        <p:spPr>
          <a:xfrm flipH="1">
            <a:off x="-1800" y="525600"/>
            <a:ext cx="360360" cy="79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"/>
          <p:cNvSpPr/>
          <p:nvPr/>
        </p:nvSpPr>
        <p:spPr>
          <a:xfrm flipH="1" flipV="1">
            <a:off x="-1800" y="-1800"/>
            <a:ext cx="439560" cy="37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673200" y="-1440"/>
            <a:ext cx="3240" cy="210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V="1">
            <a:off x="911160" y="-1800"/>
            <a:ext cx="238320" cy="290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"/>
          <p:cNvSpPr/>
          <p:nvPr/>
        </p:nvSpPr>
        <p:spPr>
          <a:xfrm>
            <a:off x="0" y="1487520"/>
            <a:ext cx="8402760" cy="607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13"/>
          <p:cNvSpPr/>
          <p:nvPr/>
        </p:nvSpPr>
        <p:spPr>
          <a:xfrm>
            <a:off x="6537240" y="314280"/>
            <a:ext cx="1424160" cy="121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174600" y="1795320"/>
            <a:ext cx="49118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ека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одный поток, текущий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ыработанном им углу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 flipH="1">
            <a:off x="2974680" y="5207040"/>
            <a:ext cx="111420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 rot="19620000">
            <a:off x="2610000" y="5122800"/>
            <a:ext cx="20019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Течение р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7500960" y="1398600"/>
            <a:ext cx="216000" cy="212760"/>
          </a:xfrm>
          <a:custGeom>
            <a:avLst/>
            <a:gdLst>
              <a:gd name="textAreaLeft" fmla="*/ 88920 w 216000"/>
              <a:gd name="textAreaRight" fmla="*/ 127080 w 216000"/>
              <a:gd name="textAreaTop" fmla="*/ 87480 h 212760"/>
              <a:gd name="textAreaBottom" fmla="*/ 125280 h 2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-12600" bIns="-12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7977240" y="1241280"/>
            <a:ext cx="1827000" cy="7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7818480" y="1477800"/>
            <a:ext cx="479520" cy="3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976480" y="5896080"/>
            <a:ext cx="7620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место впадения реки в океан, море, озеро, р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1"/>
          <p:cNvSpPr/>
          <p:nvPr/>
        </p:nvSpPr>
        <p:spPr>
          <a:xfrm>
            <a:off x="2341440" y="6081840"/>
            <a:ext cx="317520" cy="317520"/>
          </a:xfrm>
          <a:custGeom>
            <a:avLst/>
            <a:gdLst>
              <a:gd name="textAreaLeft" fmla="*/ 130680 w 317520"/>
              <a:gd name="textAreaRight" fmla="*/ 186840 w 317520"/>
              <a:gd name="textAreaTop" fmla="*/ 130680 h 317520"/>
              <a:gd name="textAreaBottom" fmla="*/ 1868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2"/>
          <p:cNvSpPr/>
          <p:nvPr/>
        </p:nvSpPr>
        <p:spPr>
          <a:xfrm flipH="1">
            <a:off x="2655720" y="6161040"/>
            <a:ext cx="401760" cy="79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3"/>
          <p:cNvSpPr/>
          <p:nvPr/>
        </p:nvSpPr>
        <p:spPr>
          <a:xfrm rot="16860000">
            <a:off x="5191560" y="3199680"/>
            <a:ext cx="179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лавн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 flipH="1" rot="18600000">
            <a:off x="3334320" y="3794760"/>
            <a:ext cx="1565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5"/>
          <p:cNvSpPr/>
          <p:nvPr/>
        </p:nvSpPr>
        <p:spPr>
          <a:xfrm rot="18900000">
            <a:off x="6878880" y="3883680"/>
            <a:ext cx="1430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>
            <a:off x="2500200" y="1557360"/>
            <a:ext cx="5081760" cy="4603680"/>
          </a:xfrm>
          <a:prstGeom prst="pie">
            <a:avLst/>
          </a:pr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30"/>
          <p:cNvSpPr txBox="1"/>
          <p:nvPr/>
        </p:nvSpPr>
        <p:spPr>
          <a:xfrm>
            <a:off x="1944720" y="366840"/>
            <a:ext cx="4842000" cy="206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996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то такое река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94" name="Text Box 25"/>
          <p:cNvSpPr/>
          <p:nvPr/>
        </p:nvSpPr>
        <p:spPr>
          <a:xfrm rot="20541600">
            <a:off x="4097520" y="4081320"/>
            <a:ext cx="18417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а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 rot="20541600">
            <a:off x="3555000" y="5389920"/>
            <a:ext cx="18414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е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41:24Z</dcterms:created>
  <dc:creator/>
  <dc:description/>
  <dc:language>en-US</dc:language>
  <cp:lastModifiedBy>*****</cp:lastModifiedBy>
  <dcterms:modified xsi:type="dcterms:W3CDTF">2011-10-29T04:33:39Z</dcterms:modified>
  <cp:revision>6</cp:revision>
  <dc:subject/>
  <dc:title>Слайд 1</dc:title>
</cp:coreProperties>
</file>