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849-92DF-4BC9-94B1-758F219E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C8D-32FB-4E96-83EE-B85974C2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A41-5ADE-47D3-8B28-8A3326DB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E44-46CA-4B3D-8743-FE44FCE7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728B-A8DF-42FD-9733-BD00253F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D95B-EA6F-4E7A-B7C4-B3A62F72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EF54-AA39-4E4D-B22C-36057C49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5592-129D-4A07-B641-939F8904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12ED-5A08-4772-BEEF-567104BB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74F0-0E24-4A33-871F-716A5F08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8B0A-4B60-4CB7-AA9B-8A37548A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F6B-7BC2-4F47-96F6-AA41D1ED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E6E7-637C-4F55-A597-B266E2F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F81F-FEB2-4DC9-9F77-5ECAC8A4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F61D-1867-456F-B4EF-D1D5E3B9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C022-3C17-48EF-8BC5-EF85F7BD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ECD0-A069-45BC-9A1E-59AB836F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7CC-9392-4DED-8805-6D4520F8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46C-4039-43D1-83E7-8E343F09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AF6-B544-4586-A307-16CF3C03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7C4-3DF7-4262-8FC1-997CB2F2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B80-4EF0-4D57-ACD3-56CC03B8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212-7456-4E08-97F1-CC4C7F6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122-BCB0-43A2-8068-FD5A745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2A56-1365-4D1A-8BC8-D8D233600E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A2E5-B5DC-4B0B-B5D3-7307BA552AD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ема: «Природные сообщест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6 класс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Учитель химии и биологи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кв.кат.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леева Л.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5" descr="i-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a0c7360e064569d2eeacc3df9f3d2cfe"/>
          <p:cNvPicPr/>
          <p:nvPr/>
        </p:nvPicPr>
        <p:blipFill>
          <a:blip r:embed="rId1"/>
          <a:stretch/>
        </p:blipFill>
        <p:spPr>
          <a:xfrm>
            <a:off x="324000" y="174600"/>
            <a:ext cx="77752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i-1058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i-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i-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7" descr="i-1527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i-642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50920" y="0"/>
            <a:ext cx="5139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5" descr="i-961"/>
          <p:cNvPicPr/>
          <p:nvPr/>
        </p:nvPicPr>
        <p:blipFill>
          <a:blip r:embed="rId1"/>
          <a:stretch/>
        </p:blipFill>
        <p:spPr>
          <a:xfrm>
            <a:off x="17928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5" descr="i-828"/>
          <p:cNvPicPr/>
          <p:nvPr/>
        </p:nvPicPr>
        <p:blipFill>
          <a:blip r:embed="rId1"/>
          <a:stretch/>
        </p:blipFill>
        <p:spPr>
          <a:xfrm>
            <a:off x="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5" descr="i-1088"/>
          <p:cNvPicPr/>
          <p:nvPr/>
        </p:nvPicPr>
        <p:blipFill>
          <a:blip r:embed="rId1"/>
          <a:stretch/>
        </p:blipFill>
        <p:spPr>
          <a:xfrm>
            <a:off x="0" y="135000"/>
            <a:ext cx="93963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5" descr="i-82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i-823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 – сосна, 2 – карась, 3 – черника, 4 – жаворонок, 5 – полевка (мышь), 6 – ряска, 7 – ландыш майский,  8 – дятел, 9 – пижма обыкновенная, 10 – зверобой,  11 – ель обыкновенная,  12 – выдра, 13–  лось, 14 – маслен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1,3,7,8,11,13,14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4,5,9,10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 2,6,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5" descr="i-646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йте схему пищевой цепи, включив в нее следующие организмы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яц, лиса, травянистое растение, кузнечик, лягушка, волк, змея, ястреб, сова,  мышь, гусеница, кукушка, перепелка, дяте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- гусеница – кукуш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–кузнечик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ягушка – змея – ястреб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5" descr="i-8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ие утверждения верн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тепь является сообще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Б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сообществе все организмы связаны между соб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) Потребителем является берез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) Дождевой червь относится к производител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) Сова – это разрушите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Е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Цепи питания в сообществах образуют сложные сети пит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) Обычно цепи питания состоят из 8 – 10 звенье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7" descr="i-5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i-1086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. 25 изучить, выполнить задание на с.  170, устно ответить на вопросы на стр. 171; подготовить сообщение о взаимодействии организмов в любом сообществе (по желанию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крыть понятие «Природные сообществ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пределить основные компоненты сообщества, сложность их взаимоотношений на примере цепей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ть составлять простые цепи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Развивающи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должить осваивать технологию индивидуализированного  обуче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звивать навыки установления причинно-следственных связей, работы с учебником, извлекая из них полезную информацию,  находить по его рисункам необходимые сведения для выполнения зада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оспитательны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здать условия для индивидуализированной продуктивной работы каждого уче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тивировать учебную деятельность поэтапным достижением результа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кологические ф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8760" y="2071800"/>
          <a:ext cx="8229600" cy="3355920"/>
        </p:xfrm>
        <a:graphic>
          <a:graphicData uri="http://schemas.openxmlformats.org/drawingml/2006/table">
            <a:tbl>
              <a:tblPr/>
              <a:tblGrid>
                <a:gridCol w="4329000"/>
                <a:gridCol w="390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кологические фактор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неживой природы (абиотические)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Б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живой природы (биотические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еятельность человека (антропогенный фактор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i-1068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188640"/>
            <a:ext cx="78040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i-974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i-1059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i-14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01:08Z</dcterms:created>
  <dc:creator>Роберт</dc:creator>
  <dc:description/>
  <dc:language>en-US</dc:language>
  <cp:lastModifiedBy>Ray</cp:lastModifiedBy>
  <dcterms:modified xsi:type="dcterms:W3CDTF">2013-03-14T08:09:55Z</dcterms:modified>
  <cp:revision>7</cp:revision>
  <dc:subject/>
  <dc:title>Слайд 1</dc:title>
</cp:coreProperties>
</file>