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1AA-6160-404A-B479-D0F8EEB9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1E4-4D24-460B-9E7F-A67840B0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E01-2A6D-4A94-B05C-BCE93010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7F13-0EEF-4F90-8E88-EB676883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AB46-EC6D-4578-83A0-088D2951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99EE-FCF0-4CA8-A533-60DD84F3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B807-2F02-45C7-B3CA-A46F37C3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2DAD-FEEF-4479-ACDB-BE1911C9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B3BF-8737-4E5B-9267-33A6AA8A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8F4C-DBE6-41A7-8113-71E65635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45AF-761C-4AAD-B03D-7233B44D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919-D595-4084-BD1E-4DCA9242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EFCF-803F-4B39-B578-6F57A48C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60C0-D8AB-42E3-BC96-EB47A682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1A5B-9F8A-40E6-852C-BC218020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46FD-BD73-45E1-968E-26774B7C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4DA1-9C7D-447D-AB15-9A083E41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A822-7002-4A6C-A96C-B6529F2E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629-808A-44E4-A4F8-DF741809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7F14-55E2-4581-90D4-B5AA3B66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FF4-7295-4CB1-9EDA-5E56A1DD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71B-847C-4B34-8EB6-D34F8C2C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4DB-DBC0-45D3-85E6-7192E1FD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B466-E15F-4165-B3F1-624ED9C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961C-775A-40EE-8B15-A648B64A9B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F76D-4363-4FF6-9A51-20D0F5B48B8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ема: «Природные сообщества»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6 класс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Учитель химии и биологии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tt-RU" sz="3600" spc="-1" strike="noStrike">
                <a:solidFill>
                  <a:srgbClr val="eaeaea"/>
                </a:solidFill>
                <a:latin typeface="Verdana"/>
              </a:rPr>
              <a:t>кв.кат.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алеева Л.Р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5" descr="i-6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a0c7360e064569d2eeacc3df9f3d2cfe"/>
          <p:cNvPicPr/>
          <p:nvPr/>
        </p:nvPicPr>
        <p:blipFill>
          <a:blip r:embed="rId1"/>
          <a:stretch/>
        </p:blipFill>
        <p:spPr>
          <a:xfrm>
            <a:off x="324000" y="174600"/>
            <a:ext cx="777528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5" descr="i-1058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5" descr="i-1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5" descr="i-9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7" descr="i-1527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i-642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050920" y="0"/>
            <a:ext cx="51390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5" descr="i-961"/>
          <p:cNvPicPr/>
          <p:nvPr/>
        </p:nvPicPr>
        <p:blipFill>
          <a:blip r:embed="rId1"/>
          <a:stretch/>
        </p:blipFill>
        <p:spPr>
          <a:xfrm>
            <a:off x="179280" y="0"/>
            <a:ext cx="91458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5" descr="i-828"/>
          <p:cNvPicPr/>
          <p:nvPr/>
        </p:nvPicPr>
        <p:blipFill>
          <a:blip r:embed="rId1"/>
          <a:stretch/>
        </p:blipFill>
        <p:spPr>
          <a:xfrm>
            <a:off x="0" y="0"/>
            <a:ext cx="936144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5" descr="i-1088"/>
          <p:cNvPicPr/>
          <p:nvPr/>
        </p:nvPicPr>
        <p:blipFill>
          <a:blip r:embed="rId1"/>
          <a:stretch/>
        </p:blipFill>
        <p:spPr>
          <a:xfrm>
            <a:off x="0" y="135000"/>
            <a:ext cx="939636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Picture 5" descr="i-821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5" descr="i-823"/>
          <p:cNvPicPr/>
          <p:nvPr/>
        </p:nvPicPr>
        <p:blipFill>
          <a:blip r:embed="rId1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коло названий сообществ выпишите номера характерных для них растений и животны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Хвойный лес –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Луг – 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Озер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 – сосна, 2 – карась, 3 – черника, 4 – жаворонок, 5 – полевка (мышь), 6 – ряска, 7 – ландыш майский,  8 – дятел, 9 – пижма обыкновенная, 10 – зверобой,  11 – ель обыкновенная,  12 – выдра, 13–  лось, 14 – маслено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оло названий сообществ выпишите номера характерных для них растений и животных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Хвойный лес –1,3,7,8,11,13,14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Луг – 4,5,9,10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Озеро – 2,6,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Picture 5" descr="i-646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тройте схему пищевой цепи, включив в нее следующие организмы: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яц, лиса, травянистое растение, кузнечик, лягушка, волк, змея, ястреб, сова,  мышь, гусеница, кукушка, перепелка, дятел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пи пит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авянистое растение - гусеница – кукуш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авянистое растение –кузнечик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ягушка – змея – ястреб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Picture 5" descr="i-81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акие утверждения верны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тепь является сообществ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Б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В сообществе все организмы связаны между соб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) Потребителем является берез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) Дождевой червь относится к производител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) Сова – это разрушител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Е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Цепи питания в сообществах образуют сложные сети пита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Ж) Обычно цепи питания состоят из 8 – 10 звенье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7" descr="i-51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i-1086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. 25 изучить, выполнить задание на с.  170, устно ответить на вопросы на стр. 171; подготовить сообщение о взаимодействии организмов в любом сообществе (по желанию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Образовательные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крыть понятие «Природные сообщества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пределить основные компоненты сообщества, сложность их взаимоотношений на примере цепей пит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меть составлять простые цепи пит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Развивающие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должить осваивать технологию индивидуализированного  обучен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звивать навыки установления причинно-следственных связей, работы с учебником, извлекая из них полезную информацию,  находить по его рисункам необходимые сведения для выполнения задан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Воспитательные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здать условия для индивидуализированной продуктивной работы каждого учени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тивировать учебную деятельность поэтапным достижением результат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кологические факто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28760" y="2071800"/>
          <a:ext cx="8229600" cy="3355920"/>
        </p:xfrm>
        <a:graphic>
          <a:graphicData uri="http://schemas.openxmlformats.org/drawingml/2006/table">
            <a:tbl>
              <a:tblPr/>
              <a:tblGrid>
                <a:gridCol w="4329000"/>
                <a:gridCol w="390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Экологические фактор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акторы неживой природы (абиотические)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А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Б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В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акторы живой природы (биотические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Деятельность человека (антропогенный фактор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5" descr="i-1068"/>
          <p:cNvPicPr/>
          <p:nvPr/>
        </p:nvPicPr>
        <p:blipFill>
          <a:blip r:embed="rId1"/>
          <a:stretch/>
        </p:blipFill>
        <p:spPr>
          <a:xfrm>
            <a:off x="-108000" y="-8100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16000" y="188640"/>
            <a:ext cx="780408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5" descr="i-974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i-1059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5" descr="i-14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2:01:08Z</dcterms:created>
  <dc:creator>Роберт</dc:creator>
  <dc:description/>
  <dc:language>en-US</dc:language>
  <cp:lastModifiedBy>Ray</cp:lastModifiedBy>
  <dcterms:modified xsi:type="dcterms:W3CDTF">2013-03-14T08:09:55Z</dcterms:modified>
  <cp:revision>7</cp:revision>
  <dc:subject/>
  <dc:title>Слайд 1</dc:title>
</cp:coreProperties>
</file>