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762-2B40-4B78-8300-2214A333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15A-0878-4F42-94FC-8158C867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09D-629F-47AA-ABFB-886DC9E2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FFC-F835-44A3-84E7-A6B5E0D7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622B-5B87-497A-B5C7-B9481697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6482-62DE-4765-8B32-94163B0F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504-2DEB-408D-98F9-3008F4BB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3A3A-2C1E-4D52-9472-D16A3B88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45C8-8CAF-4455-B43D-8AB7CFB9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D1ED-D447-41E6-BED2-F24F48DB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45A8-4734-4A48-91DE-EA138613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4B9-24CE-4EAD-BDC4-0435F0F2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5A34-2B7A-4981-AD3A-2D54AC4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9A99-BBBF-4984-A965-F1C5A76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437D-5F8D-44EC-9192-2F3BA44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B269-9A46-4F92-8027-D05A9B39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9F1D-94E0-4633-B68D-E02EB4B2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CC4-1219-48BC-9C9E-D19E010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573-BF62-48E5-B183-4380E724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0FF-A4CC-465A-823C-65668656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178-8F9B-4569-99B3-510B0EEE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6CF-7529-419F-A7B2-E89B9E6E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6CE-0D54-4169-B4D6-BC851C8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A2F-97AB-480E-9BFB-335DF7F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F639-000D-4595-8BC3-E6206DD108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21D2-5800-44BD-A6EF-8E2077004EC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ема: «Природные сообщест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6 класс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Учитель химии и биолог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кв.кат.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леева Л.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i-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a0c7360e064569d2eeacc3df9f3d2cfe"/>
          <p:cNvPicPr/>
          <p:nvPr/>
        </p:nvPicPr>
        <p:blipFill>
          <a:blip r:embed="rId1"/>
          <a:stretch/>
        </p:blipFill>
        <p:spPr>
          <a:xfrm>
            <a:off x="324000" y="174600"/>
            <a:ext cx="77752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i-1058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i-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i-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7" descr="i-1527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i-64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50920" y="0"/>
            <a:ext cx="5139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i-961"/>
          <p:cNvPicPr/>
          <p:nvPr/>
        </p:nvPicPr>
        <p:blipFill>
          <a:blip r:embed="rId1"/>
          <a:stretch/>
        </p:blipFill>
        <p:spPr>
          <a:xfrm>
            <a:off x="17928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i-828"/>
          <p:cNvPicPr/>
          <p:nvPr/>
        </p:nvPicPr>
        <p:blipFill>
          <a:blip r:embed="rId1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i-1088"/>
          <p:cNvPicPr/>
          <p:nvPr/>
        </p:nvPicPr>
        <p:blipFill>
          <a:blip r:embed="rId1"/>
          <a:stretch/>
        </p:blipFill>
        <p:spPr>
          <a:xfrm>
            <a:off x="0" y="135000"/>
            <a:ext cx="93963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5" descr="i-82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i-823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 – сосна, 2 – карась, 3 – черника, 4 – жаворонок, 5 – полевка (мышь), 6 – ряска, 7 – ландыш майский,  8 – дятел, 9 – пижма обыкновенная, 10 – зверобой,  11 – ель обыкновенная,  12 – выдра, 13–  лось, 14 – маслен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1,3,7,8,11,13,14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4,5,9,10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 2,6,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5" descr="i-64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йте схему пищевой цепи, включив в нее следующие организмы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яц, лиса, травянистое растение, кузнечик, лягушка, волк, змея, ястреб, сова,  мышь, гусеница, кукушка, перепелка, дяте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- гусеница – кукуш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–кузнечик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ягушка – змея – ястреб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5" descr="i-8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ие утверждения верн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епь является сообще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сообществе все организмы связаны между соб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Потребителем является берез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Дождевой червь относится к производител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Сова – это разруш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Е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Цепи питания в сообществах образуют сложные сети пит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) Обычно цепи питания состоят из 8 – 10 звенье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7" descr="i-5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i-1086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25 изучить, выполнить задание на с.  170, устно ответить на вопросы на стр. 171; подготовить сообщение о взаимодействии организмов в любом сообществе (по желанию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крыть понятие «Природные сообществ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пределить основные компоненты сообщества, сложность их взаимоотношений на примере цепей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ть составлять простые цепи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Развивающи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должить осваивать технологию индивидуализированного  обуче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звивать навыки установления причинно-следственных связей, работы с учебником, извлекая из них полезную информацию,  находить по его рисункам необходимые сведения для выполнения зада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оспитательны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здать условия для индивидуализированной продуктивной работы каждого уче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тивировать учебную деятельность поэтапным достижением результа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кологические ф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2071800"/>
          <a:ext cx="8229600" cy="3355920"/>
        </p:xfrm>
        <a:graphic>
          <a:graphicData uri="http://schemas.openxmlformats.org/drawingml/2006/table">
            <a:tbl>
              <a:tblPr/>
              <a:tblGrid>
                <a:gridCol w="4329000"/>
                <a:gridCol w="390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кологические факт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неживой природы (абиотические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Б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живой природы (биотические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еятельность человека (антропогенный фактор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i-1068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188640"/>
            <a:ext cx="78040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i-974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i-1059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-14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01:08Z</dcterms:created>
  <dc:creator>Роберт</dc:creator>
  <dc:description/>
  <dc:language>en-US</dc:language>
  <cp:lastModifiedBy>Ray</cp:lastModifiedBy>
  <dcterms:modified xsi:type="dcterms:W3CDTF">2013-03-14T08:09:55Z</dcterms:modified>
  <cp:revision>7</cp:revision>
  <dc:subject/>
  <dc:title>Слайд 1</dc:title>
</cp:coreProperties>
</file>