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5A5-2B12-43F2-A4BD-621C0083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4BE-A79C-4F6A-BA6C-76CC27BF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8F5-BF17-4EFC-AB21-2CECA626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572-59BF-4FBF-817A-8B855DFF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270C-A488-4EF6-9175-413D7441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DBDB-FA6E-426A-BAB4-CDC1293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FB13-64EB-4C2B-AC6A-E8A801C6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6D3A-BDEC-4635-87CB-09291152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43FC-036A-4ACC-8B51-18EBCD5E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194-14BA-47E9-8209-7DB31DCB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BEA9-6B85-4162-A287-F29C4EB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DED-1017-4193-8021-24D8C977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352B-5637-4263-A920-ED1F12A0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19CA-4A4C-4393-A08E-CE301F2D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5C72-A370-44AF-85C2-2A0BF822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E593-502C-4C82-BF0F-89235AA3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E1FE-77DE-4333-A701-C6E84858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BDF-10EB-4397-B29C-1D36ADA1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B86-AD87-4B0B-BC14-9799B9B6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2F0-B563-4F09-810F-16A0B8B6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A44-2252-4ABA-A824-66F0EA77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CF1-FC56-434A-82D0-2AB2B653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4FE-87F2-4ADE-B688-7CECA8AD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2F0-FE25-462C-9DC1-C64ADD2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0580-9164-4379-BEFE-1C6C982A4F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D784-CAF1-46B2-B090-54967639854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ема: «Природные сообщества»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6 класс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Учитель химии и биологии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кв.кат.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леева Л.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5" descr="i-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a0c7360e064569d2eeacc3df9f3d2cfe"/>
          <p:cNvPicPr/>
          <p:nvPr/>
        </p:nvPicPr>
        <p:blipFill>
          <a:blip r:embed="rId1"/>
          <a:stretch/>
        </p:blipFill>
        <p:spPr>
          <a:xfrm>
            <a:off x="324000" y="174600"/>
            <a:ext cx="777528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5" descr="i-1058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5" descr="i-1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i-9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7" descr="i-1527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i-642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050920" y="0"/>
            <a:ext cx="5139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5" descr="i-961"/>
          <p:cNvPicPr/>
          <p:nvPr/>
        </p:nvPicPr>
        <p:blipFill>
          <a:blip r:embed="rId1"/>
          <a:stretch/>
        </p:blipFill>
        <p:spPr>
          <a:xfrm>
            <a:off x="179280" y="0"/>
            <a:ext cx="9145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5" descr="i-828"/>
          <p:cNvPicPr/>
          <p:nvPr/>
        </p:nvPicPr>
        <p:blipFill>
          <a:blip r:embed="rId1"/>
          <a:stretch/>
        </p:blipFill>
        <p:spPr>
          <a:xfrm>
            <a:off x="0" y="0"/>
            <a:ext cx="936144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5" descr="i-1088"/>
          <p:cNvPicPr/>
          <p:nvPr/>
        </p:nvPicPr>
        <p:blipFill>
          <a:blip r:embed="rId1"/>
          <a:stretch/>
        </p:blipFill>
        <p:spPr>
          <a:xfrm>
            <a:off x="0" y="135000"/>
            <a:ext cx="939636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5" descr="i-821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5" descr="i-823"/>
          <p:cNvPicPr/>
          <p:nvPr/>
        </p:nvPicPr>
        <p:blipFill>
          <a:blip r:embed="rId1"/>
          <a:stretch/>
        </p:blipFill>
        <p:spPr>
          <a:xfrm>
            <a:off x="0" y="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 – сосна, 2 – карась, 3 – черника, 4 – жаворонок, 5 – полевка (мышь), 6 – ряска, 7 – ландыш майский,  8 – дятел, 9 – пижма обыкновенная, 10 – зверобой,  11 – ель обыкновенная,  12 – выдра, 13–  лось, 14 – масленок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оло названий сообществ выпишите номера характерных для них растений и животных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 Хвойный лес –1,3,7,8,11,13,14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 Луг – 4,5,9,10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Озеро – 2,6,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Picture 5" descr="i-646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йте схему пищевой цепи, включив в нее следующие организмы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яц, лиса, травянистое растение, кузнечик, лягушка, волк, змея, ястреб, сова,  мышь, гусеница, кукушка, перепелка, дятел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пи п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- гусеница – кукуш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авянистое растение –кузнечик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лягушка – змея – ястреб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5" descr="i-8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Какие утверждения верн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тепь является сообще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Б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В сообществе все организмы связаны между соб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) Потребителем является берез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) Дождевой червь относится к производителя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) Сова – это разрушитель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Е)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Цепи питания в сообществах образуют сложные сети пита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Ж) Обычно цепи питания состоят из 8 – 10 звенье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7" descr="i-518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i-1086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. 25 изучить, выполнить задание на с.  170, устно ответить на вопросы на стр. 171; подготовить сообщение о взаимодействии организмов в любом сообществе (по желанию)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Образовательные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крыть понятие «Природные сообщества»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пределить основные компоненты сообщества, сложность их взаимоотношений на примере цепей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Уметь составлять простые цепи пит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Развивающи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должить осваивать технологию индивидуализированного  обуче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звивать навыки установления причинно-следственных связей, работы с учебником, извлекая из них полезную информацию,  находить по его рисункам необходимые сведения для выполнения зада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eaeaea"/>
                </a:solidFill>
                <a:uFillTx/>
                <a:latin typeface="Verdana"/>
              </a:rPr>
              <a:t>Воспитательные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здать условия для индивидуализированной продуктивной работы каждого ученик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тивировать учебную деятельность поэтапным достижением результат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кологические факто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28760" y="2071800"/>
          <a:ext cx="8229600" cy="3355920"/>
        </p:xfrm>
        <a:graphic>
          <a:graphicData uri="http://schemas.openxmlformats.org/drawingml/2006/table">
            <a:tbl>
              <a:tblPr/>
              <a:tblGrid>
                <a:gridCol w="4329000"/>
                <a:gridCol w="390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Экологические фактор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неживой природы (абиотические)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А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Б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В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акторы живой природы (биотические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Деятельность человека (антропогенный фактор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i-1068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16000" y="188640"/>
            <a:ext cx="780408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i-974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i-1059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5" descr="i-14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2:01:08Z</dcterms:created>
  <dc:creator>Роберт</dc:creator>
  <dc:description/>
  <dc:language>en-US</dc:language>
  <cp:lastModifiedBy>Ray</cp:lastModifiedBy>
  <dcterms:modified xsi:type="dcterms:W3CDTF">2013-03-14T08:09:55Z</dcterms:modified>
  <cp:revision>7</cp:revision>
  <dc:subject/>
  <dc:title>Слайд 1</dc:title>
</cp:coreProperties>
</file>