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3B71-E429-4B21-8036-2E46344A84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F270-C74A-41B1-983B-A779A32EE2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E468-AE30-4D48-8683-0C2BF9CC5F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898E-DBDD-4AE0-BFEB-9D2128D7B3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2BFD-039C-4C94-81A7-A75494EC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6A90-D8A0-4378-9390-CC703290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2BFE-1F7C-4EDA-862F-36C3379F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7541-AE43-498F-81A8-427D233E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B2F6-9D5B-41D2-BF4A-D33B3865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4F6E-2649-47B6-A73E-5F2C01FB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5EC7-2895-4959-86C8-1C6170D1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4474-ED10-466B-AF1E-36C2348C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B401-444D-4812-AF94-E5E6431C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050E-D8B3-425A-9308-3D96AE7A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7799-4658-49B9-B531-53B5AD57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F38B-616A-4FB3-A8D1-489C7570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2BEB-EBA4-47EF-AA6D-681F55E4AA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27"/>
          <p:cNvSpPr/>
          <p:nvPr/>
        </p:nvSpPr>
        <p:spPr>
          <a:xfrm>
            <a:off x="457200" y="6858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Чему равна площадь поверхности куба с ребром 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32"/>
          <p:cNvSpPr/>
          <p:nvPr/>
        </p:nvSpPr>
        <p:spPr>
          <a:xfrm>
            <a:off x="914400" y="5410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6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36" descr=""/>
          <p:cNvPicPr/>
          <p:nvPr/>
        </p:nvPicPr>
        <p:blipFill>
          <a:blip r:embed="rId1"/>
          <a:stretch/>
        </p:blipFill>
        <p:spPr>
          <a:xfrm>
            <a:off x="3278160" y="2135160"/>
            <a:ext cx="258624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457200" y="6858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Найдите площадь боковой поверхности правильной шестиугольной призмы, сторона основания которой равна 5 см, а высота 10 с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914400" y="5410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300 см</a:t>
            </a:r>
            <a:r>
              <a:rPr b="0" lang="ru-RU" sz="28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400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57200" y="68580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Основанием прямой треугольной призмы служит прямоугольный треугольник с катетами 3 см и 4 см, высота призмы равна 10 см. Найдите площадь поверхности данной приз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914400" y="5410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132 см</a:t>
            </a:r>
            <a:r>
              <a:rPr b="0" lang="ru-RU" sz="28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3352680" y="2514600"/>
            <a:ext cx="250056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6:10:49Z</dcterms:created>
  <dc:creator>*</dc:creator>
  <dc:description/>
  <dc:language>en-US</dc:language>
  <cp:lastModifiedBy>Юрий</cp:lastModifiedBy>
  <dcterms:modified xsi:type="dcterms:W3CDTF">2013-03-18T07:07:50Z</dcterms:modified>
  <cp:revision>30</cp:revision>
  <dc:subject/>
  <dc:title>Объем фигур в пространстве</dc:title>
</cp:coreProperties>
</file>