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25E2-7AF8-425F-A817-3029BDA86D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1C80-E3DD-494E-986E-C1EEBC0A64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D434-E33C-42C6-B4F7-5E016F62DE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6BC8-55A4-45E0-A515-0FC4B5BDC4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570-AB92-4030-8C2D-09C8D9CE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FE5-3A5A-4047-816B-A8981939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530-F2C6-4D41-B394-6FAA37D6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31C-8E22-42B7-AF9E-1AD80F13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D8F-6EAA-4357-B271-76F7D94E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7B7-D953-4862-A427-1ED44FDF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188-A01C-41BB-A112-895ADAD2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4E5-3C73-4DDA-90BE-DD7FE767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270-644C-4376-AD2F-E02A0DE1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FF2-0046-4209-8843-2EB65A78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243-2C7B-44ED-ACB9-2E97A442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516-5CAE-460F-8F90-E887A87F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7412-1B8E-429A-A70B-C7B2141266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457200" y="685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Чему равна площадь поверхности куба с ребром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2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36" descr=""/>
          <p:cNvPicPr/>
          <p:nvPr/>
        </p:nvPicPr>
        <p:blipFill>
          <a:blip r:embed="rId1"/>
          <a:stretch/>
        </p:blipFill>
        <p:spPr>
          <a:xfrm>
            <a:off x="3278160" y="2135160"/>
            <a:ext cx="25862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57200" y="685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айдите площадь боковой поверхности правильной шестиугольной призмы, сторона основания которой равна 5 см, а высота 10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300 см</a:t>
            </a:r>
            <a:r>
              <a:rPr b="0" lang="ru-RU" sz="28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4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57200" y="6858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Основанием прямой треугольной призмы служит прямоугольный треугольник с катетами 3 см и 4 см, высота призмы равна 10 см. Найдите площадь поверхности данной пр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132 см</a:t>
            </a:r>
            <a:r>
              <a:rPr b="0" lang="ru-RU" sz="28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5005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6:10:49Z</dcterms:created>
  <dc:creator>*</dc:creator>
  <dc:description/>
  <dc:language>en-US</dc:language>
  <cp:lastModifiedBy>Юрий</cp:lastModifiedBy>
  <dcterms:modified xsi:type="dcterms:W3CDTF">2013-03-18T07:07:50Z</dcterms:modified>
  <cp:revision>30</cp:revision>
  <dc:subject/>
  <dc:title>Объем фигур в пространстве</dc:title>
</cp:coreProperties>
</file>