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3724-24F2-470B-A7D4-45E8BA93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A92-0F5B-4081-B8DA-6D21D438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FEE-A287-43DE-8E25-F3EDD01E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2C8-2028-40AB-97B4-C4A0DE12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0A61-6721-49C0-A3FF-B5A14C10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8D9-27A6-484E-A768-FE45927C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05B-59AA-485C-85F3-F4FD7BF0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581C-EC48-4CEF-B655-C2B7386B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6E04-BC9C-4D31-9430-C04D00EB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C800-3657-4AD4-97BD-8CD9D03B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62C6-3F4A-4A91-BFFD-FBD3BC5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E50-4FE6-460D-8E46-678C48CC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BA1-F2DF-4BFB-83E6-FE7ED5A0F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Arial"/>
              </a:rPr>
              <a:t>Тема: 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составных уравнений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058920" y="1341000"/>
            <a:ext cx="425916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628640" y="1341360"/>
            <a:ext cx="14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48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143080" y="114300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32000" y="2276640"/>
            <a:ext cx="446436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15: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1554120" y="220500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2274840" y="299736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3786120" y="3071880"/>
            <a:ext cx="2232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=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2710800" y="3860640"/>
            <a:ext cx="20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5+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2778480" y="4724280"/>
            <a:ext cx="13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=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071800" y="19288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1692360" y="40464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(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у-4</a:t>
            </a: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0033cc"/>
                </a:solidFill>
                <a:latin typeface="Arial"/>
              </a:rPr>
              <a:t>·3=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268360" y="26028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203640" y="260280"/>
            <a:ext cx="35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5" descr="http://festival.1september.ru/articles/505630/img1.gif"/>
          <p:cNvPicPr/>
          <p:nvPr/>
        </p:nvPicPr>
        <p:blipFill>
          <a:blip r:embed="rId1"/>
          <a:stretch/>
        </p:blipFill>
        <p:spPr>
          <a:xfrm>
            <a:off x="1500120" y="1071720"/>
            <a:ext cx="6286680" cy="54291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6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Black"/>
              </a:rPr>
              <a:t>Алгоритм решения составных уравн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716000" y="836640"/>
            <a:ext cx="2746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разбить данные записи на группы и обосновать своё решени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· 9 = 63                   в  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: 18                         20 · у + 50 = 8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+б      45 · 2             а+6 – 45 · 2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7"/>
          <p:cNvSpPr/>
          <p:nvPr/>
        </p:nvSpPr>
        <p:spPr>
          <a:xfrm>
            <a:off x="1428840" y="4000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4714920" y="2857680"/>
            <a:ext cx="35712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раже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1500120" y="1357200"/>
            <a:ext cx="478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 : 18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2357280" y="2357280"/>
            <a:ext cx="492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а+6 –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2571840" y="1571760"/>
            <a:ext cx="471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7 · 9 = 6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500120" y="257184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20 · у + 50 = 89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равен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1428840" y="1357200"/>
            <a:ext cx="585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</a:rPr>
              <a:t>а+б        45 · 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3000240" y="1428840"/>
            <a:ext cx="914400" cy="5713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2214720" y="2428920"/>
            <a:ext cx="418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в         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3000240" y="2571840"/>
            <a:ext cx="91440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1000"/>
          </a:bodyPr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</a:rPr>
              <a:t>+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74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a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2)</a:t>
            </a:r>
            <a:r>
              <a:rPr b="0" lang="ru-RU" sz="7200" spc="-1" strike="noStrike">
                <a:solidFill>
                  <a:srgbClr val="0033cc"/>
                </a:solidFill>
                <a:latin typeface="Arial"/>
              </a:rPr>
              <a:t>-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2195640" y="1484280"/>
            <a:ext cx="640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у-4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7200" spc="-1" strike="noStrike">
                <a:solidFill>
                  <a:srgbClr val="0066ff"/>
                </a:solidFill>
                <a:latin typeface="Arial"/>
              </a:rPr>
              <a:t>·3=1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Arial"/>
              </a:rPr>
              <a:t>Научиться находить корень составного уравн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1.Читаю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2.Расставлю порядок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3.Нахожу последнее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4.Нахожу выражение с переме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5.Закрою выражение с переменной </a:t>
            </a:r>
            <a:r>
              <a:rPr b="1" lang="ru-RU" sz="3200" spc="-1" strike="noStrike">
                <a:solidFill>
                  <a:srgbClr val="ff0000"/>
                </a:solidFill>
                <a:latin typeface="Cricket"/>
              </a:rPr>
              <a:t>Х</a:t>
            </a: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ricket"/>
              </a:rPr>
              <a:t>6.Решаю прост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09:22:38Z</dcterms:created>
  <dc:creator>User</dc:creator>
  <dc:description/>
  <dc:language>en-US</dc:language>
  <cp:lastModifiedBy>Елена</cp:lastModifiedBy>
  <dcterms:modified xsi:type="dcterms:W3CDTF">2013-03-19T06:23:08Z</dcterms:modified>
  <cp:revision>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