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6E8EC-42EE-47E4-BF06-57F3630F635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9920B-8E8A-4417-A117-5D46C2BF781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 появляе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9FC59-BC8A-4180-8519-60B0FBAE516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 появляе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00BF1-B277-452D-A4AC-596D548524C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 появляе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AD3F2-E9AC-457D-83DE-F3979816D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14424-2009-4265-A460-A73B5EF5F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A1050-97C8-4634-A455-D675135CB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98D0E-8762-40F4-B6E4-24535F257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2D27E-DFC1-4130-BDA0-96114C8BE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D0BF5-ACFC-4576-BDC1-7FA7FDE82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41414-19CA-4707-91B1-41DE5CD72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755FE-A781-4AC2-9465-43DE0302B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EA9A8-902A-4F5A-A799-B8E7FAEF6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394C5-BE2C-4C53-880B-D28CA6353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4B70E-33CC-4FEE-9702-C48A1E91F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D4593-4B4F-4611-B9D3-C06B630D0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D871C-385D-4477-AB18-13BA9BA016B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Times New Roman"/>
              </a:rPr>
              <a:t>задан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1027"/>
          <p:cNvSpPr/>
          <p:nvPr/>
        </p:nvSpPr>
        <p:spPr>
          <a:xfrm>
            <a:off x="457200" y="68580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Чему равна площадь поверхности куба с ребром 1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032"/>
          <p:cNvSpPr/>
          <p:nvPr/>
        </p:nvSpPr>
        <p:spPr>
          <a:xfrm>
            <a:off x="914400" y="5410080"/>
            <a:ext cx="304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Ответ: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6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1036" descr=""/>
          <p:cNvPicPr/>
          <p:nvPr/>
        </p:nvPicPr>
        <p:blipFill>
          <a:blip r:embed="rId1"/>
          <a:stretch/>
        </p:blipFill>
        <p:spPr>
          <a:xfrm>
            <a:off x="3278160" y="2135160"/>
            <a:ext cx="2586240" cy="25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Times New Roman"/>
              </a:rPr>
              <a:t>задан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457200" y="685800"/>
            <a:ext cx="8458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Найдите площадь боковой поверхности правильной шестиугольной призмы, сторона основания которой равна 5 см, а высота 10 см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6"/>
          <p:cNvSpPr/>
          <p:nvPr/>
        </p:nvSpPr>
        <p:spPr>
          <a:xfrm>
            <a:off x="914400" y="5410080"/>
            <a:ext cx="304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Ответ: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 300 см</a:t>
            </a:r>
            <a:r>
              <a:rPr b="0" lang="ru-RU" sz="2800" spc="-1" strike="noStrike" baseline="30000">
                <a:solidFill>
                  <a:srgbClr val="00cc99"/>
                </a:solidFill>
                <a:latin typeface="Times New Roman"/>
              </a:rPr>
              <a:t>2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14" descr=""/>
          <p:cNvPicPr/>
          <p:nvPr/>
        </p:nvPicPr>
        <p:blipFill>
          <a:blip r:embed="rId1"/>
          <a:stretch/>
        </p:blipFill>
        <p:spPr>
          <a:xfrm>
            <a:off x="3429000" y="2362320"/>
            <a:ext cx="2340000" cy="27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Times New Roman"/>
              </a:rPr>
              <a:t>задан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457200" y="685800"/>
            <a:ext cx="84582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Основанием прямой треугольной призмы служит прямоугольный треугольник с катетами 3 см и 4 см, высота призмы равна 10 см. Найдите площадь поверхности данной призмы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914400" y="5410080"/>
            <a:ext cx="304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Ответ: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 132 см</a:t>
            </a:r>
            <a:r>
              <a:rPr b="0" lang="ru-RU" sz="2800" spc="-1" strike="noStrike" baseline="30000">
                <a:solidFill>
                  <a:srgbClr val="00cc99"/>
                </a:solidFill>
                <a:latin typeface="Times New Roman"/>
              </a:rPr>
              <a:t>2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6" descr=""/>
          <p:cNvPicPr/>
          <p:nvPr/>
        </p:nvPicPr>
        <p:blipFill>
          <a:blip r:embed="rId1"/>
          <a:stretch/>
        </p:blipFill>
        <p:spPr>
          <a:xfrm>
            <a:off x="3352680" y="2514600"/>
            <a:ext cx="2500560" cy="26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6:10:49Z</dcterms:created>
  <dc:creator>*</dc:creator>
  <dc:description/>
  <dc:language>en-US</dc:language>
  <cp:lastModifiedBy>Юрий</cp:lastModifiedBy>
  <dcterms:modified xsi:type="dcterms:W3CDTF">2013-03-18T07:07:50Z</dcterms:modified>
  <cp:revision>30</cp:revision>
  <dc:subject/>
  <dc:title>Объем фигур в пространстве</dc:title>
</cp:coreProperties>
</file>