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BAB-23E2-47DD-BCCF-3166FE80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917-E1F0-4D94-9A5E-1F26853D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CAC-A096-4062-9186-E8B4EDDC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CA0-7F51-4D2D-8FC6-3330C3B3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688-88A4-4FD6-8B4A-088E135F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779-3B92-4854-9874-2F65B78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1BE-38F4-4647-810D-BF384F3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C17-3379-4B60-B629-8A7AC8E7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A84-A5D2-4686-A111-4ADED1E9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2DC-63EB-4789-933A-8C2930D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1D9-D30E-458C-9445-CF8DD5A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93A-78A8-4D72-B11C-AF6802C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67C9-88E4-42E8-9547-C7536B212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Arial"/>
              </a:rPr>
              <a:t>Тема: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составных уравн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425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28640" y="134136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43080" y="1143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32000" y="2276640"/>
            <a:ext cx="4464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54120" y="220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27484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786120" y="3071880"/>
            <a:ext cx="2232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710800" y="38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778480" y="472428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0718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692360" y="40464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268360" y="26028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203640" y="260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5" descr="http://festival.1september.ru/articles/505630/img1.gif"/>
          <p:cNvPicPr/>
          <p:nvPr/>
        </p:nvPicPr>
        <p:blipFill>
          <a:blip r:embed="rId1"/>
          <a:stretch/>
        </p:blipFill>
        <p:spPr>
          <a:xfrm>
            <a:off x="1500120" y="1071720"/>
            <a:ext cx="6286680" cy="54291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6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Алгоритм решения составных урав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274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бить данные записи на группы и обосновать своё реш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· 9 = 63                   в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: 18                         20 · у + 50 = 8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б      45 · 2             а+6 – 45 · 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428840" y="4000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4714920" y="2857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 :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357280" y="23572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+6 –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71840" y="157176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7 · 9 = 6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500120" y="2571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20 · у + 50 = 89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1428840" y="135720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+б       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000240" y="1428840"/>
            <a:ext cx="914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214720" y="24289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    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000240" y="2571840"/>
            <a:ext cx="9144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95640" y="148428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у-4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7200" spc="-1" strike="noStrike">
                <a:solidFill>
                  <a:srgbClr val="0066ff"/>
                </a:solidFill>
                <a:latin typeface="Arial"/>
              </a:rPr>
              <a:t>·3=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аучиться находить корень составного урав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1.Читаю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2.Расставлю порядок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3.Нахожу последне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4.Нахожу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5.Закрою выражение с переменной </a:t>
            </a:r>
            <a:r>
              <a:rPr b="1" lang="ru-RU" sz="3200" spc="-1" strike="noStrike">
                <a:solidFill>
                  <a:srgbClr val="ff0000"/>
                </a:solidFill>
                <a:latin typeface="Cricket"/>
              </a:rPr>
              <a:t>Х</a:t>
            </a: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6.Решаю прост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22:38Z</dcterms:created>
  <dc:creator>User</dc:creator>
  <dc:description/>
  <dc:language>en-US</dc:language>
  <cp:lastModifiedBy>Елена</cp:lastModifiedBy>
  <dcterms:modified xsi:type="dcterms:W3CDTF">2013-03-19T06:23:0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