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8D8-20C6-4D0A-8E6B-4F2A252E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ED50-F628-4AE1-AB28-12D53DBD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82FB-D325-4595-84F0-4EC62839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E96-76B6-4507-BB7F-294654EE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D4E-56E5-4F9B-AF6C-11A62F41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328-A099-4684-AFAE-FFBD4E7F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08C-C8F6-4DBE-A4F2-D84EDE24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4DFC-F922-403A-9B8E-E6363BFE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BFD9-E9F2-4767-855B-C1000C82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E924-839E-4B94-BC81-A7010FEE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575B-5FD2-4F88-906B-1047E686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7CD-9206-4300-B035-9F41515F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5BA5-818A-4395-9C53-750DDE3B1D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cc"/>
                </a:solidFill>
                <a:latin typeface="Arial"/>
              </a:rPr>
              <a:t>Тема: 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составных уравнени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58920" y="1341000"/>
            <a:ext cx="4259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·3=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628640" y="1341360"/>
            <a:ext cx="143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у-4</a:t>
            </a: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143080" y="114300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3132000" y="2276640"/>
            <a:ext cx="44643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=15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1554120" y="220500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2274840" y="299736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3786120" y="3071880"/>
            <a:ext cx="22320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=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2710800" y="386064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=5+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2778480" y="4724280"/>
            <a:ext cx="13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=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071800" y="192888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1692360" y="404640"/>
            <a:ext cx="64087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-4</a:t>
            </a: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·3=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2268360" y="260280"/>
            <a:ext cx="3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203640" y="26028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5" descr="http://festival.1september.ru/articles/505630/img1.gif"/>
          <p:cNvPicPr/>
          <p:nvPr/>
        </p:nvPicPr>
        <p:blipFill>
          <a:blip r:embed="rId1"/>
          <a:stretch/>
        </p:blipFill>
        <p:spPr>
          <a:xfrm>
            <a:off x="1500120" y="1071720"/>
            <a:ext cx="6286680" cy="54291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6"/>
          <p:cNvSpPr/>
          <p:nvPr/>
        </p:nvSpPr>
        <p:spPr>
          <a:xfrm>
            <a:off x="714240" y="28584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 Black"/>
              </a:rPr>
              <a:t>Алгоритм решения составных уравн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16000" y="836640"/>
            <a:ext cx="2746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разбить данные записи на группы и обосновать своё решени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· 9 = 63                   в     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: 18                         20 · у + 50 = 89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+б      45 · 2             а+6 – 45 · 2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1428840" y="4000680"/>
            <a:ext cx="35712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4714920" y="2857680"/>
            <a:ext cx="35712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ра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1500120" y="1357200"/>
            <a:ext cx="478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а : 1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2357280" y="2357280"/>
            <a:ext cx="492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а+6 – 45 · 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вен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571840" y="1571760"/>
            <a:ext cx="471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7 · 9 = 6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500120" y="2571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20 · у + 50 = 890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равен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1428840" y="1357200"/>
            <a:ext cx="58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а+б        45 · 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3000240" y="1428840"/>
            <a:ext cx="91440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2214720" y="2428920"/>
            <a:ext cx="418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в          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3000240" y="2571840"/>
            <a:ext cx="914400" cy="50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1000"/>
          </a:bodyPr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2195640" y="1484280"/>
            <a:ext cx="64087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у-4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7200" spc="-1" strike="noStrike">
                <a:solidFill>
                  <a:srgbClr val="0066ff"/>
                </a:solidFill>
                <a:latin typeface="Arial"/>
              </a:rPr>
              <a:t>·3=1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Научиться находить корень составного уравн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1.Читаю урав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2.Расставлю порядок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3.Нахожу последнее дейст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4.Нахожу выражение с переме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5.Закрою выражение с переменной </a:t>
            </a:r>
            <a:r>
              <a:rPr b="1" lang="ru-RU" sz="3200" spc="-1" strike="noStrike">
                <a:solidFill>
                  <a:srgbClr val="ff0000"/>
                </a:solidFill>
                <a:latin typeface="Cricket"/>
              </a:rPr>
              <a:t>Х</a:t>
            </a: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6.Решаю простое урав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9:22:38Z</dcterms:created>
  <dc:creator>User</dc:creator>
  <dc:description/>
  <dc:language>en-US</dc:language>
  <cp:lastModifiedBy>Елена</cp:lastModifiedBy>
  <dcterms:modified xsi:type="dcterms:W3CDTF">2013-03-19T06:23:08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