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355-FCF6-4396-BF3F-C09B1891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E18-C162-48CE-B3E3-3DDFF850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AB4-E017-462A-AD9A-5E92EE88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B95-4D73-4A1F-B8E3-A82F2716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9A6-8F0F-4081-BB1D-FF01BB04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5D0-4C95-441B-B9F7-D6CFC63C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DBD-9AB6-45DB-97F3-AEA5297A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E4B-2C0F-4D5E-A03A-5061CF6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E94-5355-417D-A341-33C166E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6D4-540F-411F-AF96-0E7C8CD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F3D-9738-4666-9016-60016F0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22D-AF75-4135-8BEF-D8D2AA0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7DB7-47A6-4B62-BBC9-1D7F3A6D9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22"/>
          <p:cNvGrpSpPr/>
          <p:nvPr/>
        </p:nvGrpSpPr>
        <p:grpSpPr>
          <a:xfrm>
            <a:off x="785880" y="785880"/>
            <a:ext cx="7993080" cy="5688000"/>
            <a:chOff x="785880" y="785880"/>
            <a:chExt cx="7993080" cy="5688000"/>
          </a:xfrm>
        </p:grpSpPr>
        <p:sp>
          <p:nvSpPr>
            <p:cNvPr id="42" name="Text Box 5"/>
            <p:cNvSpPr/>
            <p:nvPr/>
          </p:nvSpPr>
          <p:spPr>
            <a:xfrm>
              <a:off x="2298600" y="785880"/>
              <a:ext cx="41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ЛОСК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7"/>
            <p:cNvSpPr/>
            <p:nvPr/>
          </p:nvSpPr>
          <p:spPr>
            <a:xfrm>
              <a:off x="2298600" y="1506600"/>
              <a:ext cx="446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МНОГОУГОЛЬН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1217520" y="237024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5610240" y="21542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930240" y="3233880"/>
              <a:ext cx="1439640" cy="865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1"/>
            <p:cNvSpPr/>
            <p:nvPr/>
          </p:nvSpPr>
          <p:spPr>
            <a:xfrm>
              <a:off x="2874960" y="3954600"/>
              <a:ext cx="1800000" cy="1081080"/>
            </a:xfrm>
            <a:custGeom>
              <a:avLst/>
              <a:gdLst>
                <a:gd name="textAreaLeft" fmla="*/ 374760 w 1800000"/>
                <a:gd name="textAreaRight" fmla="*/ 1425240 w 1800000"/>
                <a:gd name="textAreaTop" fmla="*/ 225000 h 1081080"/>
                <a:gd name="textAreaBottom" fmla="*/ 85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2"/>
            <p:cNvSpPr/>
            <p:nvPr/>
          </p:nvSpPr>
          <p:spPr>
            <a:xfrm>
              <a:off x="785880" y="4818240"/>
              <a:ext cx="1655640" cy="129528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3"/>
            <p:cNvSpPr/>
            <p:nvPr/>
          </p:nvSpPr>
          <p:spPr>
            <a:xfrm>
              <a:off x="3090960" y="5394600"/>
              <a:ext cx="1368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>
              <a:off x="6475680" y="3954600"/>
              <a:ext cx="1439640" cy="9363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>
              <a:off x="6907320" y="5394600"/>
              <a:ext cx="1800000" cy="936360"/>
            </a:xfrm>
            <a:prstGeom prst="plus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23"/>
            <p:cNvGrpSpPr/>
            <p:nvPr/>
          </p:nvGrpSpPr>
          <p:grpSpPr>
            <a:xfrm>
              <a:off x="4601880" y="4098960"/>
              <a:ext cx="2016360" cy="398880"/>
              <a:chOff x="4601880" y="4098960"/>
              <a:chExt cx="2016360" cy="398880"/>
            </a:xfrm>
          </p:grpSpPr>
          <p:sp>
            <p:nvSpPr>
              <p:cNvPr id="53" name="Text Box 16"/>
              <p:cNvSpPr/>
              <p:nvPr/>
            </p:nvSpPr>
            <p:spPr>
              <a:xfrm>
                <a:off x="5033880" y="4098960"/>
                <a:ext cx="136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торо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8"/>
              <p:cNvSpPr/>
              <p:nvPr/>
            </p:nvSpPr>
            <p:spPr>
              <a:xfrm flipV="1">
                <a:off x="6114960" y="4170240"/>
                <a:ext cx="503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9"/>
              <p:cNvSpPr/>
              <p:nvPr/>
            </p:nvSpPr>
            <p:spPr>
              <a:xfrm flipH="1" flipV="1">
                <a:off x="4601880" y="4170240"/>
                <a:ext cx="43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24"/>
            <p:cNvGrpSpPr/>
            <p:nvPr/>
          </p:nvGrpSpPr>
          <p:grpSpPr>
            <a:xfrm>
              <a:off x="4241880" y="4891320"/>
              <a:ext cx="2233440" cy="541440"/>
              <a:chOff x="4241880" y="4891320"/>
              <a:chExt cx="2233440" cy="541440"/>
            </a:xfrm>
          </p:grpSpPr>
          <p:sp>
            <p:nvSpPr>
              <p:cNvPr id="57" name="Text Box 17"/>
              <p:cNvSpPr/>
              <p:nvPr/>
            </p:nvSpPr>
            <p:spPr>
              <a:xfrm>
                <a:off x="5106960" y="5033880"/>
                <a:ext cx="136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ерши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 flipV="1">
                <a:off x="6186600" y="4891320"/>
                <a:ext cx="28872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2"/>
              <p:cNvSpPr/>
              <p:nvPr/>
            </p:nvSpPr>
            <p:spPr>
              <a:xfrm flipH="1" flipV="1">
                <a:off x="4241880" y="5033520"/>
                <a:ext cx="9367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26"/>
            <p:cNvSpPr/>
            <p:nvPr/>
          </p:nvSpPr>
          <p:spPr>
            <a:xfrm>
              <a:off x="4962600" y="5538960"/>
              <a:ext cx="2016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2146320" y="1000080"/>
            <a:ext cx="58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862560" y="2428920"/>
            <a:ext cx="63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Что использовали для «открыт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х знан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76520" y="400068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 достигли поставленной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788040" y="521496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вы оцените свою работу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3571560"/>
            <a:ext cx="75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27,30;229(б),модель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5848200" y="270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71800" y="50004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214800" y="1420920"/>
            <a:ext cx="39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500120" y="2071800"/>
            <a:ext cx="1859040" cy="1079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>
                  <a:alpha val="85098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357200" y="4000680"/>
            <a:ext cx="1357560" cy="1350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75294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716280" y="3311640"/>
            <a:ext cx="1357200" cy="162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6643800" y="1928880"/>
            <a:ext cx="1928880" cy="121608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5" y="0"/>
                </a:lnTo>
                <a:lnTo>
                  <a:pt x="21600" y="10800"/>
                </a:lnTo>
                <a:lnTo>
                  <a:pt x="16495" y="21600"/>
                </a:lnTo>
                <a:lnTo>
                  <a:pt x="0" y="21600"/>
                </a:lnTo>
                <a:lnTo>
                  <a:pt x="5105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>
                  <a:alpha val="45098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5929200" y="3929040"/>
            <a:ext cx="1928880" cy="1351080"/>
          </a:xfrm>
          <a:prstGeom prst="upArrowCallout">
            <a:avLst>
              <a:gd name="adj1" fmla="val 33764"/>
              <a:gd name="adj2" fmla="val 33761"/>
              <a:gd name="adj3" fmla="val 16667"/>
              <a:gd name="adj4" fmla="val 66660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63137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787400" y="344808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5929200" y="3378240"/>
            <a:ext cx="24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2440080" y="5665680"/>
            <a:ext cx="19188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1500120" y="5572080"/>
            <a:ext cx="62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верхность, составленную из многоугольников и ограничивающую некоторое геометрическое тело, называют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НОГОГРАН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32"/>
          <p:cNvGrpSpPr/>
          <p:nvPr/>
        </p:nvGrpSpPr>
        <p:grpSpPr>
          <a:xfrm>
            <a:off x="785880" y="1000080"/>
            <a:ext cx="8105760" cy="5790600"/>
            <a:chOff x="785880" y="1000080"/>
            <a:chExt cx="8105760" cy="5790600"/>
          </a:xfrm>
        </p:grpSpPr>
        <p:sp>
          <p:nvSpPr>
            <p:cNvPr id="73" name="Text Box 5"/>
            <p:cNvSpPr/>
            <p:nvPr/>
          </p:nvSpPr>
          <p:spPr>
            <a:xfrm>
              <a:off x="1500120" y="1000080"/>
              <a:ext cx="722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Элементы многогранн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8"/>
            <p:cNvSpPr/>
            <p:nvPr/>
          </p:nvSpPr>
          <p:spPr>
            <a:xfrm>
              <a:off x="6031080" y="2103120"/>
              <a:ext cx="2860560" cy="2155680"/>
            </a:xfrm>
            <a:prstGeom prst="hexagon">
              <a:avLst>
                <a:gd name="adj" fmla="val 33193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>
                    <a:alpha val="87058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785880" y="2038320"/>
              <a:ext cx="3201840" cy="163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7"/>
            <p:cNvGrpSpPr/>
            <p:nvPr/>
          </p:nvGrpSpPr>
          <p:grpSpPr>
            <a:xfrm>
              <a:off x="3238560" y="1972080"/>
              <a:ext cx="3814560" cy="913680"/>
              <a:chOff x="3238560" y="1972080"/>
              <a:chExt cx="3814560" cy="913680"/>
            </a:xfrm>
          </p:grpSpPr>
          <p:sp>
            <p:nvSpPr>
              <p:cNvPr id="77" name="Text Box 11"/>
              <p:cNvSpPr/>
              <p:nvPr/>
            </p:nvSpPr>
            <p:spPr>
              <a:xfrm>
                <a:off x="4327200" y="1972080"/>
                <a:ext cx="13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гран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3"/>
              <p:cNvSpPr/>
              <p:nvPr/>
            </p:nvSpPr>
            <p:spPr>
              <a:xfrm flipH="1">
                <a:off x="3238560" y="2234160"/>
                <a:ext cx="115776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5145840" y="2234160"/>
                <a:ext cx="1907280" cy="65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8"/>
            <p:cNvSpPr/>
            <p:nvPr/>
          </p:nvSpPr>
          <p:spPr>
            <a:xfrm>
              <a:off x="4357800" y="3735720"/>
              <a:ext cx="15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ш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 flipH="1" flipV="1">
              <a:off x="4122720" y="3866400"/>
              <a:ext cx="34092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 flipV="1">
              <a:off x="4122720" y="3866400"/>
              <a:ext cx="34092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6240" y="3996360"/>
              <a:ext cx="74916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 flipV="1">
              <a:off x="5895360" y="3408840"/>
              <a:ext cx="272448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 flipH="1" flipV="1">
              <a:off x="3783240" y="3931200"/>
              <a:ext cx="74916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5"/>
            <p:cNvSpPr/>
            <p:nvPr/>
          </p:nvSpPr>
          <p:spPr>
            <a:xfrm flipH="1" flipV="1">
              <a:off x="3987720" y="2494440"/>
              <a:ext cx="54504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H="1" flipV="1">
              <a:off x="3918960" y="2494440"/>
              <a:ext cx="61416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8"/>
            <p:cNvGrpSpPr/>
            <p:nvPr/>
          </p:nvGrpSpPr>
          <p:grpSpPr>
            <a:xfrm>
              <a:off x="3714120" y="2821680"/>
              <a:ext cx="2315880" cy="522000"/>
              <a:chOff x="3714120" y="2821680"/>
              <a:chExt cx="2315880" cy="522000"/>
            </a:xfrm>
          </p:grpSpPr>
          <p:sp>
            <p:nvSpPr>
              <p:cNvPr id="89" name="Text Box 15"/>
              <p:cNvSpPr/>
              <p:nvPr/>
            </p:nvSpPr>
            <p:spPr>
              <a:xfrm>
                <a:off x="4463640" y="2821680"/>
                <a:ext cx="109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РЕБР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 flipH="1">
                <a:off x="3987360" y="3017160"/>
                <a:ext cx="545040" cy="130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>
                <a:off x="5349960" y="3017160"/>
                <a:ext cx="68004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7"/>
              <p:cNvSpPr/>
              <p:nvPr/>
            </p:nvSpPr>
            <p:spPr>
              <a:xfrm flipH="1">
                <a:off x="3714120" y="3017160"/>
                <a:ext cx="81828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Line 28"/>
            <p:cNvSpPr/>
            <p:nvPr/>
          </p:nvSpPr>
          <p:spPr>
            <a:xfrm flipH="1" flipV="1">
              <a:off x="3714120" y="3866400"/>
              <a:ext cx="81828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 flipH="1" flipV="1">
              <a:off x="3783240" y="3866400"/>
              <a:ext cx="680040" cy="19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H="1" flipV="1">
              <a:off x="3783240" y="3866400"/>
              <a:ext cx="74916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990000" y="4454280"/>
              <a:ext cx="653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ГРАН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угольники, из которых составлен 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990000" y="5172480"/>
              <a:ext cx="54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РЕБР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ороны гран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1057680" y="5628960"/>
              <a:ext cx="55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ЕРШИНЫ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нцы реб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1057680" y="6086880"/>
              <a:ext cx="545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отрезок, соединяющий две вершины, не принадлежащие одной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771640" y="404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571760" y="15717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НОГОГРАННИКИ. П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11280" y="220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263700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остроить определение:         многогранника и призмы; элементов многогранника и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39640" y="45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узнать виды приз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8360" y="508464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ывести формулы для вычисления площа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й и боковой поверхностей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49"/>
          <p:cNvGrpSpPr/>
          <p:nvPr/>
        </p:nvGrpSpPr>
        <p:grpSpPr>
          <a:xfrm>
            <a:off x="571680" y="714240"/>
            <a:ext cx="8352720" cy="6158880"/>
            <a:chOff x="571680" y="714240"/>
            <a:chExt cx="8352720" cy="6158880"/>
          </a:xfrm>
        </p:grpSpPr>
        <p:sp>
          <p:nvSpPr>
            <p:cNvPr id="107" name="Text Box 2"/>
            <p:cNvSpPr/>
            <p:nvPr/>
          </p:nvSpPr>
          <p:spPr>
            <a:xfrm>
              <a:off x="3571920" y="71424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ПРИЗМ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7"/>
            <p:cNvGrpSpPr/>
            <p:nvPr/>
          </p:nvGrpSpPr>
          <p:grpSpPr>
            <a:xfrm>
              <a:off x="571680" y="3759840"/>
              <a:ext cx="3273480" cy="3113280"/>
              <a:chOff x="571680" y="3759840"/>
              <a:chExt cx="3273480" cy="3113280"/>
            </a:xfrm>
          </p:grpSpPr>
          <p:sp>
            <p:nvSpPr>
              <p:cNvPr id="109" name="AutoShape 3"/>
              <p:cNvSpPr/>
              <p:nvPr/>
            </p:nvSpPr>
            <p:spPr>
              <a:xfrm>
                <a:off x="851040" y="6194880"/>
                <a:ext cx="174024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4"/>
              <p:cNvSpPr/>
              <p:nvPr/>
            </p:nvSpPr>
            <p:spPr>
              <a:xfrm>
                <a:off x="1615320" y="4107960"/>
                <a:ext cx="174060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"/>
              <p:cNvSpPr/>
              <p:nvPr/>
            </p:nvSpPr>
            <p:spPr>
              <a:xfrm flipV="1">
                <a:off x="851040" y="459396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 flipH="1">
                <a:off x="1825200" y="5917320"/>
                <a:ext cx="68760" cy="7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 flipV="1">
                <a:off x="2591280" y="4663080"/>
                <a:ext cx="695160" cy="208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 flipV="1">
                <a:off x="1685880" y="403704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 flipH="1">
                <a:off x="851040" y="6752160"/>
                <a:ext cx="174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9"/>
              <p:cNvSpPr/>
              <p:nvPr/>
            </p:nvSpPr>
            <p:spPr>
              <a:xfrm>
                <a:off x="2500920" y="3759840"/>
                <a:ext cx="178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0"/>
              <p:cNvSpPr/>
              <p:nvPr/>
            </p:nvSpPr>
            <p:spPr>
              <a:xfrm>
                <a:off x="2312280" y="3759840"/>
                <a:ext cx="6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1"/>
              <p:cNvSpPr/>
              <p:nvPr/>
            </p:nvSpPr>
            <p:spPr>
              <a:xfrm>
                <a:off x="3217680" y="445464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2"/>
              <p:cNvSpPr/>
              <p:nvPr/>
            </p:nvSpPr>
            <p:spPr>
              <a:xfrm>
                <a:off x="1337400" y="438552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3"/>
              <p:cNvSpPr/>
              <p:nvPr/>
            </p:nvSpPr>
            <p:spPr>
              <a:xfrm>
                <a:off x="571680" y="6474240"/>
                <a:ext cx="27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4"/>
              <p:cNvSpPr/>
              <p:nvPr/>
            </p:nvSpPr>
            <p:spPr>
              <a:xfrm>
                <a:off x="2591280" y="647424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25"/>
              <p:cNvSpPr/>
              <p:nvPr/>
            </p:nvSpPr>
            <p:spPr>
              <a:xfrm>
                <a:off x="1685880" y="5917320"/>
                <a:ext cx="90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988920" y="1740240"/>
              <a:ext cx="529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гранник, составленный из двух равных многоугольников, расположенных в параллельных плоскостях, и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3913200" y="3480480"/>
              <a:ext cx="21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н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8"/>
            <p:cNvSpPr/>
            <p:nvPr/>
          </p:nvSpPr>
          <p:spPr>
            <a:xfrm>
              <a:off x="3983760" y="4246200"/>
              <a:ext cx="187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4052880" y="5429520"/>
              <a:ext cx="1880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0"/>
            <p:cNvSpPr/>
            <p:nvPr/>
          </p:nvSpPr>
          <p:spPr>
            <a:xfrm>
              <a:off x="3566160" y="5082840"/>
              <a:ext cx="285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реб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48"/>
            <p:cNvGrpSpPr/>
            <p:nvPr/>
          </p:nvGrpSpPr>
          <p:grpSpPr>
            <a:xfrm>
              <a:off x="6071400" y="2437200"/>
              <a:ext cx="2853000" cy="4003200"/>
              <a:chOff x="6071400" y="2437200"/>
              <a:chExt cx="2853000" cy="4003200"/>
            </a:xfrm>
          </p:grpSpPr>
          <p:sp>
            <p:nvSpPr>
              <p:cNvPr id="129" name="AutoShape 10"/>
              <p:cNvSpPr/>
              <p:nvPr/>
            </p:nvSpPr>
            <p:spPr>
              <a:xfrm>
                <a:off x="6489000" y="5222160"/>
                <a:ext cx="1740240" cy="1042920"/>
              </a:xfrm>
              <a:custGeom>
                <a:avLst/>
                <a:gdLst>
                  <a:gd name="textAreaLeft" fmla="*/ 362160 w 1740240"/>
                  <a:gd name="textAreaRight" fmla="*/ 1378080 w 1740240"/>
                  <a:gd name="textAreaTop" fmla="*/ 217800 h 1042920"/>
                  <a:gd name="textAreaBottom" fmla="*/ 825120 h 10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11"/>
              <p:cNvSpPr/>
              <p:nvPr/>
            </p:nvSpPr>
            <p:spPr>
              <a:xfrm>
                <a:off x="6419520" y="2785320"/>
                <a:ext cx="1740600" cy="1043280"/>
              </a:xfrm>
              <a:custGeom>
                <a:avLst/>
                <a:gdLst>
                  <a:gd name="textAreaLeft" fmla="*/ 362160 w 1740600"/>
                  <a:gd name="textAreaRight" fmla="*/ 1378440 w 1740600"/>
                  <a:gd name="textAreaTop" fmla="*/ 217800 h 1043280"/>
                  <a:gd name="textAreaBottom" fmla="*/ 825480 h 104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8855640" y="2437200"/>
                <a:ext cx="68760" cy="243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7812000" y="6196320"/>
                <a:ext cx="0" cy="6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>
                <a:off x="7812000" y="6265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5"/>
              <p:cNvSpPr/>
              <p:nvPr/>
            </p:nvSpPr>
            <p:spPr>
              <a:xfrm flipH="1" flipV="1">
                <a:off x="6419520" y="2784960"/>
                <a:ext cx="6912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6"/>
              <p:cNvSpPr/>
              <p:nvPr/>
            </p:nvSpPr>
            <p:spPr>
              <a:xfrm flipH="1" flipV="1">
                <a:off x="8159760" y="2784960"/>
                <a:ext cx="6876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 flipH="1" flipV="1">
                <a:off x="6837120" y="3759840"/>
                <a:ext cx="70560" cy="250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8"/>
              <p:cNvSpPr/>
              <p:nvPr/>
            </p:nvSpPr>
            <p:spPr>
              <a:xfrm flipH="1" flipV="1">
                <a:off x="7742520" y="3828960"/>
                <a:ext cx="68760" cy="24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6211080" y="5013360"/>
                <a:ext cx="48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8229240" y="4942800"/>
                <a:ext cx="66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28"/>
              <p:cNvSpPr/>
              <p:nvPr/>
            </p:nvSpPr>
            <p:spPr>
              <a:xfrm>
                <a:off x="7812000" y="598788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6489000" y="6057000"/>
                <a:ext cx="6260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32"/>
              <p:cNvSpPr/>
              <p:nvPr/>
            </p:nvSpPr>
            <p:spPr>
              <a:xfrm>
                <a:off x="6071400" y="2507760"/>
                <a:ext cx="90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33"/>
              <p:cNvSpPr/>
              <p:nvPr/>
            </p:nvSpPr>
            <p:spPr>
              <a:xfrm>
                <a:off x="8160120" y="2507760"/>
                <a:ext cx="7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34"/>
              <p:cNvSpPr/>
              <p:nvPr/>
            </p:nvSpPr>
            <p:spPr>
              <a:xfrm>
                <a:off x="7673760" y="3690720"/>
                <a:ext cx="83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35"/>
              <p:cNvSpPr/>
              <p:nvPr/>
            </p:nvSpPr>
            <p:spPr>
              <a:xfrm>
                <a:off x="6413040" y="36907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1"/>
              <p:cNvSpPr/>
              <p:nvPr/>
            </p:nvSpPr>
            <p:spPr>
              <a:xfrm>
                <a:off x="6489000" y="5222160"/>
                <a:ext cx="13932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2"/>
              <p:cNvSpPr/>
              <p:nvPr/>
            </p:nvSpPr>
            <p:spPr>
              <a:xfrm>
                <a:off x="6489000" y="5222160"/>
                <a:ext cx="7056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3"/>
              <p:cNvSpPr/>
              <p:nvPr/>
            </p:nvSpPr>
            <p:spPr>
              <a:xfrm>
                <a:off x="6908040" y="6265440"/>
                <a:ext cx="90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4"/>
              <p:cNvSpPr/>
              <p:nvPr/>
            </p:nvSpPr>
            <p:spPr>
              <a:xfrm flipH="1">
                <a:off x="7811640" y="5222160"/>
                <a:ext cx="417240" cy="10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5"/>
              <p:cNvSpPr/>
              <p:nvPr/>
            </p:nvSpPr>
            <p:spPr>
              <a:xfrm>
                <a:off x="6489000" y="5291280"/>
                <a:ext cx="419040" cy="97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6"/>
              <p:cNvSpPr/>
              <p:nvPr/>
            </p:nvSpPr>
            <p:spPr>
              <a:xfrm>
                <a:off x="6489000" y="5291280"/>
                <a:ext cx="419040" cy="90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51"/>
            <p:cNvSpPr/>
            <p:nvPr/>
          </p:nvSpPr>
          <p:spPr>
            <a:xfrm>
              <a:off x="6674760" y="6050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1"/>
          <p:cNvGrpSpPr/>
          <p:nvPr/>
        </p:nvGrpSpPr>
        <p:grpSpPr>
          <a:xfrm>
            <a:off x="5572080" y="2286000"/>
            <a:ext cx="2951280" cy="4143960"/>
            <a:chOff x="5572080" y="2286000"/>
            <a:chExt cx="2951280" cy="4143960"/>
          </a:xfrm>
        </p:grpSpPr>
        <p:sp>
          <p:nvSpPr>
            <p:cNvPr id="154" name="AutoShape 20"/>
            <p:cNvSpPr/>
            <p:nvPr/>
          </p:nvSpPr>
          <p:spPr>
            <a:xfrm>
              <a:off x="6003720" y="516744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1"/>
            <p:cNvSpPr/>
            <p:nvPr/>
          </p:nvSpPr>
          <p:spPr>
            <a:xfrm>
              <a:off x="5932440" y="264636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>
              <a:off x="8451720" y="2286000"/>
              <a:ext cx="71640" cy="252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 flipV="1">
              <a:off x="7372440" y="61750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7372440" y="624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 flipH="1" flipV="1">
              <a:off x="593244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6"/>
            <p:cNvSpPr/>
            <p:nvPr/>
          </p:nvSpPr>
          <p:spPr>
            <a:xfrm flipH="1" flipV="1">
              <a:off x="773280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 flipV="1">
              <a:off x="6363720" y="3654360"/>
              <a:ext cx="7308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 flipH="1" flipV="1">
              <a:off x="7300440" y="3725640"/>
              <a:ext cx="716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9"/>
            <p:cNvSpPr/>
            <p:nvPr/>
          </p:nvSpPr>
          <p:spPr>
            <a:xfrm>
              <a:off x="5716440" y="4951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0"/>
            <p:cNvSpPr/>
            <p:nvPr/>
          </p:nvSpPr>
          <p:spPr>
            <a:xfrm>
              <a:off x="7804080" y="487836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7372440" y="59594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6003720" y="603108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5572080" y="23590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7732800" y="235908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5"/>
            <p:cNvSpPr/>
            <p:nvPr/>
          </p:nvSpPr>
          <p:spPr>
            <a:xfrm>
              <a:off x="7229520" y="35830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6"/>
            <p:cNvSpPr/>
            <p:nvPr/>
          </p:nvSpPr>
          <p:spPr>
            <a:xfrm>
              <a:off x="5933520" y="358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7"/>
            <p:cNvSpPr/>
            <p:nvPr/>
          </p:nvSpPr>
          <p:spPr>
            <a:xfrm>
              <a:off x="6003720" y="5167440"/>
              <a:ext cx="144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8"/>
            <p:cNvSpPr/>
            <p:nvPr/>
          </p:nvSpPr>
          <p:spPr>
            <a:xfrm>
              <a:off x="6003720" y="5167440"/>
              <a:ext cx="7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9"/>
            <p:cNvSpPr/>
            <p:nvPr/>
          </p:nvSpPr>
          <p:spPr>
            <a:xfrm>
              <a:off x="6437160" y="6247080"/>
              <a:ext cx="93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0"/>
            <p:cNvSpPr/>
            <p:nvPr/>
          </p:nvSpPr>
          <p:spPr>
            <a:xfrm flipH="1">
              <a:off x="7372080" y="5167440"/>
              <a:ext cx="43164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1"/>
            <p:cNvSpPr/>
            <p:nvPr/>
          </p:nvSpPr>
          <p:spPr>
            <a:xfrm>
              <a:off x="6003720" y="5238720"/>
              <a:ext cx="433440" cy="100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2"/>
            <p:cNvSpPr/>
            <p:nvPr/>
          </p:nvSpPr>
          <p:spPr>
            <a:xfrm>
              <a:off x="6003720" y="5238720"/>
              <a:ext cx="43344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43"/>
          <p:cNvSpPr/>
          <p:nvPr/>
        </p:nvSpPr>
        <p:spPr>
          <a:xfrm>
            <a:off x="2143080" y="121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КЛОННАЯ П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5500800" y="642960"/>
            <a:ext cx="316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АЯ ПР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зма, в которой боковые ребра перпендикулярны к осн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0"/>
          <p:cNvGrpSpPr/>
          <p:nvPr/>
        </p:nvGrpSpPr>
        <p:grpSpPr>
          <a:xfrm>
            <a:off x="1428840" y="1571760"/>
            <a:ext cx="3386160" cy="3207240"/>
            <a:chOff x="1428840" y="1571760"/>
            <a:chExt cx="3386160" cy="3207240"/>
          </a:xfrm>
        </p:grpSpPr>
        <p:grpSp>
          <p:nvGrpSpPr>
            <p:cNvPr id="180" name="Group 4"/>
            <p:cNvGrpSpPr/>
            <p:nvPr/>
          </p:nvGrpSpPr>
          <p:grpSpPr>
            <a:xfrm>
              <a:off x="1428840" y="1571760"/>
              <a:ext cx="3386160" cy="3207240"/>
              <a:chOff x="1428840" y="1571760"/>
              <a:chExt cx="3386160" cy="3207240"/>
            </a:xfrm>
          </p:grpSpPr>
          <p:sp>
            <p:nvSpPr>
              <p:cNvPr id="181" name="AutoShape 5"/>
              <p:cNvSpPr/>
              <p:nvPr/>
            </p:nvSpPr>
            <p:spPr>
              <a:xfrm>
                <a:off x="1717920" y="4091040"/>
                <a:ext cx="180000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>
                <a:off x="2508480" y="1932120"/>
                <a:ext cx="18003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 flipV="1">
                <a:off x="1717920" y="243540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 flipH="1">
                <a:off x="2725920" y="3803760"/>
                <a:ext cx="7128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V="1">
                <a:off x="3517920" y="2506680"/>
                <a:ext cx="719280" cy="216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 flipV="1">
                <a:off x="2581560" y="185904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 flipH="1">
                <a:off x="1717920" y="4667400"/>
                <a:ext cx="180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2"/>
              <p:cNvSpPr/>
              <p:nvPr/>
            </p:nvSpPr>
            <p:spPr>
              <a:xfrm>
                <a:off x="3424320" y="157176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"/>
              <p:cNvSpPr/>
              <p:nvPr/>
            </p:nvSpPr>
            <p:spPr>
              <a:xfrm>
                <a:off x="3229200" y="157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4"/>
              <p:cNvSpPr/>
              <p:nvPr/>
            </p:nvSpPr>
            <p:spPr>
              <a:xfrm>
                <a:off x="4165920" y="229068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5"/>
              <p:cNvSpPr/>
              <p:nvPr/>
            </p:nvSpPr>
            <p:spPr>
              <a:xfrm>
                <a:off x="2221200" y="221940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6"/>
              <p:cNvSpPr/>
              <p:nvPr/>
            </p:nvSpPr>
            <p:spPr>
              <a:xfrm>
                <a:off x="1428840" y="43801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7"/>
              <p:cNvSpPr/>
              <p:nvPr/>
            </p:nvSpPr>
            <p:spPr>
              <a:xfrm>
                <a:off x="3517920" y="438012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8"/>
              <p:cNvSpPr/>
              <p:nvPr/>
            </p:nvSpPr>
            <p:spPr>
              <a:xfrm>
                <a:off x="2581560" y="380376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Line 45"/>
            <p:cNvSpPr/>
            <p:nvPr/>
          </p:nvSpPr>
          <p:spPr>
            <a:xfrm>
              <a:off x="2509920" y="2508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2509920" y="25081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2581200" y="2508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H="1">
              <a:off x="2436480" y="2508120"/>
              <a:ext cx="144360" cy="2016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49"/>
          <p:cNvSpPr/>
          <p:nvPr/>
        </p:nvSpPr>
        <p:spPr>
          <a:xfrm>
            <a:off x="684360" y="486900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змы –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пендикуляр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денный из любой точки одного основания к плоскости другого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0"/>
          <p:cNvSpPr/>
          <p:nvPr/>
        </p:nvSpPr>
        <p:spPr>
          <a:xfrm>
            <a:off x="6588000" y="3429000"/>
            <a:ext cx="71640" cy="24480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86160" y="642960"/>
            <a:ext cx="6657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АЯ ПРИЗМА –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я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нованиями которой являются правильные    многоугольни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23"/>
          <p:cNvGrpSpPr/>
          <p:nvPr/>
        </p:nvGrpSpPr>
        <p:grpSpPr>
          <a:xfrm>
            <a:off x="787320" y="2786040"/>
            <a:ext cx="1815840" cy="3416760"/>
            <a:chOff x="787320" y="2786040"/>
            <a:chExt cx="1815840" cy="3416760"/>
          </a:xfrm>
        </p:grpSpPr>
        <p:sp>
          <p:nvSpPr>
            <p:cNvPr id="203" name="AutoShape 4"/>
            <p:cNvSpPr/>
            <p:nvPr/>
          </p:nvSpPr>
          <p:spPr>
            <a:xfrm>
              <a:off x="1144440" y="5089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1144440" y="3073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V="1">
              <a:off x="2225520" y="40100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V="1">
              <a:off x="1144440" y="401004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2"/>
            <p:cNvSpPr/>
            <p:nvPr/>
          </p:nvSpPr>
          <p:spPr>
            <a:xfrm flipV="1">
              <a:off x="1649520" y="3073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7"/>
            <p:cNvSpPr/>
            <p:nvPr/>
          </p:nvSpPr>
          <p:spPr>
            <a:xfrm flipH="1">
              <a:off x="1144080" y="6026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858960" y="5738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2206800" y="580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>
              <a:off x="1576440" y="48020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5"/>
            <p:cNvSpPr/>
            <p:nvPr/>
          </p:nvSpPr>
          <p:spPr>
            <a:xfrm>
              <a:off x="78732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6"/>
            <p:cNvSpPr/>
            <p:nvPr/>
          </p:nvSpPr>
          <p:spPr>
            <a:xfrm>
              <a:off x="1576440" y="278604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215424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8"/>
            <p:cNvSpPr/>
            <p:nvPr/>
          </p:nvSpPr>
          <p:spPr>
            <a:xfrm>
              <a:off x="2152800" y="45133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24"/>
          <p:cNvGrpSpPr/>
          <p:nvPr/>
        </p:nvGrpSpPr>
        <p:grpSpPr>
          <a:xfrm>
            <a:off x="7429680" y="3571920"/>
            <a:ext cx="1223640" cy="2376360"/>
            <a:chOff x="7429680" y="3571920"/>
            <a:chExt cx="1223640" cy="2376360"/>
          </a:xfrm>
        </p:grpSpPr>
        <p:sp>
          <p:nvSpPr>
            <p:cNvPr id="217" name="Rectangle 39"/>
            <p:cNvSpPr/>
            <p:nvPr/>
          </p:nvSpPr>
          <p:spPr>
            <a:xfrm>
              <a:off x="7861320" y="3571920"/>
              <a:ext cx="792000" cy="2376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576869">
                    <a:alpha val="69019"/>
                  </a:srgbClr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42"/>
            <p:cNvSpPr/>
            <p:nvPr/>
          </p:nvSpPr>
          <p:spPr>
            <a:xfrm>
              <a:off x="7429680" y="42195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6"/>
          <p:cNvSpPr/>
          <p:nvPr/>
        </p:nvSpPr>
        <p:spPr>
          <a:xfrm>
            <a:off x="3716640" y="3857760"/>
            <a:ext cx="22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2644560" y="5357880"/>
            <a:ext cx="49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14720" y="500040"/>
            <a:ext cx="69292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№1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4+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=108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.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= 20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108 +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 = 1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57160" y="342900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к. + 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60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=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211280" y="2491920"/>
            <a:ext cx="49323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√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+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к.=(4+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+5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=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.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½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=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.=36+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7"/>
          <p:cNvSpPr/>
          <p:nvPr/>
        </p:nvSpPr>
        <p:spPr>
          <a:xfrm>
            <a:off x="2357280" y="561960"/>
            <a:ext cx="64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о: АВСАВС- прямая п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СВ=9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бок.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л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4"/>
          <p:cNvGrpSpPr/>
          <p:nvPr/>
        </p:nvGrpSpPr>
        <p:grpSpPr>
          <a:xfrm>
            <a:off x="644760" y="2111040"/>
            <a:ext cx="3165120" cy="4604400"/>
            <a:chOff x="644760" y="2111040"/>
            <a:chExt cx="3165120" cy="4604400"/>
          </a:xfrm>
        </p:grpSpPr>
        <p:sp>
          <p:nvSpPr>
            <p:cNvPr id="226" name="Text Box 15"/>
            <p:cNvSpPr/>
            <p:nvPr/>
          </p:nvSpPr>
          <p:spPr>
            <a:xfrm>
              <a:off x="2874960" y="530856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0"/>
            <p:cNvSpPr/>
            <p:nvPr/>
          </p:nvSpPr>
          <p:spPr>
            <a:xfrm rot="18514800">
              <a:off x="1405440" y="483264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1"/>
            <p:cNvSpPr/>
            <p:nvPr/>
          </p:nvSpPr>
          <p:spPr>
            <a:xfrm rot="18514800">
              <a:off x="1405440" y="231336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717480" y="401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3"/>
            <p:cNvGrpSpPr/>
            <p:nvPr/>
          </p:nvGrpSpPr>
          <p:grpSpPr>
            <a:xfrm>
              <a:off x="789480" y="5308560"/>
              <a:ext cx="2014200" cy="1046520"/>
              <a:chOff x="789480" y="5308560"/>
              <a:chExt cx="2014200" cy="1046520"/>
            </a:xfrm>
          </p:grpSpPr>
          <p:sp>
            <p:nvSpPr>
              <p:cNvPr id="231" name="Text Box 12"/>
              <p:cNvSpPr/>
              <p:nvPr/>
            </p:nvSpPr>
            <p:spPr>
              <a:xfrm>
                <a:off x="2444760" y="595620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4"/>
              <p:cNvSpPr/>
              <p:nvPr/>
            </p:nvSpPr>
            <p:spPr>
              <a:xfrm>
                <a:off x="789480" y="5308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20"/>
            <p:cNvSpPr/>
            <p:nvPr/>
          </p:nvSpPr>
          <p:spPr>
            <a:xfrm>
              <a:off x="644760" y="2932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2874960" y="27162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4"/>
            <p:cNvSpPr/>
            <p:nvPr/>
          </p:nvSpPr>
          <p:spPr>
            <a:xfrm>
              <a:off x="1703520" y="4084560"/>
              <a:ext cx="1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2084040" y="3795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2"/>
            <p:cNvSpPr/>
            <p:nvPr/>
          </p:nvSpPr>
          <p:spPr>
            <a:xfrm flipV="1">
              <a:off x="1074600" y="30765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 flipV="1">
              <a:off x="2948040" y="300528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>
              <a:off x="2155680" y="3940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02"/>
            <p:cNvGrpSpPr/>
            <p:nvPr/>
          </p:nvGrpSpPr>
          <p:grpSpPr>
            <a:xfrm>
              <a:off x="1074600" y="5595840"/>
              <a:ext cx="1305000" cy="1119600"/>
              <a:chOff x="1074600" y="5595840"/>
              <a:chExt cx="1305000" cy="111960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1219320" y="588492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8"/>
              <p:cNvSpPr/>
              <p:nvPr/>
            </p:nvSpPr>
            <p:spPr>
              <a:xfrm>
                <a:off x="2011320" y="6316560"/>
                <a:ext cx="36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95"/>
              <p:cNvSpPr/>
              <p:nvPr/>
            </p:nvSpPr>
            <p:spPr>
              <a:xfrm>
                <a:off x="1074600" y="5595840"/>
                <a:ext cx="1081080" cy="8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101"/>
            <p:cNvSpPr/>
            <p:nvPr/>
          </p:nvSpPr>
          <p:spPr>
            <a:xfrm flipH="1">
              <a:off x="2155320" y="5452920"/>
              <a:ext cx="863640" cy="10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36:34Z</dcterms:created>
  <dc:creator>Миша</dc:creator>
  <dc:description/>
  <dc:language>en-US</dc:language>
  <cp:lastModifiedBy>Юрий</cp:lastModifiedBy>
  <dcterms:modified xsi:type="dcterms:W3CDTF">2013-03-18T07:08:33Z</dcterms:modified>
  <cp:revision>24</cp:revision>
  <dc:subject/>
  <dc:title>Слайд 1</dc:title>
</cp:coreProperties>
</file>