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7AE-91C3-41E6-9EA1-B90E59B9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D32-C303-422F-9B3B-59F976A5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1FE-CFF9-4C60-8163-DE4927EF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C70-DEA3-4F3C-B4D9-B4AF2617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663-0B29-41E3-A112-5D52A72A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690-6699-40E6-A9F7-E874761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E85-B0E4-4674-ABC0-F39F7268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9AC-E898-4AE2-81F0-1E5E58E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49E-FDB5-48B6-8776-D578EAFE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5A2-7B2A-48F9-AB0D-5891C0D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DC2-AE48-4D6F-B75D-6CBDFBF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F19-D2D0-489D-A3B8-6891413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31F0-BAA4-4448-9918-8670E5BDB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Arial"/>
              </a:rPr>
              <a:t>Тема: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составных уравн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425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28640" y="134136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43080" y="1143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32000" y="2276640"/>
            <a:ext cx="4464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54120" y="220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27484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786120" y="3071880"/>
            <a:ext cx="2232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710800" y="38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778480" y="472428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0718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692360" y="40464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268360" y="26028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203640" y="260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5" descr="http://festival.1september.ru/articles/505630/img1.gif"/>
          <p:cNvPicPr/>
          <p:nvPr/>
        </p:nvPicPr>
        <p:blipFill>
          <a:blip r:embed="rId1"/>
          <a:stretch/>
        </p:blipFill>
        <p:spPr>
          <a:xfrm>
            <a:off x="1500120" y="1071720"/>
            <a:ext cx="6286680" cy="54291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6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Алгоритм решения составных урав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274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бить данные записи на группы и обосновать своё реш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· 9 = 63                   в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: 18                         20 · у + 50 = 8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б      45 · 2             а+6 – 45 · 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428840" y="4000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4714920" y="2857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 :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357280" y="23572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+6 –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71840" y="157176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7 · 9 = 6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500120" y="2571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20 · у + 50 = 89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1428840" y="135720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+б       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000240" y="1428840"/>
            <a:ext cx="914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214720" y="24289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    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000240" y="2571840"/>
            <a:ext cx="9144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95640" y="148428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у-4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7200" spc="-1" strike="noStrike">
                <a:solidFill>
                  <a:srgbClr val="0066ff"/>
                </a:solidFill>
                <a:latin typeface="Arial"/>
              </a:rPr>
              <a:t>·3=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аучиться находить корень составного урав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1.Читаю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2.Расставлю порядок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3.Нахожу последне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4.Нахожу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5.Закрою выражение с переменной </a:t>
            </a:r>
            <a:r>
              <a:rPr b="1" lang="ru-RU" sz="3200" spc="-1" strike="noStrike">
                <a:solidFill>
                  <a:srgbClr val="ff0000"/>
                </a:solidFill>
                <a:latin typeface="Cricket"/>
              </a:rPr>
              <a:t>Х</a:t>
            </a: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6.Решаю прост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22:38Z</dcterms:created>
  <dc:creator>User</dc:creator>
  <dc:description/>
  <dc:language>en-US</dc:language>
  <cp:lastModifiedBy>Елена</cp:lastModifiedBy>
  <dcterms:modified xsi:type="dcterms:W3CDTF">2013-03-19T06:23:0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