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5C6D-6FFC-4B55-B5CC-0C4C71D5C9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6495-9376-406A-AEF4-606808F1DD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02DC-728B-4387-8542-19F084C914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0658-7204-4BF0-9A40-5BFCF47343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жиме слайдов ответ появляется после кликанья мыш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A6D7-17AF-43AB-BDF5-BE3CFD18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3EB1-A359-4484-B783-34470EEB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CA7A-5971-4AF0-858F-52ED33C7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996-99C7-4BA3-BE81-FB8CE8F4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31A-9D97-4167-8C00-123BBEDC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EF5-8A9B-4AC3-9412-C150B048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F3F-C4B5-448D-9460-3B12EB4F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74A-4A8E-49F2-8259-F35CE311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0703-50C3-4A24-9660-7E27BD98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B1B-E766-4545-9109-522E43C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366-875F-4461-8C83-F02F7018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185D-9FC3-45B7-B2DB-DEB8E3C2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BBC9-670C-4E1A-9678-F67E935ADD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457200" y="6858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Чему равна площадь поверхности куба с ребром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32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6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36" descr=""/>
          <p:cNvPicPr/>
          <p:nvPr/>
        </p:nvPicPr>
        <p:blipFill>
          <a:blip r:embed="rId1"/>
          <a:stretch/>
        </p:blipFill>
        <p:spPr>
          <a:xfrm>
            <a:off x="3278160" y="2135160"/>
            <a:ext cx="258624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457200" y="6858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Найдите площадь боковой поверхности правильной шестиугольной призмы, сторона основания которой равна 5 см, а высота 10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300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4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за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457200" y="6858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Основанием прямой треугольной призмы служит прямоугольный треугольник с катетами 3 см и 4 см, высота призмы равна 10 см. Найдите площадь поверхности данной приз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14400" y="54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Ответ: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 132 см</a:t>
            </a:r>
            <a:r>
              <a:rPr b="0" lang="ru-RU" sz="2800" spc="-1" strike="noStrike" baseline="30000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cc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50056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6:10:49Z</dcterms:created>
  <dc:creator>*</dc:creator>
  <dc:description/>
  <dc:language>en-US</dc:language>
  <cp:lastModifiedBy>Юрий</cp:lastModifiedBy>
  <dcterms:modified xsi:type="dcterms:W3CDTF">2013-03-18T07:07:50Z</dcterms:modified>
  <cp:revision>30</cp:revision>
  <dc:subject/>
  <dc:title>Объем фигур в пространстве</dc:title>
</cp:coreProperties>
</file>