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57E-5F1A-4475-A344-102D8E32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7C9-E8A9-4663-9E4F-0E3A5C2B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F81-5D26-46C4-942A-541AB5CE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B9F-8B0F-45D8-ADEC-2405B62E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178-ABB3-4F4D-B327-E819FCCB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879-3B21-40E3-A4A9-8BCA8A56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FB6-81F8-4CA8-8867-DE7AE75D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F71-3B0F-4BC2-802F-FCCFD7AB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1BA-AEDD-4F05-9FD0-251CB383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CA9-B48E-4D71-9ACD-18C2B96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474-41B3-43EE-A692-C7E926A5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342-AA2D-474A-9E3F-EEF973C1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A94-E800-4E8C-BCE8-00BBF6341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fmm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РИСТА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4572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ие формы многогранников придумал не сам человек, а их создала природа в виде кристалл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поваренной сол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меют форму куба,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льд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рного хрустал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(кварца) напоминают отточенный с двух сторон карандаш, т. е. имеют форму шестиугольной призмы, на основания которой поставлены шестиугольные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442440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768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вар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Кварц"/>
          <p:cNvPicPr/>
          <p:nvPr/>
        </p:nvPicPr>
        <p:blipFill>
          <a:blip r:embed="rId1"/>
          <a:stretch/>
        </p:blipFill>
        <p:spPr>
          <a:xfrm>
            <a:off x="1600200" y="66024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S5000194"/>
          <p:cNvPicPr/>
          <p:nvPr/>
        </p:nvPicPr>
        <p:blipFill>
          <a:blip r:embed="rId1"/>
          <a:stretch/>
        </p:blipFill>
        <p:spPr>
          <a:xfrm>
            <a:off x="609480" y="85716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S5000204"/>
          <p:cNvPicPr/>
          <p:nvPr/>
        </p:nvPicPr>
        <p:blipFill>
          <a:blip r:embed="rId1"/>
          <a:stretch/>
        </p:blipFill>
        <p:spPr>
          <a:xfrm>
            <a:off x="762120" y="91440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люо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5000183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 т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, как художник или поэт, создает узоры. И если его узоры более устойчивы, то лишь потому, что они составлены из идей…»           (Г.Х.Хард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metist"/>
          <p:cNvPicPr/>
          <p:nvPr/>
        </p:nvPicPr>
        <p:blipFill>
          <a:blip r:embed="rId1"/>
          <a:stretch/>
        </p:blipFill>
        <p:spPr>
          <a:xfrm>
            <a:off x="0" y="3341520"/>
            <a:ext cx="4495680" cy="351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GEMS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757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URMAL"/>
          <p:cNvPicPr/>
          <p:nvPr/>
        </p:nvPicPr>
        <p:blipFill>
          <a:blip r:embed="rId3"/>
          <a:stretch/>
        </p:blipFill>
        <p:spPr>
          <a:xfrm>
            <a:off x="4495680" y="3751200"/>
            <a:ext cx="4648320" cy="310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6858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представлены фотографии кристаллов минералогического музея им. А.Е. Ферсмана в Москве, информацию о котором можно узнать на сайте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fmm.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ристаллы – природные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Алмаз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ьманд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S5000220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Аметист"/>
          <p:cNvPicPr/>
          <p:nvPr/>
        </p:nvPicPr>
        <p:blipFill>
          <a:blip r:embed="rId1"/>
          <a:stretch/>
        </p:blipFill>
        <p:spPr>
          <a:xfrm>
            <a:off x="1752480" y="1143000"/>
            <a:ext cx="56134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Гранат"/>
          <p:cNvPicPr/>
          <p:nvPr/>
        </p:nvPicPr>
        <p:blipFill>
          <a:blip r:embed="rId1"/>
          <a:stretch/>
        </p:blipFill>
        <p:spPr>
          <a:xfrm>
            <a:off x="1676520" y="7621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Изумруд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альц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S5000201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14:18Z</dcterms:created>
  <dc:creator>*</dc:creator>
  <dc:description/>
  <dc:language>en-US</dc:language>
  <cp:lastModifiedBy>Юрий</cp:lastModifiedBy>
  <dcterms:modified xsi:type="dcterms:W3CDTF">2013-03-18T07:09:21Z</dcterms:modified>
  <cp:revision>16</cp:revision>
  <dc:subject/>
  <dc:title>Кристаллы</dc:title>
</cp:coreProperties>
</file>