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E55-8087-4BCE-9A6D-77A0B66F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7FC-7A44-4B6A-A0FA-7B92219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B57-18D7-49ED-A3A5-2A890834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8AD-09AA-4DB7-B618-E279A8C1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FE6-5DE3-4CD3-9609-801CC6A5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DF7-FD9A-4107-8451-B736661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314-19F3-4EEE-8F04-A6FE04C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59C-FAB2-460D-8955-4B4EF01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75A-D771-42F0-ADA5-3E3BE86D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8E4-A422-48D0-8666-09DF832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699-195A-4C27-9B5F-20935D0E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749-576E-4765-9D4F-97B581F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673A-A8FF-439E-9DB0-F5E2D405C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fmm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РИС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4572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ие формы многогранников придумал не сам человек, а их создала природа в виде кристал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поваренной со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меют форму куба,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льд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рного хрустал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кварца) напоминают отточенный с двух сторон карандаш, т. е. имеют форму шестиугольной призмы, на основания которой поставлены шестиугольные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42440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768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вар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Кварц"/>
          <p:cNvPicPr/>
          <p:nvPr/>
        </p:nvPicPr>
        <p:blipFill>
          <a:blip r:embed="rId1"/>
          <a:stretch/>
        </p:blipFill>
        <p:spPr>
          <a:xfrm>
            <a:off x="1600200" y="6602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5000194"/>
          <p:cNvPicPr/>
          <p:nvPr/>
        </p:nvPicPr>
        <p:blipFill>
          <a:blip r:embed="rId1"/>
          <a:stretch/>
        </p:blipFill>
        <p:spPr>
          <a:xfrm>
            <a:off x="609480" y="85716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5000204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люо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5000183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 т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, как художник или поэт, создает узоры. И если его узоры более устойчивы, то лишь потому, что они составлены из идей…»           (Г.Х.Хард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metist"/>
          <p:cNvPicPr/>
          <p:nvPr/>
        </p:nvPicPr>
        <p:blipFill>
          <a:blip r:embed="rId1"/>
          <a:stretch/>
        </p:blipFill>
        <p:spPr>
          <a:xfrm>
            <a:off x="0" y="3341520"/>
            <a:ext cx="4495680" cy="351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EMS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URMAL"/>
          <p:cNvPicPr/>
          <p:nvPr/>
        </p:nvPicPr>
        <p:blipFill>
          <a:blip r:embed="rId3"/>
          <a:stretch/>
        </p:blipFill>
        <p:spPr>
          <a:xfrm>
            <a:off x="4495680" y="3751200"/>
            <a:ext cx="4648320" cy="31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6858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фотографии кристаллов минералогического музея им. А.Е. Ферсмана в Москве, информацию о котором можно узнать на сайт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fmm.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ристаллы – природные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Алмаз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ьманд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5000220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Аметист"/>
          <p:cNvPicPr/>
          <p:nvPr/>
        </p:nvPicPr>
        <p:blipFill>
          <a:blip r:embed="rId1"/>
          <a:stretch/>
        </p:blipFill>
        <p:spPr>
          <a:xfrm>
            <a:off x="1752480" y="1143000"/>
            <a:ext cx="5613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Гранат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Изумруд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льц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5000201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4:18Z</dcterms:created>
  <dc:creator>*</dc:creator>
  <dc:description/>
  <dc:language>en-US</dc:language>
  <cp:lastModifiedBy>Юрий</cp:lastModifiedBy>
  <dcterms:modified xsi:type="dcterms:W3CDTF">2013-03-18T07:09:21Z</dcterms:modified>
  <cp:revision>16</cp:revision>
  <dc:subject/>
  <dc:title>Кристаллы</dc:title>
</cp:coreProperties>
</file>