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777CE-B228-4D52-BCEC-BC380E014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0AA6E-61DB-4473-9234-7F20E7CAC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79322-092D-4C8F-B19A-694B48180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2CE6F-CB89-43FA-9DA1-E489B05CE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16F49-EEBB-499A-9ACA-98F6643B5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81D09-CF39-4125-AF95-FDDADF9ED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E72B7-D2D5-4419-A232-9ADD76642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02667-F17C-465B-BCC5-DED9AADEA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1467C-9175-4024-93AC-BF1587C49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9176C-27ED-4346-8A0C-0999EE395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50F71-F7F7-4114-B928-702F763EF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51365-831C-4343-A336-1E9E4A6AA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4EB27-0EB3-41D6-891F-A157C8DF091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hyperlink" Target="http://www.fmm.ru/" TargetMode="External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КРИСТАЛЛ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0" y="457200"/>
            <a:ext cx="9144000" cy="33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Многие формы многогранников придумал не сам человек, а их создала природа в виде кристаллов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Кристаллы поваренной соли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имеют форму куба, </a:t>
            </a:r>
            <a:r>
              <a:rPr b="0" lang="ru-RU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кристаллы льда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и </a:t>
            </a:r>
            <a:r>
              <a:rPr b="0" lang="ru-RU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горного хрусталя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(кварца) напоминают отточенный с двух сторон карандаш, т. е. имеют форму шестиугольной призмы, на основания которой поставлены шестиугольные пирамиды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3429000" y="3733920"/>
            <a:ext cx="4424400" cy="29527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"/>
          <p:cNvPicPr/>
          <p:nvPr/>
        </p:nvPicPr>
        <p:blipFill>
          <a:blip r:embed="rId2"/>
          <a:stretch/>
        </p:blipFill>
        <p:spPr>
          <a:xfrm>
            <a:off x="990720" y="4419720"/>
            <a:ext cx="176832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Times New Roman"/>
              </a:rPr>
              <a:t>Квар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4" descr="Кварц"/>
          <p:cNvPicPr/>
          <p:nvPr/>
        </p:nvPicPr>
        <p:blipFill>
          <a:blip r:embed="rId1"/>
          <a:stretch/>
        </p:blipFill>
        <p:spPr>
          <a:xfrm>
            <a:off x="1600200" y="660240"/>
            <a:ext cx="594360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Times New Roman"/>
              </a:rPr>
              <a:t>Пири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4" descr="S5000194"/>
          <p:cNvPicPr/>
          <p:nvPr/>
        </p:nvPicPr>
        <p:blipFill>
          <a:blip r:embed="rId1"/>
          <a:stretch/>
        </p:blipFill>
        <p:spPr>
          <a:xfrm>
            <a:off x="609480" y="857160"/>
            <a:ext cx="7848720" cy="588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Times New Roman"/>
              </a:rPr>
              <a:t>Сер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4" descr="S5000204"/>
          <p:cNvPicPr/>
          <p:nvPr/>
        </p:nvPicPr>
        <p:blipFill>
          <a:blip r:embed="rId1"/>
          <a:stretch/>
        </p:blipFill>
        <p:spPr>
          <a:xfrm>
            <a:off x="762120" y="914400"/>
            <a:ext cx="7391160" cy="55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Times New Roman"/>
              </a:rPr>
              <a:t>Флюори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4" descr="S5000183"/>
          <p:cNvPicPr/>
          <p:nvPr/>
        </p:nvPicPr>
        <p:blipFill>
          <a:blip r:embed="rId1"/>
          <a:stretch/>
        </p:blipFill>
        <p:spPr>
          <a:xfrm>
            <a:off x="762120" y="914400"/>
            <a:ext cx="7467480" cy="560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Математик так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же, как художник или поэт, создает узоры. И если его узоры более устойчивы, то лишь потому, что они составлены из идей…»           (Г.Х.Харди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Ametist"/>
          <p:cNvPicPr/>
          <p:nvPr/>
        </p:nvPicPr>
        <p:blipFill>
          <a:blip r:embed="rId1"/>
          <a:stretch/>
        </p:blipFill>
        <p:spPr>
          <a:xfrm>
            <a:off x="0" y="3341520"/>
            <a:ext cx="4495680" cy="35164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3" descr="GEMS1"/>
          <p:cNvPicPr/>
          <p:nvPr/>
        </p:nvPicPr>
        <p:blipFill>
          <a:blip r:embed="rId2"/>
          <a:stretch/>
        </p:blipFill>
        <p:spPr>
          <a:xfrm>
            <a:off x="4495680" y="0"/>
            <a:ext cx="4648320" cy="37576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4" descr="TURMAL"/>
          <p:cNvPicPr/>
          <p:nvPr/>
        </p:nvPicPr>
        <p:blipFill>
          <a:blip r:embed="rId3"/>
          <a:stretch/>
        </p:blipFill>
        <p:spPr>
          <a:xfrm>
            <a:off x="4495680" y="3751200"/>
            <a:ext cx="4648320" cy="31068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5"/>
          <p:cNvSpPr/>
          <p:nvPr/>
        </p:nvSpPr>
        <p:spPr>
          <a:xfrm>
            <a:off x="228600" y="685800"/>
            <a:ext cx="38862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десь представлены фотографии кристаллов минералогического музея им. А.Е. Ферсмана в Москве, информацию о котором можно узнать на сайте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www.fmm.r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38098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Times New Roman"/>
              </a:rPr>
              <a:t>Кристаллы – природные </a:t>
            </a:r>
            <a:br>
              <a:rPr sz="2400"/>
            </a:br>
            <a:r>
              <a:rPr b="0" lang="ru-RU" sz="2400" spc="-1" strike="noStrike">
                <a:solidFill>
                  <a:srgbClr val="ff3300"/>
                </a:solidFill>
                <a:latin typeface="Times New Roman"/>
              </a:rPr>
              <a:t>многогранник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Times New Roman"/>
              </a:rPr>
              <a:t>Алмаз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4" descr="Алмаз"/>
          <p:cNvPicPr/>
          <p:nvPr/>
        </p:nvPicPr>
        <p:blipFill>
          <a:blip r:embed="rId1"/>
          <a:stretch/>
        </p:blipFill>
        <p:spPr>
          <a:xfrm>
            <a:off x="1676520" y="914400"/>
            <a:ext cx="579096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Times New Roman"/>
              </a:rPr>
              <a:t>Альмандин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4" descr="S5000220"/>
          <p:cNvPicPr/>
          <p:nvPr/>
        </p:nvPicPr>
        <p:blipFill>
          <a:blip r:embed="rId1"/>
          <a:stretch/>
        </p:blipFill>
        <p:spPr>
          <a:xfrm>
            <a:off x="838080" y="1066680"/>
            <a:ext cx="73152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Times New Roman"/>
              </a:rPr>
              <a:t>Аметис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4" descr="Аметист"/>
          <p:cNvPicPr/>
          <p:nvPr/>
        </p:nvPicPr>
        <p:blipFill>
          <a:blip r:embed="rId1"/>
          <a:stretch/>
        </p:blipFill>
        <p:spPr>
          <a:xfrm>
            <a:off x="1752480" y="1143000"/>
            <a:ext cx="5613480" cy="561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Times New Roman"/>
              </a:rPr>
              <a:t>Грана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4" descr="Гранат"/>
          <p:cNvPicPr/>
          <p:nvPr/>
        </p:nvPicPr>
        <p:blipFill>
          <a:blip r:embed="rId1"/>
          <a:stretch/>
        </p:blipFill>
        <p:spPr>
          <a:xfrm>
            <a:off x="1676520" y="762120"/>
            <a:ext cx="594360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Times New Roman"/>
              </a:rPr>
              <a:t>Изумруд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4" descr="Изумруд"/>
          <p:cNvPicPr/>
          <p:nvPr/>
        </p:nvPicPr>
        <p:blipFill>
          <a:blip r:embed="rId1"/>
          <a:stretch/>
        </p:blipFill>
        <p:spPr>
          <a:xfrm>
            <a:off x="1752480" y="914400"/>
            <a:ext cx="5715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Times New Roman"/>
              </a:rPr>
              <a:t>Кальци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4" descr="S5000201"/>
          <p:cNvPicPr/>
          <p:nvPr/>
        </p:nvPicPr>
        <p:blipFill>
          <a:blip r:embed="rId1"/>
          <a:stretch/>
        </p:blipFill>
        <p:spPr>
          <a:xfrm>
            <a:off x="838080" y="914400"/>
            <a:ext cx="76201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8T08:14:18Z</dcterms:created>
  <dc:creator>*</dc:creator>
  <dc:description/>
  <dc:language>en-US</dc:language>
  <cp:lastModifiedBy>Юрий</cp:lastModifiedBy>
  <dcterms:modified xsi:type="dcterms:W3CDTF">2013-03-18T07:09:21Z</dcterms:modified>
  <cp:revision>16</cp:revision>
  <dc:subject/>
  <dc:title>Кристаллы</dc:title>
</cp:coreProperties>
</file>