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537-FCFE-4C69-B0CB-6524678C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426-2DE8-4793-9592-86EDE997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07C-3DAB-41F9-ADF7-B9B787D8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A28D-2815-483C-A201-8DD6806A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5E3-3B25-46E9-BEF5-F8A78580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B54-8A23-4481-B159-30B73A69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F07-5326-4829-9040-1EB0F139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78AE-DDF9-4CC8-8EC7-7958405B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0A3-9B28-4352-B11F-FB3E97C1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6A2-0BF3-4453-B374-56A09264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7409-B537-40A9-953D-37C31340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1774-CE48-4716-AC87-D1E041E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128F-FE89-4884-9C3A-69EED4D80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fmm.ru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КРИСТАЛ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45720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Многие формы многогранников придумал не сам человек, а их создала природа в виде кристалл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поваренной соли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меют форму куба,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кристаллы льда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и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рного хрусталя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(кварца) напоминают отточенный с двух сторон карандаш, т. е. имеют форму шестиугольной призмы, на основания которой поставлены шестиугольные пирамид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424400" cy="2952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768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вар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Кварц"/>
          <p:cNvPicPr/>
          <p:nvPr/>
        </p:nvPicPr>
        <p:blipFill>
          <a:blip r:embed="rId1"/>
          <a:stretch/>
        </p:blipFill>
        <p:spPr>
          <a:xfrm>
            <a:off x="1600200" y="66024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Пи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S5000194"/>
          <p:cNvPicPr/>
          <p:nvPr/>
        </p:nvPicPr>
        <p:blipFill>
          <a:blip r:embed="rId1"/>
          <a:stretch/>
        </p:blipFill>
        <p:spPr>
          <a:xfrm>
            <a:off x="609480" y="857160"/>
            <a:ext cx="784872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С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S5000204"/>
          <p:cNvPicPr/>
          <p:nvPr/>
        </p:nvPicPr>
        <p:blipFill>
          <a:blip r:embed="rId1"/>
          <a:stretch/>
        </p:blipFill>
        <p:spPr>
          <a:xfrm>
            <a:off x="762120" y="914400"/>
            <a:ext cx="7391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Флюор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S5000183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 так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е, как художник или поэт, создает узоры. И если его узоры более устойчивы, то лишь потому, что они составлены из идей…»           (Г.Х.Харди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metist"/>
          <p:cNvPicPr/>
          <p:nvPr/>
        </p:nvPicPr>
        <p:blipFill>
          <a:blip r:embed="rId1"/>
          <a:stretch/>
        </p:blipFill>
        <p:spPr>
          <a:xfrm>
            <a:off x="0" y="3341520"/>
            <a:ext cx="4495680" cy="3516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GEMS1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37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URMAL"/>
          <p:cNvPicPr/>
          <p:nvPr/>
        </p:nvPicPr>
        <p:blipFill>
          <a:blip r:embed="rId3"/>
          <a:stretch/>
        </p:blipFill>
        <p:spPr>
          <a:xfrm>
            <a:off x="4495680" y="3751200"/>
            <a:ext cx="4648320" cy="31068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8600" y="685800"/>
            <a:ext cx="3886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десь представлены фотографии кристаллов минералогического музея им. А.Е. Ферсмана в Москве, информацию о котором можно узнать на сайте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fmm.r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3809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Кристаллы – природные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многогран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ма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Алмаз"/>
          <p:cNvPicPr/>
          <p:nvPr/>
        </p:nvPicPr>
        <p:blipFill>
          <a:blip r:embed="rId1"/>
          <a:stretch/>
        </p:blipFill>
        <p:spPr>
          <a:xfrm>
            <a:off x="1676520" y="914400"/>
            <a:ext cx="5790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льманди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S5000220"/>
          <p:cNvPicPr/>
          <p:nvPr/>
        </p:nvPicPr>
        <p:blipFill>
          <a:blip r:embed="rId1"/>
          <a:stretch/>
        </p:blipFill>
        <p:spPr>
          <a:xfrm>
            <a:off x="838080" y="10666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Амети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Аметист"/>
          <p:cNvPicPr/>
          <p:nvPr/>
        </p:nvPicPr>
        <p:blipFill>
          <a:blip r:embed="rId1"/>
          <a:stretch/>
        </p:blipFill>
        <p:spPr>
          <a:xfrm>
            <a:off x="1752480" y="1143000"/>
            <a:ext cx="5613480" cy="56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Грана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Гранат"/>
          <p:cNvPicPr/>
          <p:nvPr/>
        </p:nvPicPr>
        <p:blipFill>
          <a:blip r:embed="rId1"/>
          <a:stretch/>
        </p:blipFill>
        <p:spPr>
          <a:xfrm>
            <a:off x="1676520" y="7621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Изумру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Изумруд"/>
          <p:cNvPicPr/>
          <p:nvPr/>
        </p:nvPicPr>
        <p:blipFill>
          <a:blip r:embed="rId1"/>
          <a:stretch/>
        </p:blipFill>
        <p:spPr>
          <a:xfrm>
            <a:off x="1752480" y="9144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Кальци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S5000201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08:14:18Z</dcterms:created>
  <dc:creator>*</dc:creator>
  <dc:description/>
  <dc:language>en-US</dc:language>
  <cp:lastModifiedBy>Юрий</cp:lastModifiedBy>
  <dcterms:modified xsi:type="dcterms:W3CDTF">2013-03-18T07:09:21Z</dcterms:modified>
  <cp:revision>16</cp:revision>
  <dc:subject/>
  <dc:title>Кристаллы</dc:title>
</cp:coreProperties>
</file>