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A7C-4E7B-4973-BBD5-D23EB394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866-1F67-4590-900D-B589AA8F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47B-159F-42AE-BAC5-BAE0F85A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A12-0345-437C-8A06-29A4CA7C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FCA-C2B4-45A5-B3BA-6CE283F0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EC0-7081-4B29-A352-2F63B06A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4C6-F551-45C3-8541-D3AF0281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EC5-4FD6-4BA6-AFE0-86138038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2FF-0747-44AE-8ADA-5357BDDB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9B1-641E-4FC0-867B-AFF42289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DA5-5178-4D00-AE83-EFF6F183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618-B678-4FF0-82E0-941EB4ED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09FC-A257-4887-901E-6B394B3DDF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fmm.r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РИСТА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4572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ногие формы многогранников придумал не сам человек, а их создала природа в виде кристалл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поваренной сол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меют форму куба,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льд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орного хрусталя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(кварца) напоминают отточенный с двух сторон карандаш, т. е. имеют форму шестиугольной призмы, на основания которой поставлены шестиугольные пирам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4424400" cy="295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1768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вар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Кварц"/>
          <p:cNvPicPr/>
          <p:nvPr/>
        </p:nvPicPr>
        <p:blipFill>
          <a:blip r:embed="rId1"/>
          <a:stretch/>
        </p:blipFill>
        <p:spPr>
          <a:xfrm>
            <a:off x="1600200" y="66024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и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S5000194"/>
          <p:cNvPicPr/>
          <p:nvPr/>
        </p:nvPicPr>
        <p:blipFill>
          <a:blip r:embed="rId1"/>
          <a:stretch/>
        </p:blipFill>
        <p:spPr>
          <a:xfrm>
            <a:off x="609480" y="85716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S5000204"/>
          <p:cNvPicPr/>
          <p:nvPr/>
        </p:nvPicPr>
        <p:blipFill>
          <a:blip r:embed="rId1"/>
          <a:stretch/>
        </p:blipFill>
        <p:spPr>
          <a:xfrm>
            <a:off x="762120" y="91440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Флюо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S5000183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тематик та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е, как художник или поэт, создает узоры. И если его узоры более устойчивы, то лишь потому, что они составлены из идей…»           (Г.Х.Хард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metist"/>
          <p:cNvPicPr/>
          <p:nvPr/>
        </p:nvPicPr>
        <p:blipFill>
          <a:blip r:embed="rId1"/>
          <a:stretch/>
        </p:blipFill>
        <p:spPr>
          <a:xfrm>
            <a:off x="0" y="3341520"/>
            <a:ext cx="4495680" cy="351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GEMS1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757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URMAL"/>
          <p:cNvPicPr/>
          <p:nvPr/>
        </p:nvPicPr>
        <p:blipFill>
          <a:blip r:embed="rId3"/>
          <a:stretch/>
        </p:blipFill>
        <p:spPr>
          <a:xfrm>
            <a:off x="4495680" y="3751200"/>
            <a:ext cx="4648320" cy="3106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8600" y="6858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представлены фотографии кристаллов минералогического музея им. А.Е. Ферсмана в Москве, информацию о котором можно узнать на сайте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fmm.r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Кристаллы – природные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многогран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м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Алмаз"/>
          <p:cNvPicPr/>
          <p:nvPr/>
        </p:nvPicPr>
        <p:blipFill>
          <a:blip r:embed="rId1"/>
          <a:stretch/>
        </p:blipFill>
        <p:spPr>
          <a:xfrm>
            <a:off x="1676520" y="914400"/>
            <a:ext cx="5790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ьманд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S5000220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мети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Аметист"/>
          <p:cNvPicPr/>
          <p:nvPr/>
        </p:nvPicPr>
        <p:blipFill>
          <a:blip r:embed="rId1"/>
          <a:stretch/>
        </p:blipFill>
        <p:spPr>
          <a:xfrm>
            <a:off x="1752480" y="1143000"/>
            <a:ext cx="56134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Гранат"/>
          <p:cNvPicPr/>
          <p:nvPr/>
        </p:nvPicPr>
        <p:blipFill>
          <a:blip r:embed="rId1"/>
          <a:stretch/>
        </p:blipFill>
        <p:spPr>
          <a:xfrm>
            <a:off x="1676520" y="7621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Изумру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Изумруд"/>
          <p:cNvPicPr/>
          <p:nvPr/>
        </p:nvPicPr>
        <p:blipFill>
          <a:blip r:embed="rId1"/>
          <a:stretch/>
        </p:blipFill>
        <p:spPr>
          <a:xfrm>
            <a:off x="1752480" y="9144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альц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S5000201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8:14:18Z</dcterms:created>
  <dc:creator>*</dc:creator>
  <dc:description/>
  <dc:language>en-US</dc:language>
  <cp:lastModifiedBy>Юрий</cp:lastModifiedBy>
  <dcterms:modified xsi:type="dcterms:W3CDTF">2013-03-18T07:09:21Z</dcterms:modified>
  <cp:revision>16</cp:revision>
  <dc:subject/>
  <dc:title>Кристаллы</dc:title>
</cp:coreProperties>
</file>