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EF0-0965-4409-A5C8-1DE67C07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5F7-0C1E-4AB5-B65A-ED9278C5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9DF-7100-4844-81BE-3F09AE6B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C2A-16B3-4B0E-8A59-C6DD75AA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B83-5C44-445D-8B26-4181AA6F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E1A-B92D-4B57-8291-698C1F69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81E-90A4-4FE6-A3EA-1403AA24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AC2-D058-4E77-A272-CCB23202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A30-ED91-477D-899E-0D3737D5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992-A989-4F68-9852-BF69099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2E1-99D4-4930-95D6-E1F4CBA9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57B-F8A9-4157-9953-7C10617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558-6AB3-493F-BC22-C597F1CC9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555</cp:lastModifiedBy>
  <dcterms:modified xsi:type="dcterms:W3CDTF">2013-02-12T05:02:15Z</dcterms:modified>
  <cp:revision>10</cp:revision>
  <dc:subject/>
  <dc:title>Слайд 1</dc:title>
</cp:coreProperties>
</file>