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029-8910-4100-AB0A-A034466A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233-44FC-4965-8AD1-9195E85C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DFB-20EA-4C2B-893E-DD19DF8D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ED2-39E1-44D6-A5B2-A52192D2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125-DED1-4D96-AF45-FC7BFFED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06F-9557-4B99-B609-F6DC1F19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FBC-7ADE-42EA-A83E-CE56A91D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880-C0FC-4027-AB85-849968E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D931-F068-4202-8CEC-DD54180F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A68-84C9-48CC-9715-E068F709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D13-016B-418E-AE70-9CBB0B68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C43-82F4-4DE0-BD70-192C929A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C678-7E5D-401C-B394-81449D7D3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555</cp:lastModifiedBy>
  <dcterms:modified xsi:type="dcterms:W3CDTF">2013-02-12T05:02:15Z</dcterms:modified>
  <cp:revision>10</cp:revision>
  <dc:subject/>
  <dc:title>Слайд 1</dc:title>
</cp:coreProperties>
</file>