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569-A6A2-480B-AB85-400DE553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6D8-EA36-4717-9AB5-A905086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555-F8CF-4E98-9B9A-7250CA15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2F8-1322-4404-89D7-A3DADF2E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DB7-246D-49F8-B8A4-A1CDE970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382-22EC-4859-9341-C9A56E64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6F8-1EA8-4490-9EFF-272EAA9F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E16-A39C-4E7F-B5EE-24FD832F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029-6B1C-4F35-818C-9E9EFF24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6DE-2AC8-4D50-9502-E7BAD02F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9DB-B9D5-456C-9680-56D9263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DB4-211B-455A-A9D0-C7DEB38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5F19-CD2D-418E-A20D-D7791DACC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555</cp:lastModifiedBy>
  <dcterms:modified xsi:type="dcterms:W3CDTF">2013-02-12T05:02:15Z</dcterms:modified>
  <cp:revision>10</cp:revision>
  <dc:subject/>
  <dc:title>Слайд 1</dc:title>
</cp:coreProperties>
</file>