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2.jpeg" ContentType="image/jpeg"/>
  <Override PartName="/ppt/media/image39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gif" ContentType="image/gif"/>
  <Override PartName="/ppt/media/image14.gif" ContentType="image/gif"/>
  <Override PartName="/ppt/media/image31.jpeg" ContentType="image/jpeg"/>
  <Override PartName="/ppt/media/image24.png" ContentType="image/png"/>
  <Override PartName="/ppt/media/image29.jpeg" ContentType="image/jpeg"/>
  <Override PartName="/ppt/media/image8.jpeg" ContentType="image/jpeg"/>
  <Override PartName="/ppt/media/image13.jpeg" ContentType="image/jpeg"/>
  <Override PartName="/ppt/media/image40.jpeg" ContentType="image/jpeg"/>
  <Override PartName="/ppt/media/image9.gif" ContentType="image/gif"/>
  <Override PartName="/ppt/media/image30.jpeg" ContentType="image/jpeg"/>
  <Override PartName="/ppt/media/image32.jpeg" ContentType="image/jpeg"/>
  <Override PartName="/ppt/media/image35.png" ContentType="image/png"/>
  <Override PartName="/ppt/media/image26.jpeg" ContentType="image/jpeg"/>
  <Override PartName="/ppt/media/image10.gif" ContentType="image/gif"/>
  <Override PartName="/ppt/media/image12.jpeg" ContentType="image/jpeg"/>
  <Override PartName="/ppt/media/image3.jpeg" ContentType="image/jpeg"/>
  <Override PartName="/ppt/media/image37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15.gif" ContentType="image/gif"/>
  <Override PartName="/ppt/media/image11.png" ContentType="image/png"/>
  <Override PartName="/ppt/media/image19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3F52-8F62-4197-A1EC-84FACD3E0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E1A5-F243-4A01-B6C6-794D6D69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09F8-B522-4470-8A3C-AA88A05EC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7EC4-66BD-4ADD-9BED-FB628F638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52A8-1A9F-4D0F-8327-FD4DC72F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6B07-9848-45B4-A04C-61D45334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F08E-D464-435B-85A6-0D437528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CE2F-4D35-498C-B2C2-811C1E06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7FAE-004B-47AA-9529-090A2747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E72A-5FB4-4C82-A6CD-9E93A6C2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6964-2A10-4304-AD6F-5ED2CE13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2864-B93C-415F-BEB9-D7100B84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7A4E-98F0-4E73-8095-E189DFA86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1.png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24000" y="4005360"/>
            <a:ext cx="4681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Весенние изменения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природе"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59280" y="1341360"/>
            <a:ext cx="338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Презентац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47640" y="2565360"/>
            <a:ext cx="617220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 уроку окружающего мира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240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597720" y="2924280"/>
            <a:ext cx="2079720" cy="28810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68360" y="3870360"/>
            <a:ext cx="835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ннецветущие растения получают питание из своих утолщённых подземных частей, в кот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ых с прошлого года хранились запасы пит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ельных веществ. Им требуется много света и влаги, чего в это время предостаточ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епла им требуется немн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116000" y="476280"/>
            <a:ext cx="4680000" cy="3438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95280" y="544500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 теперь ты ответишь на вопро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Почему эти растения зацветают так ра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168" dur="1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4365360"/>
            <a:ext cx="882000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Многие собирают весной буке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есенних растений. Хорошо ли эт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то мы с вами можем сдела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тобы сохранить раст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55640" y="2421000"/>
            <a:ext cx="1035000" cy="13096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580000" y="765000"/>
            <a:ext cx="2687760" cy="3743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971640" y="1557360"/>
            <a:ext cx="1922400" cy="2663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3348000" y="189000"/>
            <a:ext cx="180504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148360" y="692280"/>
            <a:ext cx="3617640" cy="54734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333360"/>
            <a:ext cx="85690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В лесу передвигайтесь по тропинкам (гибель травянис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растений губит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сказывается на состоя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всего леса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Букеты составля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из цветов, котор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человек вырастил 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у себя на садовом участ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Не собирайте берёзовый сок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ие опасности могут подстерегать нас весно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2733480" cy="2881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572000" y="1557360"/>
            <a:ext cx="3279600" cy="2185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6516720" y="3789360"/>
            <a:ext cx="2208240" cy="26589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25" name="Picture 7" descr=""/>
          <p:cNvPicPr/>
          <p:nvPr/>
        </p:nvPicPr>
        <p:blipFill>
          <a:blip r:embed="rId5"/>
          <a:stretch/>
        </p:blipFill>
        <p:spPr>
          <a:xfrm>
            <a:off x="2916360" y="3933720"/>
            <a:ext cx="3314520" cy="24368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014480" y="1600200"/>
            <a:ext cx="2922480" cy="2185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5226120" y="1600200"/>
            <a:ext cx="2882880" cy="2185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539640" y="404640"/>
            <a:ext cx="8136000" cy="7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ассовый прилёт птиц. Гнездование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556000" y="1341360"/>
            <a:ext cx="38876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иняют (меняют шубку на летнюю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сыпаются от зимнего сна: медведи, барсуки, ежи, бурунду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многих зверей появляются детёны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116000" y="476280"/>
            <a:ext cx="679284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ак встречают весну звери?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580000" y="3789360"/>
            <a:ext cx="2916360" cy="2187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348000" y="3789360"/>
            <a:ext cx="2592360" cy="2232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684360" y="3789360"/>
            <a:ext cx="2663640" cy="2185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Весенние изменения в приро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971960"/>
          </a:xfrm>
          <a:prstGeom prst="rect">
            <a:avLst/>
          </a:prstGeom>
          <a:ln w="0">
            <a:noFill/>
          </a:ln>
        </p:spPr>
      </p:pic>
      <p:sp>
        <p:nvSpPr>
          <p:cNvPr id="141" name="Скругленный прямоугольник 3"/>
          <p:cNvSpPr/>
          <p:nvPr/>
        </p:nvSpPr>
        <p:spPr>
          <a:xfrm>
            <a:off x="3000240" y="1428840"/>
            <a:ext cx="3214800" cy="8571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Солнце выше над горизонтом, чем зи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6"/>
          <p:cNvSpPr/>
          <p:nvPr/>
        </p:nvSpPr>
        <p:spPr>
          <a:xfrm>
            <a:off x="3000240" y="2786040"/>
            <a:ext cx="3214800" cy="8571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Дни стали длиннее; потеп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ый прямоугольник 7"/>
          <p:cNvSpPr/>
          <p:nvPr/>
        </p:nvSpPr>
        <p:spPr>
          <a:xfrm>
            <a:off x="571680" y="4071960"/>
            <a:ext cx="3714480" cy="25718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В неживой прир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Таяние снега, ль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На реках ледо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Половод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Осадки: снег, дож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Оттаивает поч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8"/>
          <p:cNvSpPr/>
          <p:nvPr/>
        </p:nvSpPr>
        <p:spPr>
          <a:xfrm>
            <a:off x="5143680" y="4071960"/>
            <a:ext cx="3643200" cy="25718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В живой прир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Набухают п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Появляются лист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Цветение раст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Появление насеком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Возвращение перелетных пт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Изменения в жизни зве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Прямая со стрелкой 10"/>
          <p:cNvCxnSpPr/>
          <p:nvPr/>
        </p:nvCxnSpPr>
        <p:spPr>
          <a:xfrm flipH="1">
            <a:off x="4642560" y="2285640"/>
            <a:ext cx="2520" cy="50076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46" name="Прямая со стрелкой 11"/>
          <p:cNvCxnSpPr/>
          <p:nvPr/>
        </p:nvCxnSpPr>
        <p:spPr>
          <a:xfrm flipH="1">
            <a:off x="2499840" y="3642120"/>
            <a:ext cx="572400" cy="42948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47" name="Прямая со стрелкой 12"/>
          <p:cNvCxnSpPr/>
          <p:nvPr/>
        </p:nvCxnSpPr>
        <p:spPr>
          <a:xfrm>
            <a:off x="6143400" y="3642840"/>
            <a:ext cx="680040" cy="42948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48" name="Прямая со стрелкой 21"/>
          <p:cNvCxnSpPr/>
          <p:nvPr/>
        </p:nvCxnSpPr>
        <p:spPr>
          <a:xfrm>
            <a:off x="4286160" y="5428800"/>
            <a:ext cx="858240" cy="252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835280" y="981000"/>
            <a:ext cx="5000400" cy="37242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2771640" y="189000"/>
            <a:ext cx="3429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ние на дом: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187280" y="4724280"/>
            <a:ext cx="60962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ставить кроссворд на тему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Приметы весны"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00000" y="1628640"/>
            <a:ext cx="6912000" cy="32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бы добиться успеха</a:t>
            </a:r>
            <a:endParaRPr b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изучении окружающего мира, </a:t>
            </a:r>
            <a:endParaRPr b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ужно научиться открывать секреты природы.</a:t>
            </a:r>
            <a:endParaRPr b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5851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3740040" cy="3284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572000" y="333360"/>
            <a:ext cx="4321080" cy="30193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572000" y="3645000"/>
            <a:ext cx="4248000" cy="2879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3" name=""/>
          <p:cNvSpPr txBox="1"/>
          <p:nvPr/>
        </p:nvSpPr>
        <p:spPr>
          <a:xfrm>
            <a:off x="6732720" y="3716280"/>
            <a:ext cx="1447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прел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948360" y="2565360"/>
            <a:ext cx="800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987640" y="4365720"/>
            <a:ext cx="981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р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47640" y="1989000"/>
            <a:ext cx="2514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есна света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292720" y="4941720"/>
            <a:ext cx="24955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есна воды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859280" y="549360"/>
            <a:ext cx="3429000" cy="17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сн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елёной травы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162320" y="260280"/>
            <a:ext cx="4730760" cy="6464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01120" y="5516640"/>
            <a:ext cx="3437640" cy="1068840"/>
          </a:xfrm>
          <a:prstGeom prst="rect">
            <a:avLst/>
          </a:prstGeom>
          <a:solidFill>
            <a:srgbClr val="ffff0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Перв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      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протал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84400" y="692280"/>
            <a:ext cx="1879920" cy="581400"/>
          </a:xfrm>
          <a:prstGeom prst="rect">
            <a:avLst/>
          </a:prstGeom>
          <a:solidFill>
            <a:srgbClr val="ffff0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Ледо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692360" y="1700280"/>
            <a:ext cx="6296040" cy="47228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3658680" y="476280"/>
            <a:ext cx="2396520" cy="581400"/>
          </a:xfrm>
          <a:prstGeom prst="rect">
            <a:avLst/>
          </a:prstGeom>
          <a:solidFill>
            <a:srgbClr val="ffff0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ловод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788000" y="1341360"/>
            <a:ext cx="3833640" cy="5112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539640" y="1341360"/>
            <a:ext cx="3835440" cy="5112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324000" y="189000"/>
            <a:ext cx="180000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4723920"/>
            <a:ext cx="82296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думай, как влияют изменения в неживой природе вес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 живую прир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050920" y="1557360"/>
            <a:ext cx="48974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508720" y="1700280"/>
            <a:ext cx="2579760" cy="35751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508608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зовите травянистые растения, которые зацветают весной перв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84360" y="333360"/>
            <a:ext cx="1726920" cy="16970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2268360" y="3860640"/>
            <a:ext cx="935280" cy="935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1187280" y="387972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3419640" y="378936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642240" y="404640"/>
            <a:ext cx="7779600" cy="5832720"/>
            <a:chOff x="642240" y="404640"/>
            <a:chExt cx="7779600" cy="5832720"/>
          </a:xfrm>
        </p:grpSpPr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284720" y="404640"/>
              <a:ext cx="4137120" cy="58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642240" y="5445000"/>
              <a:ext cx="3267000" cy="58140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omic Sans MS"/>
                </a:rPr>
                <a:t>Мать–и-мачех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755640" y="549360"/>
            <a:ext cx="7620120" cy="5867640"/>
            <a:chOff x="755640" y="549360"/>
            <a:chExt cx="7620120" cy="5867640"/>
          </a:xfrm>
        </p:grpSpPr>
        <p:pic>
          <p:nvPicPr>
            <p:cNvPr id="83" name="" descr=""/>
            <p:cNvPicPr/>
            <p:nvPr/>
          </p:nvPicPr>
          <p:blipFill>
            <a:blip r:embed="rId3"/>
            <a:stretch/>
          </p:blipFill>
          <p:spPr>
            <a:xfrm>
              <a:off x="755640" y="549360"/>
              <a:ext cx="7620120" cy="506736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sp>
          <p:nvSpPr>
            <p:cNvPr id="84" name=""/>
            <p:cNvSpPr/>
            <p:nvPr/>
          </p:nvSpPr>
          <p:spPr>
            <a:xfrm>
              <a:off x="3279600" y="5835600"/>
              <a:ext cx="2948400" cy="581400"/>
            </a:xfrm>
            <a:prstGeom prst="rect">
              <a:avLst/>
            </a:prstGeom>
            <a:solidFill>
              <a:srgbClr val="71da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Подснежник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1187280" y="549360"/>
            <a:ext cx="6769440" cy="5909040"/>
            <a:chOff x="1187280" y="549360"/>
            <a:chExt cx="6769440" cy="5909040"/>
          </a:xfrm>
        </p:grpSpPr>
        <p:pic>
          <p:nvPicPr>
            <p:cNvPr id="86" name="" descr=""/>
            <p:cNvPicPr/>
            <p:nvPr/>
          </p:nvPicPr>
          <p:blipFill>
            <a:blip r:embed="rId4"/>
            <a:stretch/>
          </p:blipFill>
          <p:spPr>
            <a:xfrm>
              <a:off x="1187280" y="549360"/>
              <a:ext cx="6769440" cy="5076720"/>
            </a:xfrm>
            <a:prstGeom prst="rect">
              <a:avLst/>
            </a:prstGeom>
            <a:ln w="38160">
              <a:solidFill>
                <a:srgbClr val="339966"/>
              </a:solidFill>
              <a:miter/>
            </a:ln>
          </p:spPr>
        </p:pic>
        <p:sp>
          <p:nvSpPr>
            <p:cNvPr id="87" name=""/>
            <p:cNvSpPr/>
            <p:nvPr/>
          </p:nvSpPr>
          <p:spPr>
            <a:xfrm>
              <a:off x="2495880" y="5877000"/>
              <a:ext cx="4457160" cy="581400"/>
            </a:xfrm>
            <a:prstGeom prst="rect">
              <a:avLst/>
            </a:prstGeom>
            <a:solidFill>
              <a:srgbClr val="66ff99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omic Sans MS"/>
                </a:rPr>
                <a:t>Ветреница лютична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172160" y="549360"/>
            <a:ext cx="7270200" cy="5832360"/>
            <a:chOff x="1172160" y="549360"/>
            <a:chExt cx="7270200" cy="5832360"/>
          </a:xfrm>
        </p:grpSpPr>
        <p:pic>
          <p:nvPicPr>
            <p:cNvPr id="89" name="" descr=""/>
            <p:cNvPicPr/>
            <p:nvPr/>
          </p:nvPicPr>
          <p:blipFill>
            <a:blip r:embed="rId5"/>
            <a:stretch/>
          </p:blipFill>
          <p:spPr>
            <a:xfrm>
              <a:off x="4067280" y="549360"/>
              <a:ext cx="4375080" cy="5832360"/>
            </a:xfrm>
            <a:prstGeom prst="rect">
              <a:avLst/>
            </a:prstGeom>
            <a:ln w="38160">
              <a:solidFill>
                <a:srgbClr val="339966"/>
              </a:solidFill>
              <a:miter/>
            </a:ln>
          </p:spPr>
        </p:pic>
        <p:sp>
          <p:nvSpPr>
            <p:cNvPr id="90" name=""/>
            <p:cNvSpPr/>
            <p:nvPr/>
          </p:nvSpPr>
          <p:spPr>
            <a:xfrm>
              <a:off x="1172160" y="5661000"/>
              <a:ext cx="2230560" cy="581400"/>
            </a:xfrm>
            <a:prstGeom prst="rect">
              <a:avLst/>
            </a:prstGeom>
            <a:solidFill>
              <a:srgbClr val="ff99ff"/>
            </a:solidFill>
            <a:ln w="381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Медуниц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1187280" y="549360"/>
            <a:ext cx="6801120" cy="5837400"/>
            <a:chOff x="1187280" y="549360"/>
            <a:chExt cx="6801120" cy="5837400"/>
          </a:xfrm>
        </p:grpSpPr>
        <p:pic>
          <p:nvPicPr>
            <p:cNvPr id="92" name="" descr=""/>
            <p:cNvPicPr/>
            <p:nvPr/>
          </p:nvPicPr>
          <p:blipFill>
            <a:blip r:embed="rId6"/>
            <a:stretch/>
          </p:blipFill>
          <p:spPr>
            <a:xfrm>
              <a:off x="1187280" y="549360"/>
              <a:ext cx="6801120" cy="5100480"/>
            </a:xfrm>
            <a:prstGeom prst="rect">
              <a:avLst/>
            </a:prstGeom>
            <a:ln w="38160">
              <a:solidFill>
                <a:srgbClr val="996633"/>
              </a:solidFill>
              <a:miter/>
            </a:ln>
          </p:spPr>
        </p:pic>
        <p:sp>
          <p:nvSpPr>
            <p:cNvPr id="93" name=""/>
            <p:cNvSpPr/>
            <p:nvPr/>
          </p:nvSpPr>
          <p:spPr>
            <a:xfrm>
              <a:off x="1891800" y="5805360"/>
              <a:ext cx="5635080" cy="58140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Печёночница благородна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1258920" y="620640"/>
            <a:ext cx="6667560" cy="5766120"/>
            <a:chOff x="1258920" y="620640"/>
            <a:chExt cx="6667560" cy="5766120"/>
          </a:xfrm>
        </p:grpSpPr>
        <p:sp>
          <p:nvSpPr>
            <p:cNvPr id="95" name=""/>
            <p:cNvSpPr/>
            <p:nvPr/>
          </p:nvSpPr>
          <p:spPr>
            <a:xfrm>
              <a:off x="3535560" y="5805360"/>
              <a:ext cx="1980720" cy="581400"/>
            </a:xfrm>
            <a:prstGeom prst="rect">
              <a:avLst/>
            </a:prstGeom>
            <a:solidFill>
              <a:srgbClr val="33cc33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Хохлат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7"/>
            <a:stretch/>
          </p:blipFill>
          <p:spPr>
            <a:xfrm>
              <a:off x="1258920" y="620640"/>
              <a:ext cx="6667560" cy="4991040"/>
            </a:xfrm>
            <a:prstGeom prst="rect">
              <a:avLst/>
            </a:prstGeom>
            <a:ln w="38160">
              <a:solidFill>
                <a:srgbClr val="996633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Comic Sans MS"/>
              </a:rPr>
              <a:t>Подумай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9200" y="5661000"/>
            <a:ext cx="8686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Почему эти растения зацветают так ра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539640" y="476280"/>
            <a:ext cx="8240760" cy="5040360"/>
            <a:chOff x="539640" y="476280"/>
            <a:chExt cx="8240760" cy="5040360"/>
          </a:xfrm>
        </p:grpSpPr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826920" y="620640"/>
              <a:ext cx="1581480" cy="223056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539640" y="3213000"/>
              <a:ext cx="2514600" cy="1671840"/>
            </a:xfrm>
            <a:prstGeom prst="rect">
              <a:avLst/>
            </a:prstGeom>
            <a:ln w="38160">
              <a:solidFill>
                <a:srgbClr val="bbe0e3"/>
              </a:solidFill>
              <a:miter/>
            </a:ln>
          </p:spPr>
        </p:pic>
        <p:pic>
          <p:nvPicPr>
            <p:cNvPr id="102" name="" descr=""/>
            <p:cNvPicPr/>
            <p:nvPr/>
          </p:nvPicPr>
          <p:blipFill>
            <a:blip r:embed="rId4"/>
            <a:stretch/>
          </p:blipFill>
          <p:spPr>
            <a:xfrm>
              <a:off x="3276720" y="1268280"/>
              <a:ext cx="2730240" cy="2048040"/>
            </a:xfrm>
            <a:prstGeom prst="rect">
              <a:avLst/>
            </a:prstGeom>
            <a:ln w="38160">
              <a:solidFill>
                <a:srgbClr val="339966"/>
              </a:solidFill>
              <a:miter/>
            </a:ln>
          </p:spPr>
        </p:pic>
        <p:pic>
          <p:nvPicPr>
            <p:cNvPr id="103" name="" descr=""/>
            <p:cNvPicPr/>
            <p:nvPr/>
          </p:nvPicPr>
          <p:blipFill>
            <a:blip r:embed="rId5"/>
            <a:stretch/>
          </p:blipFill>
          <p:spPr>
            <a:xfrm>
              <a:off x="6588000" y="476280"/>
              <a:ext cx="1698840" cy="2265480"/>
            </a:xfrm>
            <a:prstGeom prst="rect">
              <a:avLst/>
            </a:prstGeom>
            <a:ln w="38160">
              <a:solidFill>
                <a:srgbClr val="006600"/>
              </a:solidFill>
              <a:miter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6300720" y="3068640"/>
              <a:ext cx="2479680" cy="1860480"/>
            </a:xfrm>
            <a:prstGeom prst="rect">
              <a:avLst/>
            </a:prstGeom>
            <a:ln w="38160">
              <a:solidFill>
                <a:srgbClr val="9966ff"/>
              </a:solidFill>
              <a:miter/>
            </a:ln>
          </p:spPr>
        </p:pic>
        <p:pic>
          <p:nvPicPr>
            <p:cNvPr id="105" name="" descr=""/>
            <p:cNvPicPr/>
            <p:nvPr/>
          </p:nvPicPr>
          <p:blipFill>
            <a:blip r:embed="rId7"/>
            <a:stretch/>
          </p:blipFill>
          <p:spPr>
            <a:xfrm>
              <a:off x="3276720" y="3505320"/>
              <a:ext cx="2685960" cy="2011320"/>
            </a:xfrm>
            <a:prstGeom prst="rect">
              <a:avLst/>
            </a:prstGeom>
            <a:ln w="38160">
              <a:solidFill>
                <a:srgbClr val="cccc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14:10:05Z</dcterms:created>
  <dc:creator>Sergey</dc:creator>
  <dc:description/>
  <dc:language>en-US</dc:language>
  <cp:lastModifiedBy>Sergey</cp:lastModifiedBy>
  <dcterms:modified xsi:type="dcterms:W3CDTF">2013-03-17T15:31:06Z</dcterms:modified>
  <cp:revision>49</cp:revision>
  <dc:subject/>
  <dc:title>Слайд 1</dc:title>
</cp:coreProperties>
</file>