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D55A-92F0-43E4-8181-4A9DC7BA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BCA-1E1D-4A6A-8CA2-87C46001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D626-231F-4105-A670-A80CFB68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0A26-9B3C-48CC-BF9D-702DF0E3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012-28BE-40D0-AEF5-54889A39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3B5-6BAF-4EBF-96E1-293F0397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942C-DAA3-4C9F-8498-C9F38165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67D1-391C-4784-8C94-322757EF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F054-854E-4322-8A99-53937D0F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18F-5DB6-4FF8-B066-DBD0FF41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F1A-896E-4A81-A1EA-311B8D17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1046-74DD-4963-9D9D-79354920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67D3-B08B-49C3-8925-87119304C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80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3:39:16Z</dcterms:created>
  <dc:creator>Sergey</dc:creator>
  <dc:description/>
  <dc:language>en-US</dc:language>
  <cp:lastModifiedBy>Sergey</cp:lastModifiedBy>
  <dcterms:modified xsi:type="dcterms:W3CDTF">2013-03-17T13:45:42Z</dcterms:modified>
  <cp:revision>2</cp:revision>
  <dc:subject/>
  <dc:title>Слайд 1</dc:title>
</cp:coreProperties>
</file>