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487B-2349-4F01-B382-B30C2305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8E3B-3B1F-46F2-BF30-DEB6A5ED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056-02DF-4988-B03E-33EFDC05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E641-18A1-4DA7-B938-57E3C92F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FC9C-7DA3-4962-97FF-A6CE2CC8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EAC4-92C7-4C19-B30C-B8FF595D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ECCB-CBBA-4CB0-AD50-C3A078FC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4995-79C0-4C91-B354-A5E6B3C9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019E-17E0-4861-8AE4-5F8287CD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9D7-57D1-4FA0-9B59-92348DD7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797-862F-48CB-BAAC-D32E4D8F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106E-EB44-44F4-995F-8B48F7E5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0599-E514-4DCE-9B32-9E539CA1E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802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3:39:16Z</dcterms:created>
  <dc:creator>Sergey</dc:creator>
  <dc:description/>
  <dc:language>en-US</dc:language>
  <cp:lastModifiedBy>Sergey</cp:lastModifiedBy>
  <dcterms:modified xsi:type="dcterms:W3CDTF">2013-03-17T13:45:42Z</dcterms:modified>
  <cp:revision>2</cp:revision>
  <dc:subject/>
  <dc:title>Слайд 1</dc:title>
</cp:coreProperties>
</file>