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png" ContentType="image/png"/>
  <Override PartName="/ppt/media/image18.gif" ContentType="image/gif"/>
  <Override PartName="/ppt/media/image3.wmf" ContentType="image/x-wmf"/>
  <Override PartName="/ppt/media/image4.png" ContentType="image/png"/>
  <Override PartName="/ppt/media/image17.jpeg" ContentType="image/jpeg"/>
  <Override PartName="/ppt/media/image15.png" ContentType="image/png"/>
  <Override PartName="/ppt/media/image1.wmf" ContentType="image/x-wmf"/>
  <Override PartName="/ppt/media/image9.jpeg" ContentType="image/jpeg"/>
  <Override PartName="/ppt/media/image11.png" ContentType="image/png"/>
  <Override PartName="/ppt/media/image12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DF5-551A-43B7-90D4-4864C271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854-181B-4401-BAA9-E4042A7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F9A-00F0-4E83-AA7A-BBDC488C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F47-E62B-44C2-A703-04ED92C6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E350-A6A0-41BF-A593-8BC075A9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5DD-DE12-4E26-BDD9-CDBACE5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DCCB-56E2-4AC7-AD0C-A7A6D37A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898-A221-401B-B796-F48B1DD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BCDD-1A84-446D-B9FC-9524FA04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E7B7-1504-41CC-A561-B4082674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AD67-11F0-469F-8059-4999359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195-53D3-472E-A976-747BCE8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5B8A-ACDD-4120-B52C-0689278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924A-844A-40A0-8AAA-58BD4B6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4CAD-EF75-47D1-8C2A-C5D94213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352D-23AC-4EB0-B8D5-8473371D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C009-5590-420B-B08A-78ED6D3F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FD5-046F-49E0-93A4-8773B659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ECD-7D40-48A0-AD94-7E211ED9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C14-3541-4FDE-95E1-29B875BC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E8E-A9A2-4FAF-BC02-B417832A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CA3-1A81-4AE6-A7AA-845CBAC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92C-9F98-44BC-B13B-D5E7702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948-E655-4472-8AFE-4EDB016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CB55-1F4A-40F1-89B0-51950CF65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2F7-64F9-4CC0-9BEC-773964C7D7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1980720"/>
            <a:ext cx="502920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розвенел звонок для нас!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тали все у парт красиво,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оздоровались учтиво,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Тихо сели, спинки прямо.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е легонечко вздохнем.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Урок математики начн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533520"/>
            <a:ext cx="7343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 Все в твоих руках "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7" name="Picture 3" descr="Рука"/>
          <p:cNvPicPr/>
          <p:nvPr/>
        </p:nvPicPr>
        <p:blipFill>
          <a:blip r:embed="rId3"/>
          <a:srcRect l="16145" t="8855" r="24671" b="0"/>
          <a:stretch/>
        </p:blipFill>
        <p:spPr>
          <a:xfrm>
            <a:off x="2133720" y="2666880"/>
            <a:ext cx="5402160" cy="3961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4"/>
          <p:cNvSpPr/>
          <p:nvPr/>
        </p:nvSpPr>
        <p:spPr>
          <a:xfrm>
            <a:off x="6659640" y="5229360"/>
            <a:ext cx="217944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тема был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ажной и интересно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172200" y="2743200"/>
            <a:ext cx="2057400" cy="5079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знал много ново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429000" y="2209680"/>
            <a:ext cx="1994040" cy="4622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труд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838080" y="2666880"/>
            <a:ext cx="2244960" cy="5079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комфорт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0720" y="4419720"/>
            <a:ext cx="1657080" cy="79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был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достаточн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581280" y="449568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3581280" y="4648320"/>
            <a:ext cx="16765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ты научился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4" descr="Берега Инд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f2860cdf1290"/>
          <p:cNvPicPr/>
          <p:nvPr/>
        </p:nvPicPr>
        <p:blipFill>
          <a:blip r:embed="rId2"/>
          <a:stretch/>
        </p:blipFill>
        <p:spPr>
          <a:xfrm>
            <a:off x="1042920" y="191628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104292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4140360" y="5589720"/>
            <a:ext cx="43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1844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33360" y="3538440"/>
          <a:ext cx="2424240" cy="588960"/>
        </p:xfrm>
        <a:graphic>
          <a:graphicData uri="http://schemas.openxmlformats.org/drawingml/2006/table">
            <a:tbl>
              <a:tblPr/>
              <a:tblGrid>
                <a:gridCol w="397080"/>
                <a:gridCol w="573120"/>
                <a:gridCol w="484200"/>
                <a:gridCol w="415800"/>
                <a:gridCol w="5540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26920" y="5157720"/>
          <a:ext cx="3961080" cy="102096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76360"/>
                <a:gridCol w="503280"/>
                <a:gridCol w="504720"/>
                <a:gridCol w="360360"/>
                <a:gridCol w="503280"/>
              </a:tblGrid>
              <a:tr h="50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03640" y="5157720"/>
          <a:ext cx="3816360" cy="1014480"/>
        </p:xfrm>
        <a:graphic>
          <a:graphicData uri="http://schemas.openxmlformats.org/drawingml/2006/table">
            <a:tbl>
              <a:tblPr/>
              <a:tblGrid>
                <a:gridCol w="576360"/>
                <a:gridCol w="432000"/>
                <a:gridCol w="647640"/>
                <a:gridCol w="503280"/>
                <a:gridCol w="577800"/>
                <a:gridCol w="431640"/>
                <a:gridCol w="647640"/>
              </a:tblGrid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78" descr="TN00022_"/>
          <p:cNvPicPr/>
          <p:nvPr/>
        </p:nvPicPr>
        <p:blipFill>
          <a:blip r:embed="rId1"/>
          <a:stretch/>
        </p:blipFill>
        <p:spPr>
          <a:xfrm>
            <a:off x="3859200" y="2084400"/>
            <a:ext cx="1362240" cy="1571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9"/>
          <p:cNvSpPr/>
          <p:nvPr/>
        </p:nvSpPr>
        <p:spPr>
          <a:xfrm>
            <a:off x="533520" y="227160"/>
            <a:ext cx="813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Найди значения выражений и расшифру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: 8 =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360 : 60 = 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: 3 =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28 : 4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2 : 8 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8 х 8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: 4 =      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70 : 7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 х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Я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450 : 9 =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826920" y="5661000"/>
            <a:ext cx="396108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А   Ф   А   Н   А   С   И   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5003640" y="5661000"/>
            <a:ext cx="381636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Н   И   К    И    Т   И   Н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1219320" y="4114800"/>
            <a:ext cx="243828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   Н   Д   И  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83" descr="b699cfd5b71900647f3ef56417be1aa7"/>
          <p:cNvPicPr/>
          <p:nvPr/>
        </p:nvPicPr>
        <p:blipFill>
          <a:blip r:embed="rId2"/>
          <a:stretch/>
        </p:blipFill>
        <p:spPr>
          <a:xfrm>
            <a:off x="6084720" y="3933720"/>
            <a:ext cx="373320" cy="37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4" descr="b699cfd5b71900647f3ef56417be1aa7"/>
          <p:cNvPicPr/>
          <p:nvPr/>
        </p:nvPicPr>
        <p:blipFill>
          <a:blip r:embed="rId3"/>
          <a:stretch/>
        </p:blipFill>
        <p:spPr>
          <a:xfrm>
            <a:off x="6227640" y="105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5" descr="b699cfd5b71900647f3ef56417be1aa7"/>
          <p:cNvPicPr/>
          <p:nvPr/>
        </p:nvPicPr>
        <p:blipFill>
          <a:blip r:embed="rId4"/>
          <a:stretch/>
        </p:blipFill>
        <p:spPr>
          <a:xfrm>
            <a:off x="8317080" y="4292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6" descr="b699cfd5b71900647f3ef56417be1aa7"/>
          <p:cNvPicPr/>
          <p:nvPr/>
        </p:nvPicPr>
        <p:blipFill>
          <a:blip r:embed="rId5"/>
          <a:stretch/>
        </p:blipFill>
        <p:spPr>
          <a:xfrm>
            <a:off x="250920" y="3933720"/>
            <a:ext cx="663480" cy="66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7" descr="b699cfd5b71900647f3ef56417be1aa7"/>
          <p:cNvPicPr/>
          <p:nvPr/>
        </p:nvPicPr>
        <p:blipFill>
          <a:blip r:embed="rId6"/>
          <a:stretch/>
        </p:blipFill>
        <p:spPr>
          <a:xfrm>
            <a:off x="8317080" y="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8" descr="b699cfd5b71900647f3ef56417be1aa7"/>
          <p:cNvPicPr/>
          <p:nvPr/>
        </p:nvPicPr>
        <p:blipFill>
          <a:blip r:embed="rId7"/>
          <a:stretch/>
        </p:blipFill>
        <p:spPr>
          <a:xfrm>
            <a:off x="4211640" y="429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9" descr="b699cfd5b71900647f3ef56417be1aa7"/>
          <p:cNvPicPr/>
          <p:nvPr/>
        </p:nvPicPr>
        <p:blipFill>
          <a:blip r:embed="rId8"/>
          <a:stretch/>
        </p:blipFill>
        <p:spPr>
          <a:xfrm>
            <a:off x="324000" y="620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0" descr="b699cfd5b71900647f3ef56417be1aa7"/>
          <p:cNvPicPr/>
          <p:nvPr/>
        </p:nvPicPr>
        <p:blipFill>
          <a:blip r:embed="rId9"/>
          <a:stretch/>
        </p:blipFill>
        <p:spPr>
          <a:xfrm>
            <a:off x="179280" y="6021360"/>
            <a:ext cx="663840" cy="66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1"/>
          <p:cNvSpPr/>
          <p:nvPr/>
        </p:nvSpPr>
        <p:spPr>
          <a:xfrm>
            <a:off x="1905120" y="16765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19051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1908000" y="242100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1908000" y="278136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1908000" y="314172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6948360" y="170028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69343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6948360" y="24210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6948360" y="278136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6948360" y="31417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укописные данные 1" descr=""/>
          <p:cNvPicPr/>
          <p:nvPr/>
        </p:nvPicPr>
        <p:blipFill>
          <a:blip r:embed="rId10"/>
          <a:stretch/>
        </p:blipFill>
        <p:spPr>
          <a:xfrm>
            <a:off x="1065240" y="1650960"/>
            <a:ext cx="75675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Индия -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одна из древнейших цивилизаций мира - это загадочная, экзотическая страна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5257440" y="4419360"/>
            <a:ext cx="38862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Dotum"/>
              </a:rPr>
              <a:t>Афанасий Никити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(? – 1474/7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Dotum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А. Никитин – один из первых россиян, побывавший в Индии, подробно рассказывавший о далёкой стране в своей книге «Хождение за три моря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1" descr="Рисунок1111"/>
          <p:cNvPicPr/>
          <p:nvPr/>
        </p:nvPicPr>
        <p:blipFill>
          <a:blip r:embed="rId3"/>
          <a:stretch/>
        </p:blipFill>
        <p:spPr>
          <a:xfrm>
            <a:off x="2819520" y="4572000"/>
            <a:ext cx="15984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4"/>
          <a:stretch/>
        </p:blipFill>
        <p:spPr>
          <a:xfrm>
            <a:off x="3581280" y="182880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ема урока: « Умножение круглых чисел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6840" y="4266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 rot="10800000">
            <a:off x="8457480" y="3632040"/>
            <a:ext cx="2133720" cy="3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520" y="10666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Тадж-Махал 1632-1654 гг., памятник воздвигнутый правителем возлюбленной жене. Строительство Тадж-Махала длилось 22 года, на нем были заняты около 20 000 рабочих. Это одно из 7-ми чудес све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20"/>
          <p:cNvSpPr txBox="1"/>
          <p:nvPr/>
        </p:nvSpPr>
        <p:spPr>
          <a:xfrm>
            <a:off x="-533520" y="3784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22"/>
          <p:cNvSpPr txBox="1"/>
          <p:nvPr/>
        </p:nvSpPr>
        <p:spPr>
          <a:xfrm>
            <a:off x="7315200" y="3706920"/>
            <a:ext cx="4608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4629240" y="3635280"/>
            <a:ext cx="114120" cy="57240"/>
          </a:xfrm>
          <a:prstGeom prst="rect">
            <a:avLst/>
          </a:prstGeom>
        </p:spPr>
        <p:txBody>
          <a:bodyPr wrap="none" lIns="90000" rIns="90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Алгоритм деления двузначного числа на однознач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440" y="1828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ь двузначное делимое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5029200"/>
            <a:ext cx="7581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енные частные сл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е слагаемое раздели на это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44197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4197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0" descr="Asiatic elephant (Elephas maxim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2"/>
          <p:cNvSpPr txBox="1"/>
          <p:nvPr/>
        </p:nvSpPr>
        <p:spPr>
          <a:xfrm>
            <a:off x="228600" y="15228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ндийский 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06" name="WordArt 13"/>
          <p:cNvSpPr txBox="1"/>
          <p:nvPr/>
        </p:nvSpPr>
        <p:spPr>
          <a:xfrm>
            <a:off x="4724280" y="0"/>
            <a:ext cx="4191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Африканский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286640" y="2742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38052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а нашей планете обитает два вида слонов: индийские и африканские. Индийские слоны весят 5-6  тонн, а его африканский собрат 7- 8 тонн. Лоб у индийского слона высокий и выпуклый, а у африканского слона плоский и срезанный назад. Уши индийского слона  треугольные и втрое меньше, чем у африканского. Живут слоны 60 лет. Они могут бежать со скоростью 30 км/ч. Индийских слонов ещё называют азиатск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) Чем отличается индийский слон от африканского? Подчеркни правильный ответ: весом, хвостами, лбами, уш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3) Какое расстояние пробежит слон за 2 часа? 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)30+2=32(км.)     б)30 х 2 =60(км.)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1880" y="251424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3760" y="7238520"/>
            <a:ext cx="240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 rot="10800000">
            <a:off x="8381880" y="548640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india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Garamond"/>
              </a:rPr>
              <a:t>Расставь порядок действий, вычис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4252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8600" y="1828800"/>
            <a:ext cx="4032360" cy="5745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4 – ( 26 +9 ) : 7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800600" y="1828800"/>
            <a:ext cx="4176720" cy="5763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 – ( 32 + 4 ) : 4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438280" y="3809880"/>
            <a:ext cx="4248360" cy="64800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– ( 72 – 9 ) : 7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581280" y="1905120"/>
            <a:ext cx="64800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43600" y="39625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8305920" y="19051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0" descr="e2fa05b7c7702d70497d3e9527ad0d87"/>
          <p:cNvPicPr/>
          <p:nvPr/>
        </p:nvPicPr>
        <p:blipFill>
          <a:blip r:embed="rId1"/>
          <a:stretch/>
        </p:blipFill>
        <p:spPr>
          <a:xfrm rot="339000">
            <a:off x="1368000" y="2782800"/>
            <a:ext cx="1095480" cy="186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e2fa05b7c7702d70497d3e9527ad0d87"/>
          <p:cNvPicPr/>
          <p:nvPr/>
        </p:nvPicPr>
        <p:blipFill>
          <a:blip r:embed="rId2"/>
          <a:stretch/>
        </p:blipFill>
        <p:spPr>
          <a:xfrm>
            <a:off x="7740720" y="2565360"/>
            <a:ext cx="106056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e2fa05b7c7702d70497d3e9527ad0d87"/>
          <p:cNvPicPr/>
          <p:nvPr/>
        </p:nvPicPr>
        <p:blipFill>
          <a:blip r:embed="rId3"/>
          <a:stretch/>
        </p:blipFill>
        <p:spPr>
          <a:xfrm>
            <a:off x="6477120" y="4114800"/>
            <a:ext cx="1280880" cy="252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Red Fort New Delhi"/>
          <p:cNvPicPr/>
          <p:nvPr/>
        </p:nvPicPr>
        <p:blipFill>
          <a:blip r:embed="rId4"/>
          <a:stretch/>
        </p:blipFill>
        <p:spPr>
          <a:xfrm>
            <a:off x="0" y="0"/>
            <a:ext cx="1036944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7:45:39Z</dcterms:created>
  <dc:creator>дом</dc:creator>
  <dc:description/>
  <dc:language>en-US</dc:language>
  <cp:lastModifiedBy>teacher101</cp:lastModifiedBy>
  <dcterms:modified xsi:type="dcterms:W3CDTF">2013-03-21T03:00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