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0.png" ContentType="image/png"/>
  <Override PartName="/ppt/media/image19.png" ContentType="image/png"/>
  <Override PartName="/ppt/media/image18.gif" ContentType="image/gif"/>
  <Override PartName="/ppt/media/image3.wmf" ContentType="image/x-wmf"/>
  <Override PartName="/ppt/media/image4.png" ContentType="image/png"/>
  <Override PartName="/ppt/media/image17.jpeg" ContentType="image/jpeg"/>
  <Override PartName="/ppt/media/image15.png" ContentType="image/png"/>
  <Override PartName="/ppt/media/image1.wmf" ContentType="image/x-wmf"/>
  <Override PartName="/ppt/media/image9.jpeg" ContentType="image/jpeg"/>
  <Override PartName="/ppt/media/image11.png" ContentType="image/png"/>
  <Override PartName="/ppt/media/image12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FD4-FF35-49B2-980A-802AECCE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E62-70BE-4A1B-924B-8DC9AD5F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1B3-1EA4-46DC-AD1B-8B4DA127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F8D-362A-4AA7-855D-0EF39CBA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A56F-AD44-4071-A933-81BFFDE7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F725-2725-4D47-9916-5D4DCC53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4BA8-9A15-435D-8AB1-8A69DDF9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AA61-2D62-49AD-9267-FE4E166A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5B43-95D6-442D-9DAD-B868E094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FD1E-0FE0-4D6D-951E-B307B671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C49D-9C39-443C-84B8-A1811636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B06-48F9-4436-B08F-795E42E9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0A92-6799-4CCC-861D-AEDC65FE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05DE-9949-4425-BE8B-3DBDC835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3DE0-CCB3-498B-8E70-671BDE56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95D7-4128-42C2-8040-CF8B54E4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A921-5104-4EB9-93D5-32235E8A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69E-6E31-4C2F-933B-C645C6B3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4AA-B395-46C8-B3FC-99A02D41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504-BD92-4DF8-B3ED-54672515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C6C-CB1F-480A-96F8-4188D2D6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C1C-8E53-4862-ABD4-025B6886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362-A597-42DB-BB57-FDF630BE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C67-FD91-47A3-8A20-C8EF837C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DD11-AC97-4133-B111-C56F29D7B4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66A4-76BF-4880-BF06-C78BB130B7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43200" y="1980720"/>
            <a:ext cx="5029200" cy="3048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Прозвенел звонок для нас!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Встали все у парт красиво,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Поздоровались учтиво, 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Тихо сели, спинки прямо. 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Все легонечко вздохнем.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Урок математики начн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304920" y="533520"/>
            <a:ext cx="734364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" Все в твоих руках "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27" name="Picture 3" descr="Рука"/>
          <p:cNvPicPr/>
          <p:nvPr/>
        </p:nvPicPr>
        <p:blipFill>
          <a:blip r:embed="rId3"/>
          <a:srcRect l="16145" t="8855" r="24671" b="0"/>
          <a:stretch/>
        </p:blipFill>
        <p:spPr>
          <a:xfrm>
            <a:off x="2133720" y="2666880"/>
            <a:ext cx="5402160" cy="39610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4"/>
          <p:cNvSpPr/>
          <p:nvPr/>
        </p:nvSpPr>
        <p:spPr>
          <a:xfrm>
            <a:off x="6659640" y="5229360"/>
            <a:ext cx="2179440" cy="714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ля меня тема был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ажной и интересно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172200" y="2743200"/>
            <a:ext cx="2057400" cy="50796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знал много новог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429000" y="2209680"/>
            <a:ext cx="1994040" cy="4622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не было труд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838080" y="2666880"/>
            <a:ext cx="2244960" cy="5079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не было комфорт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990720" y="4419720"/>
            <a:ext cx="1657080" cy="792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ля меня было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недостаточно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нформаци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581280" y="4495680"/>
            <a:ext cx="167652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WordArt 10"/>
          <p:cNvSpPr txBox="1"/>
          <p:nvPr/>
        </p:nvSpPr>
        <p:spPr>
          <a:xfrm>
            <a:off x="3581280" y="4648320"/>
            <a:ext cx="16765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му ты научился?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4" descr="Берега Инд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f2860cdf1290"/>
          <p:cNvPicPr/>
          <p:nvPr/>
        </p:nvPicPr>
        <p:blipFill>
          <a:blip r:embed="rId2"/>
          <a:stretch/>
        </p:blipFill>
        <p:spPr>
          <a:xfrm>
            <a:off x="1042920" y="1916280"/>
            <a:ext cx="3382920" cy="3382920"/>
          </a:xfrm>
          <a:prstGeom prst="rect">
            <a:avLst/>
          </a:prstGeom>
          <a:ln w="0">
            <a:noFill/>
          </a:ln>
        </p:spPr>
      </p:pic>
      <p:sp>
        <p:nvSpPr>
          <p:cNvPr id="238" name="WordArt 6"/>
          <p:cNvSpPr txBox="1"/>
          <p:nvPr/>
        </p:nvSpPr>
        <p:spPr>
          <a:xfrm>
            <a:off x="1042920" y="404640"/>
            <a:ext cx="338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7"/>
          <p:cNvSpPr txBox="1"/>
          <p:nvPr/>
        </p:nvSpPr>
        <p:spPr>
          <a:xfrm>
            <a:off x="4140360" y="5589720"/>
            <a:ext cx="43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21844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33360" y="3538440"/>
          <a:ext cx="2424240" cy="588960"/>
        </p:xfrm>
        <a:graphic>
          <a:graphicData uri="http://schemas.openxmlformats.org/drawingml/2006/table">
            <a:tbl>
              <a:tblPr/>
              <a:tblGrid>
                <a:gridCol w="397080"/>
                <a:gridCol w="573120"/>
                <a:gridCol w="484200"/>
                <a:gridCol w="415800"/>
                <a:gridCol w="55404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26920" y="5157720"/>
          <a:ext cx="3961080" cy="1020960"/>
        </p:xfrm>
        <a:graphic>
          <a:graphicData uri="http://schemas.openxmlformats.org/drawingml/2006/table">
            <a:tbl>
              <a:tblPr/>
              <a:tblGrid>
                <a:gridCol w="505080"/>
                <a:gridCol w="503280"/>
                <a:gridCol w="504720"/>
                <a:gridCol w="576360"/>
                <a:gridCol w="503280"/>
                <a:gridCol w="504720"/>
                <a:gridCol w="360360"/>
                <a:gridCol w="503280"/>
              </a:tblGrid>
              <a:tr h="502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003640" y="5157720"/>
          <a:ext cx="3816360" cy="1014480"/>
        </p:xfrm>
        <a:graphic>
          <a:graphicData uri="http://schemas.openxmlformats.org/drawingml/2006/table">
            <a:tbl>
              <a:tblPr/>
              <a:tblGrid>
                <a:gridCol w="576360"/>
                <a:gridCol w="432000"/>
                <a:gridCol w="647640"/>
                <a:gridCol w="503280"/>
                <a:gridCol w="577800"/>
                <a:gridCol w="431640"/>
                <a:gridCol w="647640"/>
              </a:tblGrid>
              <a:tr h="49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78" descr="TN00022_"/>
          <p:cNvPicPr/>
          <p:nvPr/>
        </p:nvPicPr>
        <p:blipFill>
          <a:blip r:embed="rId1"/>
          <a:stretch/>
        </p:blipFill>
        <p:spPr>
          <a:xfrm>
            <a:off x="3859200" y="2084400"/>
            <a:ext cx="1362240" cy="1571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9"/>
          <p:cNvSpPr/>
          <p:nvPr/>
        </p:nvSpPr>
        <p:spPr>
          <a:xfrm>
            <a:off x="533520" y="227160"/>
            <a:ext cx="813744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Найди значения выражений и расшифруй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0 : 8 =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А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360 : 60 =            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 : 3 =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28 : 4 =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2 : 8 =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  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8 х 8 =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: 4 =       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70 : 7 =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 х 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Я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450 : 9 = 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80"/>
          <p:cNvSpPr/>
          <p:nvPr/>
        </p:nvSpPr>
        <p:spPr>
          <a:xfrm>
            <a:off x="826920" y="5661000"/>
            <a:ext cx="3961080" cy="504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А   Ф   А   Н   А   С   И   Й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1"/>
          <p:cNvSpPr/>
          <p:nvPr/>
        </p:nvSpPr>
        <p:spPr>
          <a:xfrm>
            <a:off x="5003640" y="5661000"/>
            <a:ext cx="3816360" cy="504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Н   И   К    И    Т   И   Н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82"/>
          <p:cNvSpPr/>
          <p:nvPr/>
        </p:nvSpPr>
        <p:spPr>
          <a:xfrm>
            <a:off x="1219320" y="4114800"/>
            <a:ext cx="2438280" cy="6858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И   Н   Д   И   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83" descr="b699cfd5b71900647f3ef56417be1aa7"/>
          <p:cNvPicPr/>
          <p:nvPr/>
        </p:nvPicPr>
        <p:blipFill>
          <a:blip r:embed="rId2"/>
          <a:stretch/>
        </p:blipFill>
        <p:spPr>
          <a:xfrm>
            <a:off x="6084720" y="3933720"/>
            <a:ext cx="373320" cy="37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4" descr="b699cfd5b71900647f3ef56417be1aa7"/>
          <p:cNvPicPr/>
          <p:nvPr/>
        </p:nvPicPr>
        <p:blipFill>
          <a:blip r:embed="rId3"/>
          <a:stretch/>
        </p:blipFill>
        <p:spPr>
          <a:xfrm>
            <a:off x="6227640" y="105264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5" descr="b699cfd5b71900647f3ef56417be1aa7"/>
          <p:cNvPicPr/>
          <p:nvPr/>
        </p:nvPicPr>
        <p:blipFill>
          <a:blip r:embed="rId4"/>
          <a:stretch/>
        </p:blipFill>
        <p:spPr>
          <a:xfrm>
            <a:off x="8317080" y="4292640"/>
            <a:ext cx="663480" cy="663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6" descr="b699cfd5b71900647f3ef56417be1aa7"/>
          <p:cNvPicPr/>
          <p:nvPr/>
        </p:nvPicPr>
        <p:blipFill>
          <a:blip r:embed="rId5"/>
          <a:stretch/>
        </p:blipFill>
        <p:spPr>
          <a:xfrm>
            <a:off x="250920" y="3933720"/>
            <a:ext cx="663480" cy="663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7" descr="b699cfd5b71900647f3ef56417be1aa7"/>
          <p:cNvPicPr/>
          <p:nvPr/>
        </p:nvPicPr>
        <p:blipFill>
          <a:blip r:embed="rId6"/>
          <a:stretch/>
        </p:blipFill>
        <p:spPr>
          <a:xfrm>
            <a:off x="8317080" y="0"/>
            <a:ext cx="663480" cy="663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8" descr="b699cfd5b71900647f3ef56417be1aa7"/>
          <p:cNvPicPr/>
          <p:nvPr/>
        </p:nvPicPr>
        <p:blipFill>
          <a:blip r:embed="rId7"/>
          <a:stretch/>
        </p:blipFill>
        <p:spPr>
          <a:xfrm>
            <a:off x="4211640" y="429264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9" descr="b699cfd5b71900647f3ef56417be1aa7"/>
          <p:cNvPicPr/>
          <p:nvPr/>
        </p:nvPicPr>
        <p:blipFill>
          <a:blip r:embed="rId8"/>
          <a:stretch/>
        </p:blipFill>
        <p:spPr>
          <a:xfrm>
            <a:off x="324000" y="620640"/>
            <a:ext cx="663480" cy="66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0" descr="b699cfd5b71900647f3ef56417be1aa7"/>
          <p:cNvPicPr/>
          <p:nvPr/>
        </p:nvPicPr>
        <p:blipFill>
          <a:blip r:embed="rId9"/>
          <a:stretch/>
        </p:blipFill>
        <p:spPr>
          <a:xfrm>
            <a:off x="179280" y="6021360"/>
            <a:ext cx="663840" cy="663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1"/>
          <p:cNvSpPr/>
          <p:nvPr/>
        </p:nvSpPr>
        <p:spPr>
          <a:xfrm>
            <a:off x="1905120" y="167652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92"/>
          <p:cNvSpPr/>
          <p:nvPr/>
        </p:nvSpPr>
        <p:spPr>
          <a:xfrm>
            <a:off x="1905120" y="205740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93"/>
          <p:cNvSpPr/>
          <p:nvPr/>
        </p:nvSpPr>
        <p:spPr>
          <a:xfrm>
            <a:off x="1908000" y="2421000"/>
            <a:ext cx="72108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94"/>
          <p:cNvSpPr/>
          <p:nvPr/>
        </p:nvSpPr>
        <p:spPr>
          <a:xfrm>
            <a:off x="1908000" y="2781360"/>
            <a:ext cx="72108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95"/>
          <p:cNvSpPr/>
          <p:nvPr/>
        </p:nvSpPr>
        <p:spPr>
          <a:xfrm>
            <a:off x="1908000" y="3141720"/>
            <a:ext cx="72108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96"/>
          <p:cNvSpPr/>
          <p:nvPr/>
        </p:nvSpPr>
        <p:spPr>
          <a:xfrm>
            <a:off x="6948360" y="170028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97"/>
          <p:cNvSpPr/>
          <p:nvPr/>
        </p:nvSpPr>
        <p:spPr>
          <a:xfrm>
            <a:off x="6934320" y="205740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98"/>
          <p:cNvSpPr/>
          <p:nvPr/>
        </p:nvSpPr>
        <p:spPr>
          <a:xfrm>
            <a:off x="6948360" y="242100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99"/>
          <p:cNvSpPr/>
          <p:nvPr/>
        </p:nvSpPr>
        <p:spPr>
          <a:xfrm>
            <a:off x="6948360" y="278136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100"/>
          <p:cNvSpPr/>
          <p:nvPr/>
        </p:nvSpPr>
        <p:spPr>
          <a:xfrm>
            <a:off x="6948360" y="314172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Рукописные данные 1" descr=""/>
          <p:cNvPicPr/>
          <p:nvPr/>
        </p:nvPicPr>
        <p:blipFill>
          <a:blip r:embed="rId10"/>
          <a:stretch/>
        </p:blipFill>
        <p:spPr>
          <a:xfrm>
            <a:off x="1065240" y="1650960"/>
            <a:ext cx="75675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Индия -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одна из древнейших цивилизаций мира - это загадочная, экзотическая страна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3048120" cy="2819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5257440" y="4419360"/>
            <a:ext cx="38862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Dotum"/>
              </a:rPr>
              <a:t>Афанасий Никити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Dotum"/>
              </a:rPr>
              <a:t>(? – 1474/75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Dotum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Dotum"/>
              </a:rPr>
              <a:t>А. Никитин – один из первых россиян, побывавший в Индии, подробно рассказывавший о далёкой стране в своей книге «Хождение за три моря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11" descr="Рисунок1111"/>
          <p:cNvPicPr/>
          <p:nvPr/>
        </p:nvPicPr>
        <p:blipFill>
          <a:blip r:embed="rId3"/>
          <a:stretch/>
        </p:blipFill>
        <p:spPr>
          <a:xfrm>
            <a:off x="2819520" y="4572000"/>
            <a:ext cx="15984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14" descr=""/>
          <p:cNvPicPr/>
          <p:nvPr/>
        </p:nvPicPr>
        <p:blipFill>
          <a:blip r:embed="rId4"/>
          <a:stretch/>
        </p:blipFill>
        <p:spPr>
          <a:xfrm>
            <a:off x="3581280" y="1828800"/>
            <a:ext cx="2438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Тема урока: « Умножение круглых чисел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048120" cy="2438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6840" y="4266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 rot="10800000">
            <a:off x="8457480" y="3632040"/>
            <a:ext cx="2133720" cy="3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62520" y="1066680"/>
            <a:ext cx="4495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Тадж-Махал 1632-1654 гг., памятник воздвигнутый правителем возлюбленной жене. Строительство Тадж-Махала длилось 22 года, на нем были заняты около 20 000 рабочих. Это одно из 7-ми чудес свет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WordArt 20"/>
          <p:cNvSpPr txBox="1"/>
          <p:nvPr/>
        </p:nvSpPr>
        <p:spPr>
          <a:xfrm>
            <a:off x="-533520" y="3784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WordArt 22"/>
          <p:cNvSpPr txBox="1"/>
          <p:nvPr/>
        </p:nvSpPr>
        <p:spPr>
          <a:xfrm>
            <a:off x="7315200" y="3706920"/>
            <a:ext cx="46080" cy="46080"/>
          </a:xfrm>
          <a:prstGeom prst="rect">
            <a:avLst/>
          </a:prstGeom>
        </p:spPr>
        <p:txBody>
          <a:bodyPr wrap="none" lIns="90000" rIns="90000" tIns="-360" bIns="-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WordArt 24"/>
          <p:cNvSpPr txBox="1"/>
          <p:nvPr/>
        </p:nvSpPr>
        <p:spPr>
          <a:xfrm>
            <a:off x="4629240" y="3635280"/>
            <a:ext cx="114120" cy="57240"/>
          </a:xfrm>
          <a:prstGeom prst="rect">
            <a:avLst/>
          </a:prstGeom>
        </p:spPr>
        <p:txBody>
          <a:bodyPr wrap="none" lIns="90000" rIns="90000" tIns="10800" bIns="10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dff"/>
                </a:solidFill>
                <a:latin typeface="Comic Sans MS"/>
              </a:rPr>
              <a:t>Алгоритм деления двузначного числа на однозначн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440" y="18288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ставь двузначное делимое в виде суммы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440" y="5029200"/>
            <a:ext cx="7581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енные частные сл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ждое слагаемое раздели на это чис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44197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4419720" y="4267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10" descr="Asiatic elephant (Elephas maximu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0" y="1600200"/>
            <a:ext cx="4572000" cy="525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205" name="WordArt 12"/>
          <p:cNvSpPr txBox="1"/>
          <p:nvPr/>
        </p:nvSpPr>
        <p:spPr>
          <a:xfrm>
            <a:off x="228600" y="152280"/>
            <a:ext cx="4267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Индийский 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слон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206" name="WordArt 13"/>
          <p:cNvSpPr txBox="1"/>
          <p:nvPr/>
        </p:nvSpPr>
        <p:spPr>
          <a:xfrm>
            <a:off x="4724280" y="0"/>
            <a:ext cx="4191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Африканский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 </a:t>
            </a: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слон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286640" y="2742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1920" y="380520"/>
            <a:ext cx="7620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На нашей планете обитает два вида слонов: индийские и африканские. Индийские слоны весят 5-6  тонн, а его африканский собрат 7- 8 тонн. Лоб у индийского слона высокий и выпуклый, а у африканского слона плоский и срезанный назад. Уши индийского слона  треугольные и втрое меньше, чем у африканского. Живут слоны 60 лет. Они могут бежать со скоростью 30 км/ч. Индийских слонов ещё называют азиатски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1) Чем отличается индийский слон от африканского? Подчеркни правильный ответ: весом, хвостами, лбами, уш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3) Какое расстояние пробежит слон за 2 часа? 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а)30+2=32(км.)     б)30 х 2 =60(км.)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81880" y="251424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3760" y="7238520"/>
            <a:ext cx="2400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 rot="10800000">
            <a:off x="8381880" y="5486400"/>
            <a:ext cx="763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4" descr="india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Garamond"/>
              </a:rPr>
              <a:t>Расставь порядок действий, вычис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64252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28600" y="1828800"/>
            <a:ext cx="4032360" cy="574560"/>
          </a:xfrm>
          <a:prstGeom prst="rect">
            <a:avLst/>
          </a:prstGeom>
          <a:solidFill>
            <a:srgbClr val="e2e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4 – ( 26 +9 ) : 7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800600" y="1828800"/>
            <a:ext cx="4176720" cy="576360"/>
          </a:xfrm>
          <a:prstGeom prst="rect">
            <a:avLst/>
          </a:prstGeom>
          <a:solidFill>
            <a:srgbClr val="e2e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0 – ( 32 + 4 ) : 4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438280" y="3809880"/>
            <a:ext cx="4248360" cy="648000"/>
          </a:xfrm>
          <a:prstGeom prst="rect">
            <a:avLst/>
          </a:prstGeom>
          <a:solidFill>
            <a:srgbClr val="e2e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 – ( 72 – 9 ) : 7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581280" y="1905120"/>
            <a:ext cx="648000" cy="431640"/>
          </a:xfrm>
          <a:prstGeom prst="rect">
            <a:avLst/>
          </a:prstGeom>
          <a:solidFill>
            <a:srgbClr val="d8d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943600" y="3962520"/>
            <a:ext cx="647640" cy="431640"/>
          </a:xfrm>
          <a:prstGeom prst="rect">
            <a:avLst/>
          </a:prstGeom>
          <a:solidFill>
            <a:srgbClr val="d8d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8305920" y="1905120"/>
            <a:ext cx="647640" cy="431640"/>
          </a:xfrm>
          <a:prstGeom prst="rect">
            <a:avLst/>
          </a:prstGeom>
          <a:solidFill>
            <a:srgbClr val="d8d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10" descr="e2fa05b7c7702d70497d3e9527ad0d87"/>
          <p:cNvPicPr/>
          <p:nvPr/>
        </p:nvPicPr>
        <p:blipFill>
          <a:blip r:embed="rId1"/>
          <a:stretch/>
        </p:blipFill>
        <p:spPr>
          <a:xfrm rot="339000">
            <a:off x="1368000" y="2782800"/>
            <a:ext cx="1095480" cy="1863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e2fa05b7c7702d70497d3e9527ad0d87"/>
          <p:cNvPicPr/>
          <p:nvPr/>
        </p:nvPicPr>
        <p:blipFill>
          <a:blip r:embed="rId2"/>
          <a:stretch/>
        </p:blipFill>
        <p:spPr>
          <a:xfrm>
            <a:off x="7740720" y="2565360"/>
            <a:ext cx="1060560" cy="2087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e2fa05b7c7702d70497d3e9527ad0d87"/>
          <p:cNvPicPr/>
          <p:nvPr/>
        </p:nvPicPr>
        <p:blipFill>
          <a:blip r:embed="rId3"/>
          <a:stretch/>
        </p:blipFill>
        <p:spPr>
          <a:xfrm>
            <a:off x="6477120" y="4114800"/>
            <a:ext cx="1280880" cy="2522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Red Fort New Delhi"/>
          <p:cNvPicPr/>
          <p:nvPr/>
        </p:nvPicPr>
        <p:blipFill>
          <a:blip r:embed="rId4"/>
          <a:stretch/>
        </p:blipFill>
        <p:spPr>
          <a:xfrm>
            <a:off x="0" y="0"/>
            <a:ext cx="10369440" cy="75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07:45:39Z</dcterms:created>
  <dc:creator>дом</dc:creator>
  <dc:description/>
  <dc:language>en-US</dc:language>
  <cp:lastModifiedBy>teacher101</cp:lastModifiedBy>
  <dcterms:modified xsi:type="dcterms:W3CDTF">2013-03-21T03:00:0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