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png" ContentType="image/png"/>
  <Override PartName="/ppt/media/image18.gif" ContentType="image/gif"/>
  <Override PartName="/ppt/media/image3.wmf" ContentType="image/x-wmf"/>
  <Override PartName="/ppt/media/image4.png" ContentType="image/png"/>
  <Override PartName="/ppt/media/image17.jpeg" ContentType="image/jpeg"/>
  <Override PartName="/ppt/media/image15.png" ContentType="image/png"/>
  <Override PartName="/ppt/media/image1.wmf" ContentType="image/x-wmf"/>
  <Override PartName="/ppt/media/image9.jpeg" ContentType="image/jpeg"/>
  <Override PartName="/ppt/media/image11.png" ContentType="image/png"/>
  <Override PartName="/ppt/media/image12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B96-9CBA-4050-AAC1-4B1F0EF4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A09-CEF2-46A6-9EC3-439C3A84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315-FCC6-4306-9ECB-A865B170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74C-2F5F-4B4E-B432-F273446D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C498-A34A-4FFB-90F6-C1944D1B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AEF2-53C9-4D19-9067-44287235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9B2F-6FFB-4C2C-A706-D1B8CACE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FE3-A474-4C8C-8CB5-11FD8C97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2E5D-2530-4041-BDAE-3C681D97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BC80-2EFE-47E3-B97F-E7690AA9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2EA2-61DB-4B71-AA57-9DA5B24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019-6141-41DF-BCDE-D65993A3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0D6F-EA3A-410E-A28A-811FBCFF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254B-7428-4314-9B56-9ABECE2E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29F1-AC43-40A3-BF72-7D9164D3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D75-D7ED-437B-90CE-62D63511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B295-9219-4A58-8264-DDEDD4AB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2C6-D419-478B-ACA3-29334866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3AE-D5B2-4374-96B6-3F8DD99A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B24-19BA-4022-BE64-D4E10097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647-7612-4442-9636-86CA28A1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822-E4B0-48EB-BA31-E11FC797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EF7-5F33-42A2-8E8B-587D7697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858-8160-4B4F-8F8D-E9683577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7B73-FB59-4F7B-925B-D33EC0624B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54C5-3082-4FAA-9334-911EE9042E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43200" y="1980720"/>
            <a:ext cx="5029200" cy="3048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розвенел звонок для нас!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Встали все у парт красиво,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оздоровались учтиво, 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Тихо сели, спинки прямо. 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Все легонечко вздохнем.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Урок математики начн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533520"/>
            <a:ext cx="73436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" Все в твоих руках "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7" name="Picture 3" descr="Рука"/>
          <p:cNvPicPr/>
          <p:nvPr/>
        </p:nvPicPr>
        <p:blipFill>
          <a:blip r:embed="rId3"/>
          <a:srcRect l="16145" t="8855" r="24671" b="0"/>
          <a:stretch/>
        </p:blipFill>
        <p:spPr>
          <a:xfrm>
            <a:off x="2133720" y="2666880"/>
            <a:ext cx="5402160" cy="39610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4"/>
          <p:cNvSpPr/>
          <p:nvPr/>
        </p:nvSpPr>
        <p:spPr>
          <a:xfrm>
            <a:off x="6659640" y="5229360"/>
            <a:ext cx="217944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ля меня тема был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ажной и интересно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172200" y="2743200"/>
            <a:ext cx="2057400" cy="5079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знал много новог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429000" y="2209680"/>
            <a:ext cx="1994040" cy="4622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не было труд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838080" y="2666880"/>
            <a:ext cx="2244960" cy="5079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не было комфорт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0720" y="4419720"/>
            <a:ext cx="1657080" cy="792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ля меня было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едостаточно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нформаци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581280" y="4495680"/>
            <a:ext cx="16765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3581280" y="4648320"/>
            <a:ext cx="16765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ты научился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4" descr="Берега Инд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f2860cdf1290"/>
          <p:cNvPicPr/>
          <p:nvPr/>
        </p:nvPicPr>
        <p:blipFill>
          <a:blip r:embed="rId2"/>
          <a:stretch/>
        </p:blipFill>
        <p:spPr>
          <a:xfrm>
            <a:off x="1042920" y="1916280"/>
            <a:ext cx="3382920" cy="3382920"/>
          </a:xfrm>
          <a:prstGeom prst="rect">
            <a:avLst/>
          </a:prstGeom>
          <a:ln w="0">
            <a:noFill/>
          </a:ln>
        </p:spPr>
      </p:pic>
      <p:sp>
        <p:nvSpPr>
          <p:cNvPr id="238" name="WordArt 6"/>
          <p:cNvSpPr txBox="1"/>
          <p:nvPr/>
        </p:nvSpPr>
        <p:spPr>
          <a:xfrm>
            <a:off x="1042920" y="404640"/>
            <a:ext cx="33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4140360" y="5589720"/>
            <a:ext cx="43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1844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33360" y="3538440"/>
          <a:ext cx="2424240" cy="588960"/>
        </p:xfrm>
        <a:graphic>
          <a:graphicData uri="http://schemas.openxmlformats.org/drawingml/2006/table">
            <a:tbl>
              <a:tblPr/>
              <a:tblGrid>
                <a:gridCol w="397080"/>
                <a:gridCol w="573120"/>
                <a:gridCol w="484200"/>
                <a:gridCol w="415800"/>
                <a:gridCol w="55404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26920" y="5157720"/>
          <a:ext cx="3961080" cy="102096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76360"/>
                <a:gridCol w="503280"/>
                <a:gridCol w="504720"/>
                <a:gridCol w="360360"/>
                <a:gridCol w="503280"/>
              </a:tblGrid>
              <a:tr h="50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03640" y="5157720"/>
          <a:ext cx="3816360" cy="1014480"/>
        </p:xfrm>
        <a:graphic>
          <a:graphicData uri="http://schemas.openxmlformats.org/drawingml/2006/table">
            <a:tbl>
              <a:tblPr/>
              <a:tblGrid>
                <a:gridCol w="576360"/>
                <a:gridCol w="432000"/>
                <a:gridCol w="647640"/>
                <a:gridCol w="503280"/>
                <a:gridCol w="577800"/>
                <a:gridCol w="431640"/>
                <a:gridCol w="647640"/>
              </a:tblGrid>
              <a:tr h="49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78" descr="TN00022_"/>
          <p:cNvPicPr/>
          <p:nvPr/>
        </p:nvPicPr>
        <p:blipFill>
          <a:blip r:embed="rId1"/>
          <a:stretch/>
        </p:blipFill>
        <p:spPr>
          <a:xfrm>
            <a:off x="3859200" y="2084400"/>
            <a:ext cx="1362240" cy="1571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9"/>
          <p:cNvSpPr/>
          <p:nvPr/>
        </p:nvSpPr>
        <p:spPr>
          <a:xfrm>
            <a:off x="533520" y="227160"/>
            <a:ext cx="813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Найди значения выражений и расшифру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: 8 =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360 : 60 =    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 : 3 =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28 : 4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2 : 8 =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8 х 8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: 4 =      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70 : 7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 х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Я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450 : 9 =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0"/>
          <p:cNvSpPr/>
          <p:nvPr/>
        </p:nvSpPr>
        <p:spPr>
          <a:xfrm>
            <a:off x="826920" y="5661000"/>
            <a:ext cx="396108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А   Ф   А   Н   А   С   И   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1"/>
          <p:cNvSpPr/>
          <p:nvPr/>
        </p:nvSpPr>
        <p:spPr>
          <a:xfrm>
            <a:off x="5003640" y="5661000"/>
            <a:ext cx="381636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Н   И   К    И    Т   И   Н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82"/>
          <p:cNvSpPr/>
          <p:nvPr/>
        </p:nvSpPr>
        <p:spPr>
          <a:xfrm>
            <a:off x="1219320" y="4114800"/>
            <a:ext cx="243828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И   Н   Д   И   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83" descr="b699cfd5b71900647f3ef56417be1aa7"/>
          <p:cNvPicPr/>
          <p:nvPr/>
        </p:nvPicPr>
        <p:blipFill>
          <a:blip r:embed="rId2"/>
          <a:stretch/>
        </p:blipFill>
        <p:spPr>
          <a:xfrm>
            <a:off x="6084720" y="3933720"/>
            <a:ext cx="373320" cy="37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4" descr="b699cfd5b71900647f3ef56417be1aa7"/>
          <p:cNvPicPr/>
          <p:nvPr/>
        </p:nvPicPr>
        <p:blipFill>
          <a:blip r:embed="rId3"/>
          <a:stretch/>
        </p:blipFill>
        <p:spPr>
          <a:xfrm>
            <a:off x="6227640" y="105264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5" descr="b699cfd5b71900647f3ef56417be1aa7"/>
          <p:cNvPicPr/>
          <p:nvPr/>
        </p:nvPicPr>
        <p:blipFill>
          <a:blip r:embed="rId4"/>
          <a:stretch/>
        </p:blipFill>
        <p:spPr>
          <a:xfrm>
            <a:off x="8317080" y="429264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6" descr="b699cfd5b71900647f3ef56417be1aa7"/>
          <p:cNvPicPr/>
          <p:nvPr/>
        </p:nvPicPr>
        <p:blipFill>
          <a:blip r:embed="rId5"/>
          <a:stretch/>
        </p:blipFill>
        <p:spPr>
          <a:xfrm>
            <a:off x="250920" y="3933720"/>
            <a:ext cx="663480" cy="66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7" descr="b699cfd5b71900647f3ef56417be1aa7"/>
          <p:cNvPicPr/>
          <p:nvPr/>
        </p:nvPicPr>
        <p:blipFill>
          <a:blip r:embed="rId6"/>
          <a:stretch/>
        </p:blipFill>
        <p:spPr>
          <a:xfrm>
            <a:off x="8317080" y="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8" descr="b699cfd5b71900647f3ef56417be1aa7"/>
          <p:cNvPicPr/>
          <p:nvPr/>
        </p:nvPicPr>
        <p:blipFill>
          <a:blip r:embed="rId7"/>
          <a:stretch/>
        </p:blipFill>
        <p:spPr>
          <a:xfrm>
            <a:off x="4211640" y="429264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9" descr="b699cfd5b71900647f3ef56417be1aa7"/>
          <p:cNvPicPr/>
          <p:nvPr/>
        </p:nvPicPr>
        <p:blipFill>
          <a:blip r:embed="rId8"/>
          <a:stretch/>
        </p:blipFill>
        <p:spPr>
          <a:xfrm>
            <a:off x="324000" y="62064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0" descr="b699cfd5b71900647f3ef56417be1aa7"/>
          <p:cNvPicPr/>
          <p:nvPr/>
        </p:nvPicPr>
        <p:blipFill>
          <a:blip r:embed="rId9"/>
          <a:stretch/>
        </p:blipFill>
        <p:spPr>
          <a:xfrm>
            <a:off x="179280" y="6021360"/>
            <a:ext cx="663840" cy="663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1"/>
          <p:cNvSpPr/>
          <p:nvPr/>
        </p:nvSpPr>
        <p:spPr>
          <a:xfrm>
            <a:off x="1905120" y="167652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2"/>
          <p:cNvSpPr/>
          <p:nvPr/>
        </p:nvSpPr>
        <p:spPr>
          <a:xfrm>
            <a:off x="1905120" y="20574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3"/>
          <p:cNvSpPr/>
          <p:nvPr/>
        </p:nvSpPr>
        <p:spPr>
          <a:xfrm>
            <a:off x="1908000" y="242100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94"/>
          <p:cNvSpPr/>
          <p:nvPr/>
        </p:nvSpPr>
        <p:spPr>
          <a:xfrm>
            <a:off x="1908000" y="278136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5"/>
          <p:cNvSpPr/>
          <p:nvPr/>
        </p:nvSpPr>
        <p:spPr>
          <a:xfrm>
            <a:off x="1908000" y="314172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96"/>
          <p:cNvSpPr/>
          <p:nvPr/>
        </p:nvSpPr>
        <p:spPr>
          <a:xfrm>
            <a:off x="6948360" y="170028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97"/>
          <p:cNvSpPr/>
          <p:nvPr/>
        </p:nvSpPr>
        <p:spPr>
          <a:xfrm>
            <a:off x="6934320" y="20574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98"/>
          <p:cNvSpPr/>
          <p:nvPr/>
        </p:nvSpPr>
        <p:spPr>
          <a:xfrm>
            <a:off x="6948360" y="24210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99"/>
          <p:cNvSpPr/>
          <p:nvPr/>
        </p:nvSpPr>
        <p:spPr>
          <a:xfrm>
            <a:off x="6948360" y="278136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00"/>
          <p:cNvSpPr/>
          <p:nvPr/>
        </p:nvSpPr>
        <p:spPr>
          <a:xfrm>
            <a:off x="6948360" y="314172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укописные данные 1" descr=""/>
          <p:cNvPicPr/>
          <p:nvPr/>
        </p:nvPicPr>
        <p:blipFill>
          <a:blip r:embed="rId10"/>
          <a:stretch/>
        </p:blipFill>
        <p:spPr>
          <a:xfrm>
            <a:off x="1065240" y="1650960"/>
            <a:ext cx="75675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Индия -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одна из древнейших цивилизаций мира - это загадочная, экзотическая страна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5257440" y="4419360"/>
            <a:ext cx="38862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Dotum"/>
              </a:rPr>
              <a:t>Афанасий Никити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Dotum"/>
              </a:rPr>
              <a:t>(? – 1474/75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Dotum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Dotum"/>
              </a:rPr>
              <a:t>А. Никитин – один из первых россиян, побывавший в Индии, подробно рассказывавший о далёкой стране в своей книге «Хождение за три моря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1" descr="Рисунок1111"/>
          <p:cNvPicPr/>
          <p:nvPr/>
        </p:nvPicPr>
        <p:blipFill>
          <a:blip r:embed="rId3"/>
          <a:stretch/>
        </p:blipFill>
        <p:spPr>
          <a:xfrm>
            <a:off x="2819520" y="4572000"/>
            <a:ext cx="15984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4"/>
          <a:stretch/>
        </p:blipFill>
        <p:spPr>
          <a:xfrm>
            <a:off x="3581280" y="182880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Тема урока: « Умножение круглых чисел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6840" y="4266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 rot="10800000">
            <a:off x="8457480" y="3632040"/>
            <a:ext cx="2133720" cy="3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62520" y="106668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Тадж-Махал 1632-1654 гг., памятник воздвигнутый правителем возлюбленной жене. Строительство Тадж-Махала длилось 22 года, на нем были заняты около 20 000 рабочих. Это одно из 7-ми чудес све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20"/>
          <p:cNvSpPr txBox="1"/>
          <p:nvPr/>
        </p:nvSpPr>
        <p:spPr>
          <a:xfrm>
            <a:off x="-533520" y="3784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22"/>
          <p:cNvSpPr txBox="1"/>
          <p:nvPr/>
        </p:nvSpPr>
        <p:spPr>
          <a:xfrm>
            <a:off x="7315200" y="3706920"/>
            <a:ext cx="46080" cy="46080"/>
          </a:xfrm>
          <a:prstGeom prst="rect">
            <a:avLst/>
          </a:prstGeom>
        </p:spPr>
        <p:txBody>
          <a:bodyPr wrap="none" lIns="90000" rIns="90000" tIns="-360" bIns="-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4629240" y="3635280"/>
            <a:ext cx="114120" cy="57240"/>
          </a:xfrm>
          <a:prstGeom prst="rect">
            <a:avLst/>
          </a:prstGeom>
        </p:spPr>
        <p:txBody>
          <a:bodyPr wrap="none" lIns="90000" rIns="90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dff"/>
                </a:solidFill>
                <a:latin typeface="Comic Sans MS"/>
              </a:rPr>
              <a:t>Алгоритм деления двузначного числа на однознач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440" y="1828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тавь двузначное делимое в виде суммы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440" y="5029200"/>
            <a:ext cx="7581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енные частные сл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е слагаемое раздели на это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44197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41972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0" descr="Asiatic elephant (Elephas maximu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525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12"/>
          <p:cNvSpPr txBox="1"/>
          <p:nvPr/>
        </p:nvSpPr>
        <p:spPr>
          <a:xfrm>
            <a:off x="228600" y="15228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Индийский 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лон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206" name="WordArt 13"/>
          <p:cNvSpPr txBox="1"/>
          <p:nvPr/>
        </p:nvSpPr>
        <p:spPr>
          <a:xfrm>
            <a:off x="4724280" y="0"/>
            <a:ext cx="4191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Африканский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лон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286640" y="2742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1920" y="380520"/>
            <a:ext cx="7620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На нашей планете обитает два вида слонов: индийские и африканские. Индийские слоны весят 5-6  тонн, а его африканский собрат 7- 8 тонн. Лоб у индийского слона высокий и выпуклый, а у африканского слона плоский и срезанный назад. Уши индийского слона  треугольные и втрое меньше, чем у африканского. Живут слоны 60 лет. Они могут бежать со скоростью 30 км/ч. Индийских слонов ещё называют азиатски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1) Чем отличается индийский слон от африканского? Подчеркни правильный ответ: весом, хвостами, лбами, уш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3) Какое расстояние пробежит слон за 2 часа? 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)30+2=32(км.)     б)30 х 2 =60(км.)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1880" y="251424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3760" y="7238520"/>
            <a:ext cx="240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 rot="10800000">
            <a:off x="8381880" y="5486400"/>
            <a:ext cx="76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india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Garamond"/>
              </a:rPr>
              <a:t>Расставь порядок действий, вычис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64252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28600" y="1828800"/>
            <a:ext cx="4032360" cy="57456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4 – ( 26 +9 ) : 7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800600" y="1828800"/>
            <a:ext cx="4176720" cy="57636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 – ( 32 + 4 ) : 4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438280" y="3809880"/>
            <a:ext cx="4248360" cy="64800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– ( 72 – 9 ) : 7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581280" y="1905120"/>
            <a:ext cx="64800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43600" y="3962520"/>
            <a:ext cx="64764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8305920" y="1905120"/>
            <a:ext cx="64764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0" descr="e2fa05b7c7702d70497d3e9527ad0d87"/>
          <p:cNvPicPr/>
          <p:nvPr/>
        </p:nvPicPr>
        <p:blipFill>
          <a:blip r:embed="rId1"/>
          <a:stretch/>
        </p:blipFill>
        <p:spPr>
          <a:xfrm rot="339000">
            <a:off x="1368000" y="2782800"/>
            <a:ext cx="1095480" cy="1863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e2fa05b7c7702d70497d3e9527ad0d87"/>
          <p:cNvPicPr/>
          <p:nvPr/>
        </p:nvPicPr>
        <p:blipFill>
          <a:blip r:embed="rId2"/>
          <a:stretch/>
        </p:blipFill>
        <p:spPr>
          <a:xfrm>
            <a:off x="7740720" y="2565360"/>
            <a:ext cx="106056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e2fa05b7c7702d70497d3e9527ad0d87"/>
          <p:cNvPicPr/>
          <p:nvPr/>
        </p:nvPicPr>
        <p:blipFill>
          <a:blip r:embed="rId3"/>
          <a:stretch/>
        </p:blipFill>
        <p:spPr>
          <a:xfrm>
            <a:off x="6477120" y="4114800"/>
            <a:ext cx="1280880" cy="2522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Red Fort New Delhi"/>
          <p:cNvPicPr/>
          <p:nvPr/>
        </p:nvPicPr>
        <p:blipFill>
          <a:blip r:embed="rId4"/>
          <a:stretch/>
        </p:blipFill>
        <p:spPr>
          <a:xfrm>
            <a:off x="0" y="0"/>
            <a:ext cx="10369440" cy="75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7:45:39Z</dcterms:created>
  <dc:creator>дом</dc:creator>
  <dc:description/>
  <dc:language>en-US</dc:language>
  <cp:lastModifiedBy>teacher101</cp:lastModifiedBy>
  <dcterms:modified xsi:type="dcterms:W3CDTF">2013-03-21T03:00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