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6.jpeg" ContentType="image/jpeg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B5B-70EA-4072-9D0F-48FD3A57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746-B2AC-4408-BF85-0605A1EF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0D1-BE92-4FE9-A16D-08323227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930-E3B6-4C61-8103-BF069E23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E34B-F780-4744-B575-F2EB89A3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48D1-2A1A-403C-970F-EC3F3F78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113A-8292-4AF5-9BF3-BE7D7306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7E19-A3F8-4993-9AF8-1D50164B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25D7-AC0E-4AFE-BD38-C667143E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F8A2-22AC-41FA-AABB-93C71A25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0570-8047-4693-977B-9FB9D358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CE9-23B4-406B-89ED-08C869D2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4D5D-3CB4-4246-897A-D11F6FFC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F4E4-2E77-4FFF-A542-C48C13A7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21F8-7E18-4A0F-905E-F48E268F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1F51-2228-4F55-9353-C836B75F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0FE7-018D-4C4D-94E9-514CFE36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170C-CF50-4086-BC24-8DFC83B0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0327-790E-4E4A-8614-BC1B8119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6DC7-9651-41F9-B872-65CF39E6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39FB7-CB78-46D4-9DCE-3CB03C7D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DAC0-5B62-44F4-838D-3050B538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144-5292-4897-81B6-99374AC4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5B9E-846C-4D7D-A6A2-7B1697E8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9D9D7-80F7-414D-BCDB-9CE001D0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D3BC7-D729-4A1A-B88A-6DC48A78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89E9-A5A6-4D4D-82FD-71A7CD93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D024A-B934-4AF7-8D92-A5FB8220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579D-D2A3-4C17-A4BD-7D3AE62A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8E8D-500C-40B5-BB90-7C97263E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C02-43AF-49B8-9D98-9B103E52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C52-6FD1-46B9-8099-172664A1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46B-D17B-4B26-A410-6CC673DA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98D-DBD8-4921-B6F2-ED9F5C07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FCE-E553-4B32-A3E0-34C58FF8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663-7933-4A14-9A15-42CF027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591F-AFCD-46A0-A82C-AA8C96BE75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660E-CFBB-4570-A94E-47A497D4A63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00FA-E55E-46AE-BCC4-FA8DDCF6963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Объект 5"/>
          <p:cNvGraphicFramePr/>
          <p:nvPr/>
        </p:nvGraphicFramePr>
        <p:xfrm>
          <a:off x="900000" y="620640"/>
          <a:ext cx="7272360" cy="5454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0640"/>
                    <a:ext cx="7272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8" descr="img0771"/>
          <p:cNvPicPr/>
          <p:nvPr/>
        </p:nvPicPr>
        <p:blipFill>
          <a:blip r:embed="rId1"/>
          <a:stretch/>
        </p:blipFill>
        <p:spPr>
          <a:xfrm>
            <a:off x="4600440" y="2205000"/>
            <a:ext cx="4543560" cy="23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img06911"/>
          <p:cNvPicPr/>
          <p:nvPr/>
        </p:nvPicPr>
        <p:blipFill>
          <a:blip r:embed="rId2"/>
          <a:stretch/>
        </p:blipFill>
        <p:spPr>
          <a:xfrm>
            <a:off x="0" y="333360"/>
            <a:ext cx="4591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img0702"/>
          <p:cNvPicPr/>
          <p:nvPr/>
        </p:nvPicPr>
        <p:blipFill>
          <a:blip r:embed="rId1"/>
          <a:stretch/>
        </p:blipFill>
        <p:spPr>
          <a:xfrm>
            <a:off x="0" y="0"/>
            <a:ext cx="4356000" cy="659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img111"/>
          <p:cNvPicPr/>
          <p:nvPr/>
        </p:nvPicPr>
        <p:blipFill>
          <a:blip r:embed="rId2"/>
          <a:stretch/>
        </p:blipFill>
        <p:spPr>
          <a:xfrm>
            <a:off x="4284720" y="3068640"/>
            <a:ext cx="4859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img0761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img112"/>
          <p:cNvPicPr/>
          <p:nvPr/>
        </p:nvPicPr>
        <p:blipFill>
          <a:blip r:embed="rId2"/>
          <a:stretch/>
        </p:blipFill>
        <p:spPr>
          <a:xfrm>
            <a:off x="4284720" y="2133720"/>
            <a:ext cx="45720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viewer?url=http%3A%2F%2Fnsportal"/>
          <p:cNvPicPr/>
          <p:nvPr/>
        </p:nvPicPr>
        <p:blipFill>
          <a:blip r:embed="rId1"/>
          <a:stretch/>
        </p:blipFill>
        <p:spPr>
          <a:xfrm>
            <a:off x="1187280" y="620640"/>
            <a:ext cx="6480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0675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На прогулку из яслей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Вышли 10 малышей.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5 из них на травку сели,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Остальные на качел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J01107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2920" y="1052640"/>
            <a:ext cx="720108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лон, слониха, два слон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Шли толпой на водоп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 на встречу три тигр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 водопоя шли дом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осчитайте поскорей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встретилось зверей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DD01023_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836640"/>
            <a:ext cx="65534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ядя Ёжик в сад зашёл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есять яблочек нашёл.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Семь из них он дал ежатам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Остальные же – зайчатам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яблок получили зайчата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SO00544_"/>
          <p:cNvPicPr/>
          <p:nvPr/>
        </p:nvPicPr>
        <p:blipFill>
          <a:blip r:embed="rId1"/>
          <a:stretch/>
        </p:blipFill>
        <p:spPr>
          <a:xfrm>
            <a:off x="3419640" y="5156280"/>
            <a:ext cx="215244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SO00544_"/>
          <p:cNvPicPr/>
          <p:nvPr/>
        </p:nvPicPr>
        <p:blipFill>
          <a:blip r:embed="rId2"/>
          <a:stretch/>
        </p:blipFill>
        <p:spPr>
          <a:xfrm>
            <a:off x="4572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SO00544_"/>
          <p:cNvPicPr/>
          <p:nvPr/>
        </p:nvPicPr>
        <p:blipFill>
          <a:blip r:embed="rId3"/>
          <a:stretch/>
        </p:blipFill>
        <p:spPr>
          <a:xfrm>
            <a:off x="262728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SO00544_"/>
          <p:cNvPicPr/>
          <p:nvPr/>
        </p:nvPicPr>
        <p:blipFill>
          <a:blip r:embed="rId4"/>
          <a:stretch/>
        </p:blipFill>
        <p:spPr>
          <a:xfrm>
            <a:off x="543564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SO00544_"/>
          <p:cNvPicPr/>
          <p:nvPr/>
        </p:nvPicPr>
        <p:blipFill>
          <a:blip r:embed="rId5"/>
          <a:stretch/>
        </p:blipFill>
        <p:spPr>
          <a:xfrm>
            <a:off x="1979640" y="544500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SO00544_"/>
          <p:cNvPicPr/>
          <p:nvPr/>
        </p:nvPicPr>
        <p:blipFill>
          <a:blip r:embed="rId6"/>
          <a:stretch/>
        </p:blipFill>
        <p:spPr>
          <a:xfrm>
            <a:off x="1258920" y="537372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3" descr="SO00544_"/>
          <p:cNvPicPr/>
          <p:nvPr/>
        </p:nvPicPr>
        <p:blipFill>
          <a:blip r:embed="rId7"/>
          <a:stretch/>
        </p:blipFill>
        <p:spPr>
          <a:xfrm>
            <a:off x="601200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4" descr="SO00544_"/>
          <p:cNvPicPr/>
          <p:nvPr/>
        </p:nvPicPr>
        <p:blipFill>
          <a:blip r:embed="rId8"/>
          <a:stretch/>
        </p:blipFill>
        <p:spPr>
          <a:xfrm>
            <a:off x="6804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SO00544_"/>
          <p:cNvPicPr/>
          <p:nvPr/>
        </p:nvPicPr>
        <p:blipFill>
          <a:blip r:embed="rId9"/>
          <a:stretch/>
        </p:blipFill>
        <p:spPr>
          <a:xfrm>
            <a:off x="684360" y="5516640"/>
            <a:ext cx="1792080" cy="1079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SO00544_"/>
          <p:cNvPicPr/>
          <p:nvPr/>
        </p:nvPicPr>
        <p:blipFill>
          <a:blip r:embed="rId10"/>
          <a:stretch/>
        </p:blipFill>
        <p:spPr>
          <a:xfrm>
            <a:off x="7351560" y="5445000"/>
            <a:ext cx="1792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7640" y="1341360"/>
            <a:ext cx="65534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ама сдавала в багаж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иван, чемодан, саквояж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Картину, корзину, карт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 маленькую собачонку.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колько неживых предметов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давала дама в багаж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DD01025_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1052640"/>
            <a:ext cx="728352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ять щенков в футбол играли,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дного домой позвали.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н глядит в окно, считает: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колько их теперь игр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SL00380_"/>
          <p:cNvPicPr/>
          <p:nvPr/>
        </p:nvPicPr>
        <p:blipFill>
          <a:blip r:embed="rId1"/>
          <a:stretch/>
        </p:blipFill>
        <p:spPr>
          <a:xfrm>
            <a:off x="2484360" y="5516640"/>
            <a:ext cx="1030320" cy="1081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SO01374_"/>
          <p:cNvPicPr/>
          <p:nvPr/>
        </p:nvPicPr>
        <p:blipFill>
          <a:blip r:embed="rId2"/>
          <a:stretch/>
        </p:blipFill>
        <p:spPr>
          <a:xfrm>
            <a:off x="3851280" y="393372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от восемь зайча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иду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 ними вдог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вое бегут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ак сколько ж всего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лесной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оропится очень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йчишек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O00289_"/>
          <p:cNvPicPr/>
          <p:nvPr/>
        </p:nvPicPr>
        <p:blipFill>
          <a:blip r:embed="rId1"/>
          <a:stretch/>
        </p:blipFill>
        <p:spPr>
          <a:xfrm>
            <a:off x="5506920" y="1700280"/>
            <a:ext cx="2882880" cy="4476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SO02082_"/>
          <p:cNvPicPr/>
          <p:nvPr/>
        </p:nvPicPr>
        <p:blipFill>
          <a:blip r:embed="rId2"/>
          <a:stretch/>
        </p:blipFill>
        <p:spPr>
          <a:xfrm>
            <a:off x="5724360" y="3573360"/>
            <a:ext cx="1347840" cy="1312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DD01076_"/>
          <p:cNvPicPr/>
          <p:nvPr/>
        </p:nvPicPr>
        <p:blipFill>
          <a:blip r:embed="rId3"/>
          <a:stretch/>
        </p:blipFill>
        <p:spPr>
          <a:xfrm>
            <a:off x="0" y="-1260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5, 7, 3, 6, 4, 1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3068640"/>
            <a:ext cx="7488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3, 4, 5, 6, 7,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55:12Z</dcterms:created>
  <dc:creator>AND</dc:creator>
  <dc:description/>
  <dc:language>en-US</dc:language>
  <cp:lastModifiedBy>James Bond</cp:lastModifiedBy>
  <dcterms:modified xsi:type="dcterms:W3CDTF">2013-03-21T17:41:57Z</dcterms:modified>
  <cp:revision>19</cp:revision>
  <dc:subject/>
  <dc:title>На прогулку из яслей Выли 10 малышей. 5 из них на травку сели, Остальные на качели </dc:title>
</cp:coreProperties>
</file>