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6.jpeg" ContentType="image/jpeg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828-4365-4C6E-BEBF-3A8FAF0B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8A0-AA09-47C5-921A-38215A5C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6F7-702B-424C-973A-7B26C25F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BAD-713C-420C-AD7A-1D524E68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4094-A568-415B-94B5-7CC0FE0C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D972-AE82-4DBF-B81D-CF5B711E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4475-727F-42A7-B3AE-14418A90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D177-0782-43BC-ACB8-62A3E66C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5530-8B6B-474B-8B4A-FBE08462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460A-F347-46F0-BA8A-8351D3ED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C985-A57C-4535-8318-FD0FE768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830-F005-4B9B-9B28-875E2ECE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5DA2-462D-4F77-970E-7E465835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0316-2405-4BF8-BE92-BE410583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ED8C-3F98-4028-82D9-8C59D03E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E5FB-F47D-472C-919D-081277E8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C3CC-48DF-4736-9440-3F220583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ED7E-8B5F-443D-A029-000D76A0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88684-DBBC-4F81-B878-8103D932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8BBC-E81B-4C45-85E8-D926AAD6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F5A3-F168-4BCD-9CB0-787356C5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F617-178D-4108-AD76-89296349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EA6-C156-4532-AE34-CF3F3EB0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7D64-A70F-4C93-9551-F09DFA16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3C815-1AEE-4149-BAB4-863F3DB9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65C5-A174-491B-9E47-5880C410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BEA6E-244A-46ED-8AF7-AA01CD65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FD21-1470-40B4-B790-BC2EFEED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0583-22E5-41EE-97B8-6FD8DB89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7AF55-CEC3-49F1-A37C-6D87E7CD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08C-F66C-4A93-8103-D67DF578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4B4-C05A-4DDE-BB92-ED5C6274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992-AAEB-482D-8682-CE70EACE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347-C4C3-4DB5-B037-D6DE91C7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A39-42EB-4214-8452-7754D6C8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43C-60A9-450A-81DF-FC494D55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5970-5B90-4606-8CC0-34FD396529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C617-9954-4531-A603-14575A69D57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01B4-A2A4-45B2-BCAB-CAD0703C024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Объект 5"/>
          <p:cNvGraphicFramePr/>
          <p:nvPr/>
        </p:nvGraphicFramePr>
        <p:xfrm>
          <a:off x="900000" y="620640"/>
          <a:ext cx="7272360" cy="5454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0640"/>
                    <a:ext cx="7272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8" descr="img0771"/>
          <p:cNvPicPr/>
          <p:nvPr/>
        </p:nvPicPr>
        <p:blipFill>
          <a:blip r:embed="rId1"/>
          <a:stretch/>
        </p:blipFill>
        <p:spPr>
          <a:xfrm>
            <a:off x="4600440" y="2205000"/>
            <a:ext cx="4543560" cy="23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img06911"/>
          <p:cNvPicPr/>
          <p:nvPr/>
        </p:nvPicPr>
        <p:blipFill>
          <a:blip r:embed="rId2"/>
          <a:stretch/>
        </p:blipFill>
        <p:spPr>
          <a:xfrm>
            <a:off x="0" y="333360"/>
            <a:ext cx="4591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img0702"/>
          <p:cNvPicPr/>
          <p:nvPr/>
        </p:nvPicPr>
        <p:blipFill>
          <a:blip r:embed="rId1"/>
          <a:stretch/>
        </p:blipFill>
        <p:spPr>
          <a:xfrm>
            <a:off x="0" y="0"/>
            <a:ext cx="4356000" cy="659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img111"/>
          <p:cNvPicPr/>
          <p:nvPr/>
        </p:nvPicPr>
        <p:blipFill>
          <a:blip r:embed="rId2"/>
          <a:stretch/>
        </p:blipFill>
        <p:spPr>
          <a:xfrm>
            <a:off x="4284720" y="3068640"/>
            <a:ext cx="4859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img0761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img112"/>
          <p:cNvPicPr/>
          <p:nvPr/>
        </p:nvPicPr>
        <p:blipFill>
          <a:blip r:embed="rId2"/>
          <a:stretch/>
        </p:blipFill>
        <p:spPr>
          <a:xfrm>
            <a:off x="4284720" y="2133720"/>
            <a:ext cx="45720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viewer?url=http%3A%2F%2Fnsportal"/>
          <p:cNvPicPr/>
          <p:nvPr/>
        </p:nvPicPr>
        <p:blipFill>
          <a:blip r:embed="rId1"/>
          <a:stretch/>
        </p:blipFill>
        <p:spPr>
          <a:xfrm>
            <a:off x="1187280" y="620640"/>
            <a:ext cx="6480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0675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На прогулку из яслей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Вышли 10 малышей.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5 из них на травку сели,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Остальные на качел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J01107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2920" y="1052640"/>
            <a:ext cx="720108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лон, слониха, два слон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Шли толпой на водоп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 на встречу три тигр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 водопоя шли дом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осчитайте поскорей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встретилось зверей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DD01023_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836640"/>
            <a:ext cx="65534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ядя Ёжик в сад зашёл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есять яблочек нашёл.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Семь из них он дал ежатам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Остальные же – зайчатам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яблок получили зайчата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SO00544_"/>
          <p:cNvPicPr/>
          <p:nvPr/>
        </p:nvPicPr>
        <p:blipFill>
          <a:blip r:embed="rId1"/>
          <a:stretch/>
        </p:blipFill>
        <p:spPr>
          <a:xfrm>
            <a:off x="3419640" y="5156280"/>
            <a:ext cx="215244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SO00544_"/>
          <p:cNvPicPr/>
          <p:nvPr/>
        </p:nvPicPr>
        <p:blipFill>
          <a:blip r:embed="rId2"/>
          <a:stretch/>
        </p:blipFill>
        <p:spPr>
          <a:xfrm>
            <a:off x="4572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SO00544_"/>
          <p:cNvPicPr/>
          <p:nvPr/>
        </p:nvPicPr>
        <p:blipFill>
          <a:blip r:embed="rId3"/>
          <a:stretch/>
        </p:blipFill>
        <p:spPr>
          <a:xfrm>
            <a:off x="262728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SO00544_"/>
          <p:cNvPicPr/>
          <p:nvPr/>
        </p:nvPicPr>
        <p:blipFill>
          <a:blip r:embed="rId4"/>
          <a:stretch/>
        </p:blipFill>
        <p:spPr>
          <a:xfrm>
            <a:off x="543564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SO00544_"/>
          <p:cNvPicPr/>
          <p:nvPr/>
        </p:nvPicPr>
        <p:blipFill>
          <a:blip r:embed="rId5"/>
          <a:stretch/>
        </p:blipFill>
        <p:spPr>
          <a:xfrm>
            <a:off x="1979640" y="544500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SO00544_"/>
          <p:cNvPicPr/>
          <p:nvPr/>
        </p:nvPicPr>
        <p:blipFill>
          <a:blip r:embed="rId6"/>
          <a:stretch/>
        </p:blipFill>
        <p:spPr>
          <a:xfrm>
            <a:off x="1258920" y="537372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3" descr="SO00544_"/>
          <p:cNvPicPr/>
          <p:nvPr/>
        </p:nvPicPr>
        <p:blipFill>
          <a:blip r:embed="rId7"/>
          <a:stretch/>
        </p:blipFill>
        <p:spPr>
          <a:xfrm>
            <a:off x="601200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4" descr="SO00544_"/>
          <p:cNvPicPr/>
          <p:nvPr/>
        </p:nvPicPr>
        <p:blipFill>
          <a:blip r:embed="rId8"/>
          <a:stretch/>
        </p:blipFill>
        <p:spPr>
          <a:xfrm>
            <a:off x="6804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SO00544_"/>
          <p:cNvPicPr/>
          <p:nvPr/>
        </p:nvPicPr>
        <p:blipFill>
          <a:blip r:embed="rId9"/>
          <a:stretch/>
        </p:blipFill>
        <p:spPr>
          <a:xfrm>
            <a:off x="684360" y="5516640"/>
            <a:ext cx="1792080" cy="1079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SO00544_"/>
          <p:cNvPicPr/>
          <p:nvPr/>
        </p:nvPicPr>
        <p:blipFill>
          <a:blip r:embed="rId10"/>
          <a:stretch/>
        </p:blipFill>
        <p:spPr>
          <a:xfrm>
            <a:off x="7351560" y="5445000"/>
            <a:ext cx="1792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7640" y="1341360"/>
            <a:ext cx="65534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ама сдавала в багаж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иван, чемодан, саквояж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Картину, корзину, карт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 маленькую собачонку.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колько неживых предметов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давала дама в багаж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DD01025_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1052640"/>
            <a:ext cx="728352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ять щенков в футбол играли,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дного домой позвали.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н глядит в окно, считает: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колько их теперь игр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SL00380_"/>
          <p:cNvPicPr/>
          <p:nvPr/>
        </p:nvPicPr>
        <p:blipFill>
          <a:blip r:embed="rId1"/>
          <a:stretch/>
        </p:blipFill>
        <p:spPr>
          <a:xfrm>
            <a:off x="2484360" y="5516640"/>
            <a:ext cx="1030320" cy="1081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SO01374_"/>
          <p:cNvPicPr/>
          <p:nvPr/>
        </p:nvPicPr>
        <p:blipFill>
          <a:blip r:embed="rId2"/>
          <a:stretch/>
        </p:blipFill>
        <p:spPr>
          <a:xfrm>
            <a:off x="3851280" y="393372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от восемь зайча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иду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 ними вдог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вое бегут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ак сколько ж всего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лесной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оропится очень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йчишек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O00289_"/>
          <p:cNvPicPr/>
          <p:nvPr/>
        </p:nvPicPr>
        <p:blipFill>
          <a:blip r:embed="rId1"/>
          <a:stretch/>
        </p:blipFill>
        <p:spPr>
          <a:xfrm>
            <a:off x="5506920" y="1700280"/>
            <a:ext cx="2882880" cy="4476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SO02082_"/>
          <p:cNvPicPr/>
          <p:nvPr/>
        </p:nvPicPr>
        <p:blipFill>
          <a:blip r:embed="rId2"/>
          <a:stretch/>
        </p:blipFill>
        <p:spPr>
          <a:xfrm>
            <a:off x="5724360" y="3573360"/>
            <a:ext cx="1347840" cy="1312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DD01076_"/>
          <p:cNvPicPr/>
          <p:nvPr/>
        </p:nvPicPr>
        <p:blipFill>
          <a:blip r:embed="rId3"/>
          <a:stretch/>
        </p:blipFill>
        <p:spPr>
          <a:xfrm>
            <a:off x="0" y="-1260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5, 7, 3, 6, 4, 1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3068640"/>
            <a:ext cx="7488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3, 4, 5, 6, 7,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55:12Z</dcterms:created>
  <dc:creator>AND</dc:creator>
  <dc:description/>
  <dc:language>en-US</dc:language>
  <cp:lastModifiedBy>James Bond</cp:lastModifiedBy>
  <dcterms:modified xsi:type="dcterms:W3CDTF">2013-03-21T17:41:57Z</dcterms:modified>
  <cp:revision>19</cp:revision>
  <dc:subject/>
  <dc:title>На прогулку из яслей Выли 10 малышей. 5 из них на травку сели, Остальные на качели </dc:title>
</cp:coreProperties>
</file>