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2A4-642E-41BB-BB24-E05FE691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2C3-36FD-4AE4-B748-37383296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108-F373-4910-B8F2-3A09FBB1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A70-F47B-463D-B6D7-2F3CDFEE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7B2-6BB1-4F58-A2D9-842AC6A9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C3A8-924A-453D-A5DC-5AECCB8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528F-A18C-455D-9295-0C5B547F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84E0-644B-4989-B7CF-614BED18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6AB-49D6-4BEA-9BC0-3C3608C2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50DC-C197-41B1-B68B-B093339E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D808-51E0-4D9E-AD31-A2CF77F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E9E-F63F-4354-95A8-C58E218A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D869-D0B8-4E45-A8F0-7558815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A446-534D-4C4B-9E4A-ADC76303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75AD-047B-4B32-9F90-5E1BA373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90C3-F0A0-44D0-B0AD-CF38380D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38C3-181E-4B28-AD19-11639860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EEB4-DB28-4457-B557-8C5D7DA3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5FC6-98A0-4BEA-809F-850E6976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3544-FAB6-4943-9AB3-69530689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57BB-7E3A-4BA7-B3DC-EBAA65C0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17AC-61C2-45C8-B456-7190B98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696-46E6-4D6E-AEA1-2515175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7969-8816-4615-A28E-B3E3BBC9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A987-322A-4612-A387-8972ACDC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3F55-A864-4112-BF84-69094D3D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F748-E5DC-49CC-9C0E-0F8E114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2303-1CA3-4450-B00B-AF8BB96D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788C-1ECD-4A6A-B71C-699B676B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D1A3-3706-4EA2-930E-9A145020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9DC-AB99-48CE-965A-04748D3A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625-801A-4B98-82BC-7579111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21E-0960-4616-9C03-781DC048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42D-24C4-4CB5-A843-848D51F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158-396A-4383-A902-17C86D2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A0E-0BA8-4527-9C86-38CF82FF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FAC8-2B5E-496F-8C2D-BFE88707A7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9FF8-AB3F-4ACF-9814-3E05E5B76D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FCC-DDC5-4FCF-9EED-41F3FB2990E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Объект 5"/>
          <p:cNvGraphicFramePr/>
          <p:nvPr/>
        </p:nvGraphicFramePr>
        <p:xfrm>
          <a:off x="900000" y="620640"/>
          <a:ext cx="7272360" cy="545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272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img0771"/>
          <p:cNvPicPr/>
          <p:nvPr/>
        </p:nvPicPr>
        <p:blipFill>
          <a:blip r:embed="rId1"/>
          <a:stretch/>
        </p:blipFill>
        <p:spPr>
          <a:xfrm>
            <a:off x="4600440" y="2205000"/>
            <a:ext cx="4543560" cy="23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06911"/>
          <p:cNvPicPr/>
          <p:nvPr/>
        </p:nvPicPr>
        <p:blipFill>
          <a:blip r:embed="rId2"/>
          <a:stretch/>
        </p:blipFill>
        <p:spPr>
          <a:xfrm>
            <a:off x="0" y="333360"/>
            <a:ext cx="4591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img0702"/>
          <p:cNvPicPr/>
          <p:nvPr/>
        </p:nvPicPr>
        <p:blipFill>
          <a:blip r:embed="rId1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img111"/>
          <p:cNvPicPr/>
          <p:nvPr/>
        </p:nvPicPr>
        <p:blipFill>
          <a:blip r:embed="rId2"/>
          <a:stretch/>
        </p:blipFill>
        <p:spPr>
          <a:xfrm>
            <a:off x="4284720" y="3068640"/>
            <a:ext cx="4859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076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img112"/>
          <p:cNvPicPr/>
          <p:nvPr/>
        </p:nvPicPr>
        <p:blipFill>
          <a:blip r:embed="rId2"/>
          <a:stretch/>
        </p:blipFill>
        <p:spPr>
          <a:xfrm>
            <a:off x="4284720" y="2133720"/>
            <a:ext cx="45720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viewer?url=http%3A%2F%2Fnsportal"/>
          <p:cNvPicPr/>
          <p:nvPr/>
        </p:nvPicPr>
        <p:blipFill>
          <a:blip r:embed="rId1"/>
          <a:stretch/>
        </p:blipFill>
        <p:spPr>
          <a:xfrm>
            <a:off x="1187280" y="620640"/>
            <a:ext cx="64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675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На прогулку из ясле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Вышли 10 малышей.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5 из них на травку сели,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Остальные на качел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J0110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720108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лон, слониха, два слон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Шли толпой на водоп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 на встречу три тигр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 водопоя шли дом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читайте поскорей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встретилось зверей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DD01023_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ядя Ёжик в сад зашёл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есять яблочек нашёл.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Семь из них он дал ежатам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Остальные же – зайчатам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яблок получили зайчата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SO00544_"/>
          <p:cNvPicPr/>
          <p:nvPr/>
        </p:nvPicPr>
        <p:blipFill>
          <a:blip r:embed="rId1"/>
          <a:stretch/>
        </p:blipFill>
        <p:spPr>
          <a:xfrm>
            <a:off x="3419640" y="5156280"/>
            <a:ext cx="215244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SO00544_"/>
          <p:cNvPicPr/>
          <p:nvPr/>
        </p:nvPicPr>
        <p:blipFill>
          <a:blip r:embed="rId2"/>
          <a:stretch/>
        </p:blipFill>
        <p:spPr>
          <a:xfrm>
            <a:off x="4572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SO00544_"/>
          <p:cNvPicPr/>
          <p:nvPr/>
        </p:nvPicPr>
        <p:blipFill>
          <a:blip r:embed="rId3"/>
          <a:stretch/>
        </p:blipFill>
        <p:spPr>
          <a:xfrm>
            <a:off x="262728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00544_"/>
          <p:cNvPicPr/>
          <p:nvPr/>
        </p:nvPicPr>
        <p:blipFill>
          <a:blip r:embed="rId4"/>
          <a:stretch/>
        </p:blipFill>
        <p:spPr>
          <a:xfrm>
            <a:off x="543564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SO00544_"/>
          <p:cNvPicPr/>
          <p:nvPr/>
        </p:nvPicPr>
        <p:blipFill>
          <a:blip r:embed="rId5"/>
          <a:stretch/>
        </p:blipFill>
        <p:spPr>
          <a:xfrm>
            <a:off x="1979640" y="544500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SO00544_"/>
          <p:cNvPicPr/>
          <p:nvPr/>
        </p:nvPicPr>
        <p:blipFill>
          <a:blip r:embed="rId6"/>
          <a:stretch/>
        </p:blipFill>
        <p:spPr>
          <a:xfrm>
            <a:off x="1258920" y="537372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SO00544_"/>
          <p:cNvPicPr/>
          <p:nvPr/>
        </p:nvPicPr>
        <p:blipFill>
          <a:blip r:embed="rId7"/>
          <a:stretch/>
        </p:blipFill>
        <p:spPr>
          <a:xfrm>
            <a:off x="601200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SO00544_"/>
          <p:cNvPicPr/>
          <p:nvPr/>
        </p:nvPicPr>
        <p:blipFill>
          <a:blip r:embed="rId8"/>
          <a:stretch/>
        </p:blipFill>
        <p:spPr>
          <a:xfrm>
            <a:off x="6804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SO00544_"/>
          <p:cNvPicPr/>
          <p:nvPr/>
        </p:nvPicPr>
        <p:blipFill>
          <a:blip r:embed="rId9"/>
          <a:stretch/>
        </p:blipFill>
        <p:spPr>
          <a:xfrm>
            <a:off x="684360" y="5516640"/>
            <a:ext cx="1792080" cy="1079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SO00544_"/>
          <p:cNvPicPr/>
          <p:nvPr/>
        </p:nvPicPr>
        <p:blipFill>
          <a:blip r:embed="rId10"/>
          <a:stretch/>
        </p:blipFill>
        <p:spPr>
          <a:xfrm>
            <a:off x="7351560" y="5445000"/>
            <a:ext cx="1792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65534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ама сдавала в багаж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ван, чемодан, саквояж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ртину, корзину, карт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 маленькую собачонку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колько неживых предметов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давала дама в багаж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DD01025_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2835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ять щенков в футбол играли,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дного домой позвали.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н глядит в окно, считает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колько их теперь игр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L00380_"/>
          <p:cNvPicPr/>
          <p:nvPr/>
        </p:nvPicPr>
        <p:blipFill>
          <a:blip r:embed="rId1"/>
          <a:stretch/>
        </p:blipFill>
        <p:spPr>
          <a:xfrm>
            <a:off x="2484360" y="551664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O01374_"/>
          <p:cNvPicPr/>
          <p:nvPr/>
        </p:nvPicPr>
        <p:blipFill>
          <a:blip r:embed="rId2"/>
          <a:stretch/>
        </p:blipFill>
        <p:spPr>
          <a:xfrm>
            <a:off x="3851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т восемь зайча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иду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 ними вдог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вое бегут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ак сколько ж всего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лесной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оропится очень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йчишек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O00289_"/>
          <p:cNvPicPr/>
          <p:nvPr/>
        </p:nvPicPr>
        <p:blipFill>
          <a:blip r:embed="rId1"/>
          <a:stretch/>
        </p:blipFill>
        <p:spPr>
          <a:xfrm>
            <a:off x="5506920" y="1700280"/>
            <a:ext cx="2882880" cy="4476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O02082_"/>
          <p:cNvPicPr/>
          <p:nvPr/>
        </p:nvPicPr>
        <p:blipFill>
          <a:blip r:embed="rId2"/>
          <a:stretch/>
        </p:blipFill>
        <p:spPr>
          <a:xfrm>
            <a:off x="5724360" y="3573360"/>
            <a:ext cx="1347840" cy="13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D01076_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5, 7, 3, 6, 4,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, 4, 5, 6, 7,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5:12Z</dcterms:created>
  <dc:creator>AND</dc:creator>
  <dc:description/>
  <dc:language>en-US</dc:language>
  <cp:lastModifiedBy>James Bond</cp:lastModifiedBy>
  <dcterms:modified xsi:type="dcterms:W3CDTF">2013-03-21T17:41:57Z</dcterms:modified>
  <cp:revision>19</cp:revision>
  <dc:subject/>
  <dc:title>На прогулку из яслей Выли 10 малышей. 5 из них на травку сели, Остальные на качели </dc:title>
</cp:coreProperties>
</file>