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B69-4C5A-4069-841B-AECA1D39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707-4761-4904-B448-07CD1C1E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4C6-5B4D-4FA0-9EE2-9F4416EF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8A8-33F6-4265-9D27-FC33A767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DCA5-8D53-40BA-B6E4-37AFC8AF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C2FD-AA06-4B00-9DC1-C533667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6A75-F092-4573-B70B-39016B42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978D-8347-48F0-8689-74E8589F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2EC5-AEA2-42ED-83E6-424529E1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5AB7-2503-4F05-933A-7498DDAC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224A-EC7E-4A15-A695-A0A370D2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4AF-D672-4AFB-84BA-CE4CBEB9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B34C-CC69-4DFF-8E46-DC3BFE2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6F12-4593-4DB0-A916-AAA1C121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21FB-9563-441D-B9E7-7B96AF2F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7464-0266-4D95-B966-AECCA422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0CBC-C9C3-49F0-96CE-F1B8FE12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C61D-DC7B-494B-B5DC-81A88F11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E3BA-2925-4DF0-B070-B72C7455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70B96-78DA-419B-83BE-938BCD55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7C59-4194-4F55-B0F8-C4BC84D3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56D0-9E69-4969-A5BE-769040CD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8C3-5C4C-4D4B-AFA1-9A2C95FE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3ED7-17BD-4280-A735-B234F5E4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A443-683A-4A8A-9BFB-6FC327C1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178C-09DE-4776-914B-AE089916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3B53-38D1-4FBA-AC9B-42CAC347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32F8-CAC3-4B4E-B3FD-ACA1FDEF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F04D-C304-4AFE-A2FE-C29FA281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FECA-8EC9-4D8E-838E-A46A55EC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D53-E179-4982-88D2-3B5006E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749-9C4E-4516-AB64-7C33E233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2E1-1BD3-4024-A61E-AEDAA21F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83A-BCA9-4604-B98B-CC95F49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E95-BF21-450F-A71A-6A6B6ED0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F37-FD53-4875-8982-11FDAB2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91DA-CF83-4CB4-B22F-83B5287A61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56C3-A8A9-4919-99A2-2A26616332A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693A-7699-4475-960F-720AD1E4B77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Объект 5"/>
          <p:cNvGraphicFramePr/>
          <p:nvPr/>
        </p:nvGraphicFramePr>
        <p:xfrm>
          <a:off x="900000" y="620640"/>
          <a:ext cx="7272360" cy="5454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7272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img0771"/>
          <p:cNvPicPr/>
          <p:nvPr/>
        </p:nvPicPr>
        <p:blipFill>
          <a:blip r:embed="rId1"/>
          <a:stretch/>
        </p:blipFill>
        <p:spPr>
          <a:xfrm>
            <a:off x="4600440" y="2205000"/>
            <a:ext cx="4543560" cy="23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06911"/>
          <p:cNvPicPr/>
          <p:nvPr/>
        </p:nvPicPr>
        <p:blipFill>
          <a:blip r:embed="rId2"/>
          <a:stretch/>
        </p:blipFill>
        <p:spPr>
          <a:xfrm>
            <a:off x="0" y="333360"/>
            <a:ext cx="4591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img0702"/>
          <p:cNvPicPr/>
          <p:nvPr/>
        </p:nvPicPr>
        <p:blipFill>
          <a:blip r:embed="rId1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img111"/>
          <p:cNvPicPr/>
          <p:nvPr/>
        </p:nvPicPr>
        <p:blipFill>
          <a:blip r:embed="rId2"/>
          <a:stretch/>
        </p:blipFill>
        <p:spPr>
          <a:xfrm>
            <a:off x="4284720" y="3068640"/>
            <a:ext cx="4859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076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img112"/>
          <p:cNvPicPr/>
          <p:nvPr/>
        </p:nvPicPr>
        <p:blipFill>
          <a:blip r:embed="rId2"/>
          <a:stretch/>
        </p:blipFill>
        <p:spPr>
          <a:xfrm>
            <a:off x="4284720" y="2133720"/>
            <a:ext cx="45720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viewer?url=http%3A%2F%2Fnsportal"/>
          <p:cNvPicPr/>
          <p:nvPr/>
        </p:nvPicPr>
        <p:blipFill>
          <a:blip r:embed="rId1"/>
          <a:stretch/>
        </p:blipFill>
        <p:spPr>
          <a:xfrm>
            <a:off x="1187280" y="620640"/>
            <a:ext cx="64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0675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На прогулку из ясле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Вышли 10 малышей.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5 из них на травку сели,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Остальные на качел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J0110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720108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лон, слониха, два слон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Шли толпой на водоп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 на встречу три тигр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 водопоя шли дом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читайте поскорей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встретилось зверей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DD01023_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ядя Ёжик в сад зашёл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есять яблочек нашёл.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Семь из них он дал ежатам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Остальные же – зайчатам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яблок получили зайчата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SO00544_"/>
          <p:cNvPicPr/>
          <p:nvPr/>
        </p:nvPicPr>
        <p:blipFill>
          <a:blip r:embed="rId1"/>
          <a:stretch/>
        </p:blipFill>
        <p:spPr>
          <a:xfrm>
            <a:off x="3419640" y="5156280"/>
            <a:ext cx="215244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SO00544_"/>
          <p:cNvPicPr/>
          <p:nvPr/>
        </p:nvPicPr>
        <p:blipFill>
          <a:blip r:embed="rId2"/>
          <a:stretch/>
        </p:blipFill>
        <p:spPr>
          <a:xfrm>
            <a:off x="4572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SO00544_"/>
          <p:cNvPicPr/>
          <p:nvPr/>
        </p:nvPicPr>
        <p:blipFill>
          <a:blip r:embed="rId3"/>
          <a:stretch/>
        </p:blipFill>
        <p:spPr>
          <a:xfrm>
            <a:off x="262728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00544_"/>
          <p:cNvPicPr/>
          <p:nvPr/>
        </p:nvPicPr>
        <p:blipFill>
          <a:blip r:embed="rId4"/>
          <a:stretch/>
        </p:blipFill>
        <p:spPr>
          <a:xfrm>
            <a:off x="543564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SO00544_"/>
          <p:cNvPicPr/>
          <p:nvPr/>
        </p:nvPicPr>
        <p:blipFill>
          <a:blip r:embed="rId5"/>
          <a:stretch/>
        </p:blipFill>
        <p:spPr>
          <a:xfrm>
            <a:off x="1979640" y="544500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SO00544_"/>
          <p:cNvPicPr/>
          <p:nvPr/>
        </p:nvPicPr>
        <p:blipFill>
          <a:blip r:embed="rId6"/>
          <a:stretch/>
        </p:blipFill>
        <p:spPr>
          <a:xfrm>
            <a:off x="1258920" y="537372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SO00544_"/>
          <p:cNvPicPr/>
          <p:nvPr/>
        </p:nvPicPr>
        <p:blipFill>
          <a:blip r:embed="rId7"/>
          <a:stretch/>
        </p:blipFill>
        <p:spPr>
          <a:xfrm>
            <a:off x="601200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SO00544_"/>
          <p:cNvPicPr/>
          <p:nvPr/>
        </p:nvPicPr>
        <p:blipFill>
          <a:blip r:embed="rId8"/>
          <a:stretch/>
        </p:blipFill>
        <p:spPr>
          <a:xfrm>
            <a:off x="6804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SO00544_"/>
          <p:cNvPicPr/>
          <p:nvPr/>
        </p:nvPicPr>
        <p:blipFill>
          <a:blip r:embed="rId9"/>
          <a:stretch/>
        </p:blipFill>
        <p:spPr>
          <a:xfrm>
            <a:off x="684360" y="5516640"/>
            <a:ext cx="1792080" cy="1079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SO00544_"/>
          <p:cNvPicPr/>
          <p:nvPr/>
        </p:nvPicPr>
        <p:blipFill>
          <a:blip r:embed="rId10"/>
          <a:stretch/>
        </p:blipFill>
        <p:spPr>
          <a:xfrm>
            <a:off x="7351560" y="5445000"/>
            <a:ext cx="1792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65534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ама сдавала в багаж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иван, чемодан, саквояж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ртину, корзину, карт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 маленькую собачонку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колько неживых предметов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давала дама в багаж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DD01025_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2835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ять щенков в футбол играли,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дного домой позвали.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н глядит в окно, считает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колько их теперь игр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SL00380_"/>
          <p:cNvPicPr/>
          <p:nvPr/>
        </p:nvPicPr>
        <p:blipFill>
          <a:blip r:embed="rId1"/>
          <a:stretch/>
        </p:blipFill>
        <p:spPr>
          <a:xfrm>
            <a:off x="2484360" y="551664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O01374_"/>
          <p:cNvPicPr/>
          <p:nvPr/>
        </p:nvPicPr>
        <p:blipFill>
          <a:blip r:embed="rId2"/>
          <a:stretch/>
        </p:blipFill>
        <p:spPr>
          <a:xfrm>
            <a:off x="3851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т восемь зайча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иду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 ними вдог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вое бегут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ак сколько ж всего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лесной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оропится очень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йчишек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O00289_"/>
          <p:cNvPicPr/>
          <p:nvPr/>
        </p:nvPicPr>
        <p:blipFill>
          <a:blip r:embed="rId1"/>
          <a:stretch/>
        </p:blipFill>
        <p:spPr>
          <a:xfrm>
            <a:off x="5506920" y="1700280"/>
            <a:ext cx="2882880" cy="4476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O02082_"/>
          <p:cNvPicPr/>
          <p:nvPr/>
        </p:nvPicPr>
        <p:blipFill>
          <a:blip r:embed="rId2"/>
          <a:stretch/>
        </p:blipFill>
        <p:spPr>
          <a:xfrm>
            <a:off x="5724360" y="3573360"/>
            <a:ext cx="1347840" cy="13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D01076_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5, 7, 3, 6, 4, 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7488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, 4, 5, 6, 7,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5:12Z</dcterms:created>
  <dc:creator>AND</dc:creator>
  <dc:description/>
  <dc:language>en-US</dc:language>
  <cp:lastModifiedBy>James Bond</cp:lastModifiedBy>
  <dcterms:modified xsi:type="dcterms:W3CDTF">2013-03-21T17:41:57Z</dcterms:modified>
  <cp:revision>19</cp:revision>
  <dc:subject/>
  <dc:title>На прогулку из яслей Выли 10 малышей. 5 из них на травку сели, Остальные на качели </dc:title>
</cp:coreProperties>
</file>