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829-8035-4179-A816-C88018F2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17E-9B74-42D6-8D15-EF4B1BCF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264-78B2-4107-B1A3-E7B3312C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88E-2FFD-4D3D-9044-DEF64638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F9E5-9A9D-48AA-9073-BB0C6966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417C-9FF5-480A-9928-7DF83566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6E58-B68E-4A66-B8AC-A30FFEE3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41B7-0EE2-4AD4-8FCD-E86F18E4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38E7-7A70-49F3-B665-8B6ACE89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AB90-D479-48DD-9396-CA0C809B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F0AA-59E3-4BAC-BFE2-E5EF388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B01-E370-4214-A672-18404070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6D5-352A-4400-B469-EDA0E72E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3D44-185A-4834-BA6A-F0BC0B22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210A-954D-4396-8261-7A5BEFE6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CA31-62DB-47C2-9016-87774403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C794-247D-450F-AA38-B4E5EC59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ABCD-3892-4508-B6E0-E9390604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FE78-4D22-4E7D-9204-389525F8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701E-F182-48D8-B430-B3EB4983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A3EF-BA4A-4D09-9236-5091A2F7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D1D9-6F83-4FEE-BD1C-59C17D4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7AE-E0A3-4431-B06E-D52ACEF6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9AF3-E575-4D32-84D1-973DA45F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FD4C-F3C1-40AA-83A2-D5FAB0A3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C3AC-AF8E-4AA0-9458-5B2450D9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C365-5E92-4570-98A4-0AFCCF0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1B70-A980-4A5D-BBEB-CF3563C2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ABEB-DD64-41C4-AB84-ED9910FA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AB8A-167A-4B84-8F46-3507C98B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554-026A-49B1-BC06-CDFC109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B3E-D36C-474B-BC20-DBC23843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86C-94D3-4967-ABED-03733AE4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7F1-9902-44A3-A743-CB2F687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13D-C397-44BF-BADE-46377188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C1F-3D0A-4623-9F2B-64F64715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DDFC-6642-4328-AE05-FDF0E8BAC5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7D71-2D4A-4187-A0AA-351E7BAE7AC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AD64-4CDE-4E47-9BB9-98EFB853AC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Объект 5"/>
          <p:cNvGraphicFramePr/>
          <p:nvPr/>
        </p:nvGraphicFramePr>
        <p:xfrm>
          <a:off x="900000" y="620640"/>
          <a:ext cx="7272360" cy="5454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7272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img0771"/>
          <p:cNvPicPr/>
          <p:nvPr/>
        </p:nvPicPr>
        <p:blipFill>
          <a:blip r:embed="rId1"/>
          <a:stretch/>
        </p:blipFill>
        <p:spPr>
          <a:xfrm>
            <a:off x="4600440" y="2205000"/>
            <a:ext cx="4543560" cy="23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06911"/>
          <p:cNvPicPr/>
          <p:nvPr/>
        </p:nvPicPr>
        <p:blipFill>
          <a:blip r:embed="rId2"/>
          <a:stretch/>
        </p:blipFill>
        <p:spPr>
          <a:xfrm>
            <a:off x="0" y="333360"/>
            <a:ext cx="4591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img0702"/>
          <p:cNvPicPr/>
          <p:nvPr/>
        </p:nvPicPr>
        <p:blipFill>
          <a:blip r:embed="rId1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img111"/>
          <p:cNvPicPr/>
          <p:nvPr/>
        </p:nvPicPr>
        <p:blipFill>
          <a:blip r:embed="rId2"/>
          <a:stretch/>
        </p:blipFill>
        <p:spPr>
          <a:xfrm>
            <a:off x="4284720" y="3068640"/>
            <a:ext cx="4859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076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img112"/>
          <p:cNvPicPr/>
          <p:nvPr/>
        </p:nvPicPr>
        <p:blipFill>
          <a:blip r:embed="rId2"/>
          <a:stretch/>
        </p:blipFill>
        <p:spPr>
          <a:xfrm>
            <a:off x="4284720" y="2133720"/>
            <a:ext cx="45720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viewer?url=http%3A%2F%2Fnsportal"/>
          <p:cNvPicPr/>
          <p:nvPr/>
        </p:nvPicPr>
        <p:blipFill>
          <a:blip r:embed="rId1"/>
          <a:stretch/>
        </p:blipFill>
        <p:spPr>
          <a:xfrm>
            <a:off x="1187280" y="620640"/>
            <a:ext cx="64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0675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На прогулку из ясле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Вышли 10 малышей.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5 из них на травку сели,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Остальные на качел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J0110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720108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лон, слониха, два слон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Шли толпой на водоп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 на встречу три тигр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 водопоя шли дом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читайте поскорей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встретилось зверей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DD01023_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ядя Ёжик в сад зашёл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есять яблочек нашёл.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Семь из них он дал ежатам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Остальные же – зайчатам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яблок получили зайчата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SO00544_"/>
          <p:cNvPicPr/>
          <p:nvPr/>
        </p:nvPicPr>
        <p:blipFill>
          <a:blip r:embed="rId1"/>
          <a:stretch/>
        </p:blipFill>
        <p:spPr>
          <a:xfrm>
            <a:off x="3419640" y="5156280"/>
            <a:ext cx="215244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SO00544_"/>
          <p:cNvPicPr/>
          <p:nvPr/>
        </p:nvPicPr>
        <p:blipFill>
          <a:blip r:embed="rId2"/>
          <a:stretch/>
        </p:blipFill>
        <p:spPr>
          <a:xfrm>
            <a:off x="4572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SO00544_"/>
          <p:cNvPicPr/>
          <p:nvPr/>
        </p:nvPicPr>
        <p:blipFill>
          <a:blip r:embed="rId3"/>
          <a:stretch/>
        </p:blipFill>
        <p:spPr>
          <a:xfrm>
            <a:off x="262728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00544_"/>
          <p:cNvPicPr/>
          <p:nvPr/>
        </p:nvPicPr>
        <p:blipFill>
          <a:blip r:embed="rId4"/>
          <a:stretch/>
        </p:blipFill>
        <p:spPr>
          <a:xfrm>
            <a:off x="543564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SO00544_"/>
          <p:cNvPicPr/>
          <p:nvPr/>
        </p:nvPicPr>
        <p:blipFill>
          <a:blip r:embed="rId5"/>
          <a:stretch/>
        </p:blipFill>
        <p:spPr>
          <a:xfrm>
            <a:off x="1979640" y="544500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SO00544_"/>
          <p:cNvPicPr/>
          <p:nvPr/>
        </p:nvPicPr>
        <p:blipFill>
          <a:blip r:embed="rId6"/>
          <a:stretch/>
        </p:blipFill>
        <p:spPr>
          <a:xfrm>
            <a:off x="1258920" y="537372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SO00544_"/>
          <p:cNvPicPr/>
          <p:nvPr/>
        </p:nvPicPr>
        <p:blipFill>
          <a:blip r:embed="rId7"/>
          <a:stretch/>
        </p:blipFill>
        <p:spPr>
          <a:xfrm>
            <a:off x="601200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SO00544_"/>
          <p:cNvPicPr/>
          <p:nvPr/>
        </p:nvPicPr>
        <p:blipFill>
          <a:blip r:embed="rId8"/>
          <a:stretch/>
        </p:blipFill>
        <p:spPr>
          <a:xfrm>
            <a:off x="6804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SO00544_"/>
          <p:cNvPicPr/>
          <p:nvPr/>
        </p:nvPicPr>
        <p:blipFill>
          <a:blip r:embed="rId9"/>
          <a:stretch/>
        </p:blipFill>
        <p:spPr>
          <a:xfrm>
            <a:off x="684360" y="5516640"/>
            <a:ext cx="1792080" cy="1079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SO00544_"/>
          <p:cNvPicPr/>
          <p:nvPr/>
        </p:nvPicPr>
        <p:blipFill>
          <a:blip r:embed="rId10"/>
          <a:stretch/>
        </p:blipFill>
        <p:spPr>
          <a:xfrm>
            <a:off x="7351560" y="5445000"/>
            <a:ext cx="1792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65534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ама сдавала в багаж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иван, чемодан, саквояж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ртину, корзину, карт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 маленькую собачонку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колько неживых предметов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давала дама в багаж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DD01025_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2835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ять щенков в футбол играли,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дного домой позвали.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н глядит в окно, считает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колько их теперь игр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SL00380_"/>
          <p:cNvPicPr/>
          <p:nvPr/>
        </p:nvPicPr>
        <p:blipFill>
          <a:blip r:embed="rId1"/>
          <a:stretch/>
        </p:blipFill>
        <p:spPr>
          <a:xfrm>
            <a:off x="2484360" y="551664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O01374_"/>
          <p:cNvPicPr/>
          <p:nvPr/>
        </p:nvPicPr>
        <p:blipFill>
          <a:blip r:embed="rId2"/>
          <a:stretch/>
        </p:blipFill>
        <p:spPr>
          <a:xfrm>
            <a:off x="3851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т восемь зайча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иду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 ними вдог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вое бегут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ак сколько ж всего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лесной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оропится очень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йчишек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O00289_"/>
          <p:cNvPicPr/>
          <p:nvPr/>
        </p:nvPicPr>
        <p:blipFill>
          <a:blip r:embed="rId1"/>
          <a:stretch/>
        </p:blipFill>
        <p:spPr>
          <a:xfrm>
            <a:off x="5506920" y="1700280"/>
            <a:ext cx="2882880" cy="4476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O02082_"/>
          <p:cNvPicPr/>
          <p:nvPr/>
        </p:nvPicPr>
        <p:blipFill>
          <a:blip r:embed="rId2"/>
          <a:stretch/>
        </p:blipFill>
        <p:spPr>
          <a:xfrm>
            <a:off x="5724360" y="3573360"/>
            <a:ext cx="1347840" cy="13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D01076_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5, 7, 3, 6, 4, 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7488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, 4, 5, 6, 7,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5:12Z</dcterms:created>
  <dc:creator>AND</dc:creator>
  <dc:description/>
  <dc:language>en-US</dc:language>
  <cp:lastModifiedBy>James Bond</cp:lastModifiedBy>
  <dcterms:modified xsi:type="dcterms:W3CDTF">2013-03-21T17:41:57Z</dcterms:modified>
  <cp:revision>19</cp:revision>
  <dc:subject/>
  <dc:title>На прогулку из яслей Выли 10 малышей. 5 из них на травку сели, Остальные на качели </dc:title>
</cp:coreProperties>
</file>