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FF9-41FE-4BBE-A203-71C9F67C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FF5-562E-44D0-8D62-10721C0E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E12-3021-4FBC-8782-E5073C43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15F-82D4-4EB8-AE41-56277E79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81AD-D337-432E-92AC-9BF69E16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1E31-8FDC-4E2B-A165-9C61FEB9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E6CA-B1C6-4626-AA47-C029F994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E4E0-6FDD-4B27-AC07-DEE1FF20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93DF-8B47-4BC5-9053-B8A41867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C173-4265-4FE0-8102-51BD0186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F40D-CDC3-4B5F-A4AA-3B699294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97D-1CF4-49C3-99C1-375CAE6C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142A-4D61-4B95-888B-EC66643C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4E4C-469A-4366-A783-8F264D6B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866B-2D47-44A8-ABC8-15CBF5FC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E0F9-ED3C-4905-A668-2356C139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BA64-6EDF-4403-816B-1D653D66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48C-4AB0-4D14-AD69-932CE886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856-F744-44E4-8633-05CDCD7D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1CA-63E6-48DB-A279-A531B48B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868-C235-417E-9D85-9ECA0E53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B56-27B6-49C7-9F30-6F91AB84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D80-6D88-476A-B3E5-2483455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616-6348-4758-8723-F23DC484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3114-573A-4ABD-A257-037DA7B23F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125E-79B9-4F3E-B1A3-804B5D8CFF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84582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ХН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… …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СК… …   Р…С…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484360" y="105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24000" y="2349360"/>
            <a:ext cx="60948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05092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56000" y="2492280"/>
            <a:ext cx="43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99564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500720" y="234936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565164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372360" y="2421000"/>
            <a:ext cx="4111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50920" y="212760"/>
            <a:ext cx="2382840" cy="2428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6858000" y="3500280"/>
            <a:ext cx="2016000" cy="26481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2411280" y="18900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можно с помощью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штриховки,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используется для обозначения дета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из металл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 rot="20704200">
            <a:off x="484200" y="4127040"/>
            <a:ext cx="1914480" cy="20764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73080" y="2629080"/>
            <a:ext cx="9036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Вертикальные плоскости штрихуют вертикальными прямыми,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горизонтальные -прямыми, параллельными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аксонометрическим осям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а наклонные — прямыми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араллельными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углу накло­на плоскости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243720" y="4316400"/>
            <a:ext cx="3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6875640" y="4394160"/>
            <a:ext cx="2098440" cy="2262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 rot="20713200">
            <a:off x="596520" y="4387680"/>
            <a:ext cx="1682640" cy="2275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141120" y="836640"/>
            <a:ext cx="1467000" cy="19526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"/>
          <p:cNvSpPr/>
          <p:nvPr/>
        </p:nvSpPr>
        <p:spPr>
          <a:xfrm>
            <a:off x="652320" y="21600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можно с помощью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шрафировки. </a:t>
            </a:r>
            <a:r>
              <a:rPr b="0" lang="ru-RU" sz="3200" spc="-1" strike="noStrike">
                <a:solidFill>
                  <a:srgbClr val="964ce0"/>
                </a:solidFill>
                <a:latin typeface="Comic Sans MS"/>
              </a:rPr>
              <a:t>Используется для обозначения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не металлических    предме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0760" y="2446200"/>
            <a:ext cx="909324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mic Sans MS"/>
              </a:rPr>
              <a:t>           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Шраффировка</a:t>
            </a:r>
            <a:r>
              <a:rPr b="1" lang="ru-RU" sz="3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– это штриховка сеткой, или двойная штриховка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На многогранниках и поверхностях вращения шраффировку наносят по форме предмета  аналогично штриховк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 rot="1159800">
            <a:off x="6773400" y="4213080"/>
            <a:ext cx="2070360" cy="2368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2409840" cy="22539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198360" y="476280"/>
            <a:ext cx="847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тояние между штрихами — 1...3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тупающие ребра предмета оттеняю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иболее яркими и толстыми штрих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личная густота штри­хов позволя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биться различных тонов —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 светло­ серых до наиболее темн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942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7236000" y="4221000"/>
            <a:ext cx="1733400" cy="2476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162720" y="3181320"/>
            <a:ext cx="858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чечное оттенение  выполняется с помощью точ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увеличением освещения расстояние между точкам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величиваетс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выполнении оттенения считают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что на изображаемый предмет свет попадае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сверху, сзади и слева, поэтому освещенные ча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  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делают более светлым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а правые и нижние части — затемнен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132000" y="33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755640" y="210960"/>
            <a:ext cx="8064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 можно с помощью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точечного </a:t>
            </a: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оттенени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Используют для обозначения  деталей  с грубыми, шероховатыми поверхностями (литьё, ков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Алгоритм построения технического рису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ение технического рисунка начинается с проведения аксонометрических осе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ы на бумаге в клетку построить угол 12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проводят 5 клеток от точки О вправо и влево и 3 – вниз (или вверх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2941560" y="4221000"/>
            <a:ext cx="28814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1404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лгоритм построения технического рисун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Тонкими линиями намечают изображение детали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2.Убедившись в правильности рисунка, необходимо обвести его с более сильным нажимом карандаша, чтобы придать рисунку большую выразительность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503280" y="3773520"/>
            <a:ext cx="3960720" cy="146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4950000" y="3789360"/>
            <a:ext cx="3654360" cy="1454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3"/>
          <a:stretch/>
        </p:blipFill>
        <p:spPr>
          <a:xfrm>
            <a:off x="2484360" y="5318280"/>
            <a:ext cx="1984320" cy="135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4"/>
          <a:stretch/>
        </p:blipFill>
        <p:spPr>
          <a:xfrm>
            <a:off x="4572000" y="5318280"/>
            <a:ext cx="20858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4067280" y="4437000"/>
            <a:ext cx="792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2263680" y="4254480"/>
            <a:ext cx="5140440" cy="24894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1830240" y="4284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Графическое зад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-81000" y="776160"/>
            <a:ext cx="92250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Выполнить технический рисунок детали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полученной при удалении частей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по нанесенной разметк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Материал, из которого сделана ваша деталь, выберите сами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7556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 чертежу детали выполнить 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8360" y="1488960"/>
          <a:ext cx="8229600" cy="5373720"/>
        </p:xfrm>
        <a:graphic>
          <a:graphicData uri="http://schemas.openxmlformats.org/drawingml/2006/table">
            <a:tbl>
              <a:tblPr/>
              <a:tblGrid>
                <a:gridCol w="330120"/>
                <a:gridCol w="326880"/>
                <a:gridCol w="330480"/>
                <a:gridCol w="328680"/>
                <a:gridCol w="330120"/>
                <a:gridCol w="330120"/>
                <a:gridCol w="326880"/>
                <a:gridCol w="330480"/>
                <a:gridCol w="328320"/>
                <a:gridCol w="330480"/>
                <a:gridCol w="330120"/>
                <a:gridCol w="326880"/>
                <a:gridCol w="330120"/>
                <a:gridCol w="328680"/>
                <a:gridCol w="328680"/>
                <a:gridCol w="330120"/>
                <a:gridCol w="328680"/>
                <a:gridCol w="330120"/>
                <a:gridCol w="327240"/>
                <a:gridCol w="330120"/>
                <a:gridCol w="330120"/>
                <a:gridCol w="328680"/>
                <a:gridCol w="330120"/>
                <a:gridCol w="32724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Picture 5698" descr="у1"/>
          <p:cNvPicPr/>
          <p:nvPr/>
        </p:nvPicPr>
        <p:blipFill>
          <a:blip r:embed="rId1"/>
          <a:stretch/>
        </p:blipFill>
        <p:spPr>
          <a:xfrm>
            <a:off x="611280" y="1844640"/>
            <a:ext cx="2400120" cy="1562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699" descr="у2"/>
          <p:cNvPicPr/>
          <p:nvPr/>
        </p:nvPicPr>
        <p:blipFill>
          <a:blip r:embed="rId2"/>
          <a:stretch/>
        </p:blipFill>
        <p:spPr>
          <a:xfrm>
            <a:off x="3348000" y="1700280"/>
            <a:ext cx="2190960" cy="1757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700" descr="у3"/>
          <p:cNvPicPr/>
          <p:nvPr/>
        </p:nvPicPr>
        <p:blipFill>
          <a:blip r:embed="rId3"/>
          <a:stretch/>
        </p:blipFill>
        <p:spPr>
          <a:xfrm>
            <a:off x="539640" y="3789360"/>
            <a:ext cx="25146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Выучи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9. 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1-8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2. Приготовить и принести образец формата А4 и чертежные принадлеж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3. По чертежу детали выполнить технический рисун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 чертежу детали выполнить 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68360" y="1498680"/>
          <a:ext cx="8229600" cy="5364000"/>
        </p:xfrm>
        <a:graphic>
          <a:graphicData uri="http://schemas.openxmlformats.org/drawingml/2006/table">
            <a:tbl>
              <a:tblPr/>
              <a:tblGrid>
                <a:gridCol w="330120"/>
                <a:gridCol w="326880"/>
                <a:gridCol w="330480"/>
                <a:gridCol w="328680"/>
                <a:gridCol w="330120"/>
                <a:gridCol w="330120"/>
                <a:gridCol w="326880"/>
                <a:gridCol w="330480"/>
                <a:gridCol w="328320"/>
                <a:gridCol w="330480"/>
                <a:gridCol w="330120"/>
                <a:gridCol w="326880"/>
                <a:gridCol w="330120"/>
                <a:gridCol w="328680"/>
                <a:gridCol w="328680"/>
                <a:gridCol w="330120"/>
                <a:gridCol w="328680"/>
                <a:gridCol w="330120"/>
                <a:gridCol w="327240"/>
                <a:gridCol w="330120"/>
                <a:gridCol w="330120"/>
                <a:gridCol w="328680"/>
                <a:gridCol w="330120"/>
                <a:gridCol w="327240"/>
                <a:gridCol w="330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2330" descr="д1"/>
          <p:cNvPicPr/>
          <p:nvPr/>
        </p:nvPicPr>
        <p:blipFill>
          <a:blip r:embed="rId1"/>
          <a:stretch/>
        </p:blipFill>
        <p:spPr>
          <a:xfrm>
            <a:off x="684360" y="1700280"/>
            <a:ext cx="2400120" cy="1819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31" descr="д2"/>
          <p:cNvPicPr/>
          <p:nvPr/>
        </p:nvPicPr>
        <p:blipFill>
          <a:blip r:embed="rId2"/>
          <a:stretch/>
        </p:blipFill>
        <p:spPr>
          <a:xfrm>
            <a:off x="3924360" y="1700280"/>
            <a:ext cx="1700280" cy="1828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32" descr="д3"/>
          <p:cNvPicPr/>
          <p:nvPr/>
        </p:nvPicPr>
        <p:blipFill>
          <a:blip r:embed="rId3"/>
          <a:stretch/>
        </p:blipFill>
        <p:spPr>
          <a:xfrm>
            <a:off x="611280" y="3716280"/>
            <a:ext cx="25797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"/>
          <p:cNvSpPr/>
          <p:nvPr/>
        </p:nvSpPr>
        <p:spPr>
          <a:xfrm>
            <a:off x="176040" y="638280"/>
            <a:ext cx="8858520" cy="63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учить школьников выполнять 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хнические рисунки предме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 Развивать пространственное мышлени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мения работать карандашом без чертёжных инструмен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  Воспитывать аккуратн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выполнении технических рисун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2556000" y="32400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Цель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Записать четверостишие, раскрывающее то, </a:t>
            </a: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что проходили на уро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ществительно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а прилагательны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глагол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е отношение к изученно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2"/>
          <p:cNvPicPr/>
          <p:nvPr/>
        </p:nvPicPr>
        <p:blipFill>
          <a:blip r:embed="rId1"/>
          <a:stretch/>
        </p:blipFill>
        <p:spPr>
          <a:xfrm>
            <a:off x="971640" y="3789360"/>
            <a:ext cx="7056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8 апреля 2012 г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зовите линии чертеж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4" descr="повторение"/>
          <p:cNvPicPr/>
          <p:nvPr/>
        </p:nvPicPr>
        <p:blipFill>
          <a:blip r:embed="rId1"/>
          <a:stretch/>
        </p:blipFill>
        <p:spPr>
          <a:xfrm>
            <a:off x="2340000" y="1484280"/>
            <a:ext cx="4686120" cy="518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581400" y="136512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пунктирная тонк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-149760" y="234936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плошная толстая основн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078920" y="414972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ов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473560" y="386064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пунктирная тонк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304600" y="422100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плошная волнист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388800" y="404640"/>
            <a:ext cx="83534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вторение теоретического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атериала по теме: “Проецирование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. Объяснение нового материа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. Графическая рабо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.Закрепление, обобщение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дведение итогов уро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. Домашнее зад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19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482560" y="36360"/>
            <a:ext cx="37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Ответы на тес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454040" y="773280"/>
            <a:ext cx="19195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 А,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 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 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0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148360" y="542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435640" y="1035000"/>
            <a:ext cx="1873080" cy="62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1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692360" y="5605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Ответы на кроссвор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953720" y="1413000"/>
            <a:ext cx="410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  проекц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2  Фронталь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3  изометр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4  горизонталь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5  толст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33480"/>
            <a:ext cx="68421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768920" y="4437000"/>
            <a:ext cx="4130640" cy="2108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284040" y="4876920"/>
            <a:ext cx="2670120" cy="1757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3"/>
          <a:stretch/>
        </p:blipFill>
        <p:spPr>
          <a:xfrm>
            <a:off x="5780160" y="1851120"/>
            <a:ext cx="3119400" cy="223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Admin\Рабочий стол\журавушка 2012-13\т4.jpg"/>
          <p:cNvPicPr/>
          <p:nvPr/>
        </p:nvPicPr>
        <p:blipFill>
          <a:blip r:embed="rId4"/>
          <a:stretch/>
        </p:blipFill>
        <p:spPr>
          <a:xfrm>
            <a:off x="108000" y="1855800"/>
            <a:ext cx="2844720" cy="242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2952720" y="4149720"/>
            <a:ext cx="2097000" cy="227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6"/>
          <a:stretch/>
        </p:blipFill>
        <p:spPr>
          <a:xfrm>
            <a:off x="3116160" y="2111400"/>
            <a:ext cx="2540160" cy="1716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"/>
          <p:cNvSpPr/>
          <p:nvPr/>
        </p:nvSpPr>
        <p:spPr>
          <a:xfrm>
            <a:off x="468360" y="8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уется в архитектуре, строительств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 искусстве, в интерьере, в  машиностроительном черч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24000" y="2243160"/>
            <a:ext cx="9252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  <a:ea typeface="Aharoni"/>
              </a:rPr>
              <a:t>Технический рисунок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haroni"/>
              </a:rPr>
              <a:t> – это изображение, выполненное от руки по правилам аксонометрических проекций с соблюдением пропорций на глаз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Без имени-7"/>
          <p:cNvPicPr/>
          <p:nvPr/>
        </p:nvPicPr>
        <p:blipFill>
          <a:blip r:embed="rId1"/>
          <a:stretch/>
        </p:blipFill>
        <p:spPr>
          <a:xfrm>
            <a:off x="0" y="115920"/>
            <a:ext cx="2448000" cy="2127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26654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39680" y="549360"/>
            <a:ext cx="8753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ксонометрические изображени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енные без примене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ртежных инструментов, от ру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ывают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хническими рисункам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выполнении техничес­ких рисунк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следуется цель быстр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а­глядно показать на бумаге предмет или даже группу предметов в цел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точнения формы, уяснения взаимо­действия и принципа раб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0:58:19Z</dcterms:created>
  <dc:creator>Ученик</dc:creator>
  <dc:description/>
  <dc:language>en-US</dc:language>
  <cp:lastModifiedBy>Светлана</cp:lastModifiedBy>
  <dcterms:modified xsi:type="dcterms:W3CDTF">2013-03-20T18:39:12Z</dcterms:modified>
  <cp:revision>38</cp:revision>
  <dc:subject/>
  <dc:title>ТЕХНИЧЕСКИЙ РИСУНОК</dc:title>
</cp:coreProperties>
</file>