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.jpeg" ContentType="image/jpeg"/>
  <Override PartName="/ppt/media/image26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29.jpeg" ContentType="image/jpeg"/>
  <Override PartName="/ppt/media/image9.png" ContentType="image/png"/>
  <Override PartName="/ppt/media/image27.jpeg" ContentType="image/jpeg"/>
  <Override PartName="/ppt/media/image10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BCC5-CFC0-4E28-818F-7AB603ED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5DCF-C41E-4659-AF1B-AA57D2E2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71F2-E749-4E41-AFEF-28A72195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F2F4-6176-4102-A2E7-FE0AC293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57BE-E89F-41F0-A576-A7EC8497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B1AD-26ED-461A-AEB2-6D51A483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A69D-2E59-403E-957B-EF4DF6D1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FC60-4D8B-4F7A-9AEE-FC6A90A7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FEC5-45CB-4594-89B8-8FD69640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AE0C-A086-42CC-A617-19DA1368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015D-3FF7-4F6A-B1EC-EFB6C927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C1A3-766F-4F66-AC7A-D8BD7CC7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A9B2-C048-42FB-B326-EA5EBAA4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7971-4FE6-496B-8DAC-CA82A2C9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ECB0-5A0A-4963-B0F3-3D72AF3A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A866-503F-4DF8-AB30-3262CD70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276A-E8AE-4A82-8B40-28F1AE81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480-CBA8-4541-9DE4-0E664F82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A9A7-47D8-4738-8241-462D29AF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8F5F-1673-4A2D-9BF8-3D08B8F5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27B2-0AFF-43F1-8957-CD4AFEE1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436C-7619-47A7-A38E-AD89F755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9BDB-C34F-4F68-8D3D-F1276AC1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D9BC-41D7-42CD-8FF7-3A284BE5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8FA9-55DC-4FF2-B734-E87C7521F5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0598-8A24-420A-822A-69AACF815E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2130120"/>
            <a:ext cx="84582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ЕХН</a:t>
            </a: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… …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ЕСК… …   Р…С…НО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484360" y="1052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Тема уро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324000" y="2349360"/>
            <a:ext cx="60948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2050920" y="2492280"/>
            <a:ext cx="41112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2556000" y="2492280"/>
            <a:ext cx="4316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3995640" y="2492280"/>
            <a:ext cx="41112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4500720" y="2349360"/>
            <a:ext cx="41112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5651640" y="2492280"/>
            <a:ext cx="41112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10"/>
          <p:cNvSpPr txBox="1"/>
          <p:nvPr/>
        </p:nvSpPr>
        <p:spPr>
          <a:xfrm>
            <a:off x="6372360" y="2421000"/>
            <a:ext cx="411120" cy="12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250920" y="212760"/>
            <a:ext cx="2382840" cy="2428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6858000" y="3500280"/>
            <a:ext cx="2016000" cy="264816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3"/>
          <p:cNvSpPr/>
          <p:nvPr/>
        </p:nvSpPr>
        <p:spPr>
          <a:xfrm>
            <a:off x="2411280" y="189000"/>
            <a:ext cx="633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Повысить наглядность рисунка можно с помощью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штриховки, 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используется для обозначения детал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из металл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3"/>
          <a:stretch/>
        </p:blipFill>
        <p:spPr>
          <a:xfrm rot="20704200">
            <a:off x="484200" y="4127040"/>
            <a:ext cx="1914480" cy="207648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"/>
          <p:cNvSpPr/>
          <p:nvPr/>
        </p:nvSpPr>
        <p:spPr>
          <a:xfrm>
            <a:off x="73080" y="2629080"/>
            <a:ext cx="9036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Вертикальные плоскости штрихуют вертикальными прямыми,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горизонтальные -прямыми, параллельными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аксонометрическим осям,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а наклонные — прямыми,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параллельными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углу накло­на плоскости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243720" y="4316400"/>
            <a:ext cx="3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6875640" y="4394160"/>
            <a:ext cx="2098440" cy="2262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 rot="20713200">
            <a:off x="596520" y="4387680"/>
            <a:ext cx="1682640" cy="2275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3"/>
          <a:stretch/>
        </p:blipFill>
        <p:spPr>
          <a:xfrm>
            <a:off x="141120" y="836640"/>
            <a:ext cx="1467000" cy="195264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"/>
          <p:cNvSpPr/>
          <p:nvPr/>
        </p:nvSpPr>
        <p:spPr>
          <a:xfrm>
            <a:off x="652320" y="21600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Повысить наглядность рисунка можно с помощью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шрафировки. </a:t>
            </a:r>
            <a:r>
              <a:rPr b="0" lang="ru-RU" sz="3200" spc="-1" strike="noStrike">
                <a:solidFill>
                  <a:srgbClr val="964ce0"/>
                </a:solidFill>
                <a:latin typeface="Comic Sans MS"/>
              </a:rPr>
              <a:t>Используется для обозначения </a:t>
            </a: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не металлических    предме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50760" y="2446200"/>
            <a:ext cx="9093240" cy="39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mic Sans MS"/>
              </a:rPr>
              <a:t>            </a:t>
            </a: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Шраффировка</a:t>
            </a:r>
            <a:r>
              <a:rPr b="1" lang="ru-RU" sz="3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– это штриховка сеткой, или двойная штриховка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На многогранниках и поверхностях вращения шраффировку наносят по форме предмета  аналогично штриховке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 rot="1159800">
            <a:off x="6773400" y="4213080"/>
            <a:ext cx="2070360" cy="2368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2409840" cy="225396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"/>
          <p:cNvSpPr/>
          <p:nvPr/>
        </p:nvSpPr>
        <p:spPr>
          <a:xfrm>
            <a:off x="198360" y="476280"/>
            <a:ext cx="8475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стояние между штрихами — 1...3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мм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ступающие ребра предмета оттеняю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иболее яркими и толстыми штриха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личная густота штри­хов позволяе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биться различных тонов —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 светло­ серых до наиболее темны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1942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7236000" y="4221000"/>
            <a:ext cx="1733400" cy="24768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"/>
          <p:cNvSpPr/>
          <p:nvPr/>
        </p:nvSpPr>
        <p:spPr>
          <a:xfrm>
            <a:off x="162720" y="3181320"/>
            <a:ext cx="858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чечное оттенение  выполняется с помощью точе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увеличением освещения расстояние между точкам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величиваетс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 выполнении оттенения считают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что на изображаемый предмет свет попадае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сверху, сзади и слева, поэтому освещенные част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            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делают более светлыми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       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а правые и нижние части — затемненны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3132000" y="333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755640" y="210960"/>
            <a:ext cx="80643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      </a:t>
            </a: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Повысить наглядность рисунка  можно с помощью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точечного </a:t>
            </a: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оттенения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                </a:t>
            </a: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Используют для обозначения  деталей  с грубыми, шероховатыми поверхностями (литьё, ковка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Алгоритм построения технического рисун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полнение технического рисунка начинается с проведения аксонометрических осей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бы на бумаге в клетку построить угол 12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проводят 5 клеток от точки О вправо и влево и 3 – вниз (или вверх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2941560" y="4221000"/>
            <a:ext cx="288144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920" y="14040"/>
            <a:ext cx="7871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Алгоритм построения технического рисун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Тонкими линиями намечают изображение детали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2.Убедившись в правильности рисунка, необходимо обвести его с более сильным нажимом карандаша, чтобы придать рисунку большую выразительность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503280" y="3773520"/>
            <a:ext cx="3960720" cy="1469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4950000" y="3789360"/>
            <a:ext cx="3654360" cy="1454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"/>
          <p:cNvPicPr/>
          <p:nvPr/>
        </p:nvPicPr>
        <p:blipFill>
          <a:blip r:embed="rId3"/>
          <a:stretch/>
        </p:blipFill>
        <p:spPr>
          <a:xfrm>
            <a:off x="2484360" y="5318280"/>
            <a:ext cx="1984320" cy="1350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"/>
          <p:cNvPicPr/>
          <p:nvPr/>
        </p:nvPicPr>
        <p:blipFill>
          <a:blip r:embed="rId4"/>
          <a:stretch/>
        </p:blipFill>
        <p:spPr>
          <a:xfrm>
            <a:off x="4572000" y="5318280"/>
            <a:ext cx="208584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4067280" y="4437000"/>
            <a:ext cx="792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2263680" y="4254480"/>
            <a:ext cx="5140440" cy="24894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>
            <a:off x="1830240" y="42840"/>
            <a:ext cx="605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Графическое зада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-81000" y="776160"/>
            <a:ext cx="922500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Выполнить технический рисунок детали,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полученной при удалении частей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по нанесенной разметке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mic Sans MS"/>
              </a:rPr>
              <a:t>Материал, из которого сделана ваша деталь, выберите сами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7556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По чертежу детали выполнить технический рисуно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68360" y="1488960"/>
          <a:ext cx="8229600" cy="5373720"/>
        </p:xfrm>
        <a:graphic>
          <a:graphicData uri="http://schemas.openxmlformats.org/drawingml/2006/table">
            <a:tbl>
              <a:tblPr/>
              <a:tblGrid>
                <a:gridCol w="330120"/>
                <a:gridCol w="326880"/>
                <a:gridCol w="330480"/>
                <a:gridCol w="328680"/>
                <a:gridCol w="330120"/>
                <a:gridCol w="330120"/>
                <a:gridCol w="326880"/>
                <a:gridCol w="330480"/>
                <a:gridCol w="328320"/>
                <a:gridCol w="330480"/>
                <a:gridCol w="330120"/>
                <a:gridCol w="326880"/>
                <a:gridCol w="330120"/>
                <a:gridCol w="328680"/>
                <a:gridCol w="328680"/>
                <a:gridCol w="330120"/>
                <a:gridCol w="328680"/>
                <a:gridCol w="330120"/>
                <a:gridCol w="327240"/>
                <a:gridCol w="330120"/>
                <a:gridCol w="330120"/>
                <a:gridCol w="328680"/>
                <a:gridCol w="330120"/>
                <a:gridCol w="327240"/>
                <a:gridCol w="330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6" name="Picture 5698" descr="у1"/>
          <p:cNvPicPr/>
          <p:nvPr/>
        </p:nvPicPr>
        <p:blipFill>
          <a:blip r:embed="rId1"/>
          <a:stretch/>
        </p:blipFill>
        <p:spPr>
          <a:xfrm>
            <a:off x="611280" y="1844640"/>
            <a:ext cx="2400120" cy="1562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699" descr="у2"/>
          <p:cNvPicPr/>
          <p:nvPr/>
        </p:nvPicPr>
        <p:blipFill>
          <a:blip r:embed="rId2"/>
          <a:stretch/>
        </p:blipFill>
        <p:spPr>
          <a:xfrm>
            <a:off x="3348000" y="1700280"/>
            <a:ext cx="2190960" cy="1757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700" descr="у3"/>
          <p:cNvPicPr/>
          <p:nvPr/>
        </p:nvPicPr>
        <p:blipFill>
          <a:blip r:embed="rId3"/>
          <a:stretch/>
        </p:blipFill>
        <p:spPr>
          <a:xfrm>
            <a:off x="539640" y="3789360"/>
            <a:ext cx="25146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 Выучить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9. Повторить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1-8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2. Приготовить и принести образец формата А4 и чертежные принадлеж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3. По чертежу детали выполнить технический рисуно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По чертежу детали выполнить технический рисуно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68360" y="1498680"/>
          <a:ext cx="8229600" cy="5364000"/>
        </p:xfrm>
        <a:graphic>
          <a:graphicData uri="http://schemas.openxmlformats.org/drawingml/2006/table">
            <a:tbl>
              <a:tblPr/>
              <a:tblGrid>
                <a:gridCol w="330120"/>
                <a:gridCol w="326880"/>
                <a:gridCol w="330480"/>
                <a:gridCol w="328680"/>
                <a:gridCol w="330120"/>
                <a:gridCol w="330120"/>
                <a:gridCol w="326880"/>
                <a:gridCol w="330480"/>
                <a:gridCol w="328320"/>
                <a:gridCol w="330480"/>
                <a:gridCol w="330120"/>
                <a:gridCol w="326880"/>
                <a:gridCol w="330120"/>
                <a:gridCol w="328680"/>
                <a:gridCol w="328680"/>
                <a:gridCol w="330120"/>
                <a:gridCol w="328680"/>
                <a:gridCol w="330120"/>
                <a:gridCol w="327240"/>
                <a:gridCol w="330120"/>
                <a:gridCol w="330120"/>
                <a:gridCol w="328680"/>
                <a:gridCol w="330120"/>
                <a:gridCol w="327240"/>
                <a:gridCol w="3301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Picture 2330" descr="д1"/>
          <p:cNvPicPr/>
          <p:nvPr/>
        </p:nvPicPr>
        <p:blipFill>
          <a:blip r:embed="rId1"/>
          <a:stretch/>
        </p:blipFill>
        <p:spPr>
          <a:xfrm>
            <a:off x="684360" y="1700280"/>
            <a:ext cx="2400120" cy="1819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331" descr="д2"/>
          <p:cNvPicPr/>
          <p:nvPr/>
        </p:nvPicPr>
        <p:blipFill>
          <a:blip r:embed="rId2"/>
          <a:stretch/>
        </p:blipFill>
        <p:spPr>
          <a:xfrm>
            <a:off x="3924360" y="1700280"/>
            <a:ext cx="1700280" cy="1828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332" descr="д3"/>
          <p:cNvPicPr/>
          <p:nvPr/>
        </p:nvPicPr>
        <p:blipFill>
          <a:blip r:embed="rId3"/>
          <a:stretch/>
        </p:blipFill>
        <p:spPr>
          <a:xfrm>
            <a:off x="611280" y="3716280"/>
            <a:ext cx="257976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3"/>
          <p:cNvSpPr/>
          <p:nvPr/>
        </p:nvSpPr>
        <p:spPr>
          <a:xfrm>
            <a:off x="176040" y="638280"/>
            <a:ext cx="8858520" cy="63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учить школьников выполнять 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хнические рисунки предмет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  Развивать пространственное мышление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мения работать карандашом без чертёжных инструмент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  Воспитывать аккуратность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 выполнении технических рисунк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2556000" y="324000"/>
            <a:ext cx="35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Цель уро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Записать четверостишие, раскрывающее то, </a:t>
            </a:r>
            <a:br>
              <a:rPr sz="4000"/>
            </a:b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что проходили на урок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уществительно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ва прилагательных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и глагол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е отношение к изученном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6" descr="2"/>
          <p:cNvPicPr/>
          <p:nvPr/>
        </p:nvPicPr>
        <p:blipFill>
          <a:blip r:embed="rId1"/>
          <a:stretch/>
        </p:blipFill>
        <p:spPr>
          <a:xfrm>
            <a:off x="971640" y="3789360"/>
            <a:ext cx="7056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8 апреля 2012 г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азовите линии чертеж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4" descr="повторение"/>
          <p:cNvPicPr/>
          <p:nvPr/>
        </p:nvPicPr>
        <p:blipFill>
          <a:blip r:embed="rId1"/>
          <a:stretch/>
        </p:blipFill>
        <p:spPr>
          <a:xfrm>
            <a:off x="2340000" y="1484280"/>
            <a:ext cx="4686120" cy="5184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581400" y="1365120"/>
            <a:ext cx="43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Штрихпунктирная тонк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-149760" y="2349360"/>
            <a:ext cx="47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Сплошная толстая основн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078920" y="414972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Штрихов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473560" y="3860640"/>
            <a:ext cx="43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Штрихпунктирная тонк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5304600" y="4221000"/>
            <a:ext cx="35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Сплошная волнист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388800" y="404640"/>
            <a:ext cx="83534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лан уро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овторение теоретического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атериала по теме: “Проецирование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2. Объяснение нового материал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. Графическая рабо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.Закрепление, обобщение знани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одведение итогов уро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. Домашнее зада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6192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2482560" y="36360"/>
            <a:ext cx="37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Ответы на тес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1454040" y="773280"/>
            <a:ext cx="191952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  А,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  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  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  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  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  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7  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8  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9  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0 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5148360" y="5428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5435640" y="1035000"/>
            <a:ext cx="1873080" cy="62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1  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1692360" y="56052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Ответы на кроссвор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1953720" y="1413000"/>
            <a:ext cx="4106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1  проекц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2  Фронтальна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3  изометр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4  горизонтальна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5  толста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920" y="33480"/>
            <a:ext cx="684216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хнический рисуно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4768920" y="4437000"/>
            <a:ext cx="4130640" cy="2108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2"/>
          <a:stretch/>
        </p:blipFill>
        <p:spPr>
          <a:xfrm>
            <a:off x="284040" y="4876920"/>
            <a:ext cx="2670120" cy="1757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3"/>
          <a:stretch/>
        </p:blipFill>
        <p:spPr>
          <a:xfrm>
            <a:off x="5780160" y="1851120"/>
            <a:ext cx="3119400" cy="2238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Documents and Settings\Admin\Рабочий стол\журавушка 2012-13\т4.jpg"/>
          <p:cNvPicPr/>
          <p:nvPr/>
        </p:nvPicPr>
        <p:blipFill>
          <a:blip r:embed="rId4"/>
          <a:stretch/>
        </p:blipFill>
        <p:spPr>
          <a:xfrm>
            <a:off x="108000" y="1855800"/>
            <a:ext cx="2844720" cy="2425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5"/>
          <a:stretch/>
        </p:blipFill>
        <p:spPr>
          <a:xfrm>
            <a:off x="2952720" y="4149720"/>
            <a:ext cx="2097000" cy="2276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6"/>
          <a:stretch/>
        </p:blipFill>
        <p:spPr>
          <a:xfrm>
            <a:off x="3116160" y="2111400"/>
            <a:ext cx="2540160" cy="17161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"/>
          <p:cNvSpPr/>
          <p:nvPr/>
        </p:nvSpPr>
        <p:spPr>
          <a:xfrm>
            <a:off x="468360" y="866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пользуется в архитектуре, строительстве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 искусстве, в интерьере, в  машиностроительном черчен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-324000" y="2243160"/>
            <a:ext cx="9252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ru-RU" sz="4000" spc="-1" strike="noStrike">
                <a:solidFill>
                  <a:srgbClr val="703dff"/>
                </a:solidFill>
                <a:latin typeface="Comic Sans MS"/>
                <a:ea typeface="Aharoni"/>
              </a:rPr>
              <a:t>Технический рисунок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  <a:ea typeface="Aharoni"/>
              </a:rPr>
              <a:t> – это изображение, выполненное от руки по правилам аксонометрических проекций с соблюдением пропорций на глаз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5" descr="Без имени-7"/>
          <p:cNvPicPr/>
          <p:nvPr/>
        </p:nvPicPr>
        <p:blipFill>
          <a:blip r:embed="rId1"/>
          <a:stretch/>
        </p:blipFill>
        <p:spPr>
          <a:xfrm>
            <a:off x="0" y="115920"/>
            <a:ext cx="2448000" cy="2127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5435640" y="189000"/>
            <a:ext cx="26654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139680" y="549360"/>
            <a:ext cx="8753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ксонометрические изображения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полненные без применен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ртежных инструментов, от ру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зывают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ехническими рисункам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 выполнении техничес­ких рисунков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следуется цель быстр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на­глядно показать на бумаге предмет или даже группу предметов в целя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точнения формы, уяснения взаимо­действия и принципа рабо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0:58:19Z</dcterms:created>
  <dc:creator>Ученик</dc:creator>
  <dc:description/>
  <dc:language>en-US</dc:language>
  <cp:lastModifiedBy>Светлана</cp:lastModifiedBy>
  <dcterms:modified xsi:type="dcterms:W3CDTF">2013-03-20T18:39:12Z</dcterms:modified>
  <cp:revision>38</cp:revision>
  <dc:subject/>
  <dc:title>ТЕХНИЧЕСКИЙ РИСУНОК</dc:title>
</cp:coreProperties>
</file>