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2A8-90F2-44AE-A03D-AD37F91D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FFB-9C95-4370-9280-16A9431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6B1-34B8-461B-8422-1B624850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73F-8BC1-43AF-B46A-75822D69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0F10-2152-425C-B888-75495691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CBB-EC24-4C30-B067-7582CD6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076E-B757-4DB1-BC3B-400AA40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7A59-00E6-4CD4-A27D-889BFDF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78D-2241-4A3D-AFBF-F38BD362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1AAC-2340-45FF-A858-C66ECA0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E916-D588-49F6-8FD1-96BFF11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C59-FAE1-48D6-8812-9E15E4D5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8A24-4164-485E-BC03-F5404F3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451B-B75F-46B5-A457-C4A7079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DDEE-B7A8-4685-8766-E4FE304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A444-23DB-405B-A1AC-47F4B0DC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C88-22A0-4559-AC11-3FA8ECB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FFD-7EB6-4E20-808C-87E3D384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289-032B-4704-A9AF-E2DC024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B3D-36A0-400F-B945-E2C40897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657-2001-40C2-B5DB-986220A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144-57C5-45FB-AA18-433983D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DAE-A0F0-4F95-BBD1-4123F80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7ED-5D83-4E9E-A32E-D98CE65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CD3-69D2-4476-B585-85A784AB6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28A-1A1A-4F5A-BA1E-FD44B3503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4582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ХН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… 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СК… …   Р…С…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4360" y="10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24000" y="2349360"/>
            <a:ext cx="6094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05092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56000" y="2492280"/>
            <a:ext cx="43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995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500720" y="234936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5651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372360" y="2421000"/>
            <a:ext cx="4111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212760"/>
            <a:ext cx="2382840" cy="242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858000" y="3500280"/>
            <a:ext cx="2016000" cy="26481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411280" y="1890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триховки,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спользуется для обозначения дета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з металл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 rot="20704200">
            <a:off x="484200" y="4127040"/>
            <a:ext cx="191448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73080" y="2629080"/>
            <a:ext cx="90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ьные плоскости штрихуют вертикальными прямыми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оризонтальные -прямыми, параллельны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ксонометрическим осям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 наклонные — прямым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араллельными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глу накло­на плоскост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243720" y="43164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875640" y="4394160"/>
            <a:ext cx="2098440" cy="22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 rot="20713200">
            <a:off x="596520" y="4387680"/>
            <a:ext cx="1682640" cy="227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141120" y="836640"/>
            <a:ext cx="1467000" cy="19526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652320" y="2160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рафировки. </a:t>
            </a:r>
            <a:r>
              <a:rPr b="0" lang="ru-RU" sz="3200" spc="-1" strike="noStrike">
                <a:solidFill>
                  <a:srgbClr val="964ce0"/>
                </a:solidFill>
                <a:latin typeface="Comic Sans MS"/>
              </a:rPr>
              <a:t>Используется для обозначения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не металлических    предм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760" y="2446200"/>
            <a:ext cx="90932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           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Шраффировка</a:t>
            </a: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– это штриховка сеткой, или двойная штриховка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многогранниках и поверхностях вращения шраффировку наносят по форме предмета  аналогично штрихов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 rot="1159800">
            <a:off x="6773400" y="4213080"/>
            <a:ext cx="2070360" cy="236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2409840" cy="22539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98360" y="476280"/>
            <a:ext cx="847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ояние между штрихами — 1...3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упающие ребра предмета оттеня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иболее яркими и толстыми штрих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личная густота штри­хов позволя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биться различных тонов —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светло­ серых до наиболее тем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942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236000" y="4221000"/>
            <a:ext cx="1733400" cy="247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62720" y="3181320"/>
            <a:ext cx="858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ечное оттенение  выполняется с помощью точ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увеличением освещения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величивает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выполнении оттенения считаю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а изображаемый предмет свет попад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верху, сзади и слева, поэтому освещенные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елают более светлым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а правые и нижние части — затемнен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13200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55640" y="210960"/>
            <a:ext cx="8064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 можно с помощ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очечного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оттенени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спользуют для обозначения  деталей  с грубыми, шероховатыми поверхностями (литьё, ков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ие технического рисунка начинается с проведения аксонометрических ос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а бумаге в клетку построить угол 1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водят 5 клеток от точки О вправо и влево и 3 – вниз (или вверх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941560" y="4221000"/>
            <a:ext cx="28814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404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Тонкими линиями намечают изображение детал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2.Убедившись в правильности рисунка, необходимо обвести его с более сильным нажимом карандаша, чтобы придать рисунку большую выразительность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03280" y="3773520"/>
            <a:ext cx="3960720" cy="146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950000" y="3789360"/>
            <a:ext cx="3654360" cy="1454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2484360" y="5318280"/>
            <a:ext cx="1984320" cy="135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4"/>
          <a:stretch/>
        </p:blipFill>
        <p:spPr>
          <a:xfrm>
            <a:off x="4572000" y="5318280"/>
            <a:ext cx="20858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7280" y="4437000"/>
            <a:ext cx="792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63680" y="4254480"/>
            <a:ext cx="5140440" cy="2489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1830240" y="428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Графическо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-81000" y="776160"/>
            <a:ext cx="9225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Выполнить технический рисунок детал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лученной при удалении частей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 нанесенной размет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Материал, из которого сделана ваша деталь, выберите са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488960"/>
          <a:ext cx="8229600" cy="537372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698" descr="у1"/>
          <p:cNvPicPr/>
          <p:nvPr/>
        </p:nvPicPr>
        <p:blipFill>
          <a:blip r:embed="rId1"/>
          <a:stretch/>
        </p:blipFill>
        <p:spPr>
          <a:xfrm>
            <a:off x="611280" y="1844640"/>
            <a:ext cx="240012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699" descr="у2"/>
          <p:cNvPicPr/>
          <p:nvPr/>
        </p:nvPicPr>
        <p:blipFill>
          <a:blip r:embed="rId2"/>
          <a:stretch/>
        </p:blipFill>
        <p:spPr>
          <a:xfrm>
            <a:off x="3348000" y="1700280"/>
            <a:ext cx="2190960" cy="175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700" descr="у3"/>
          <p:cNvPicPr/>
          <p:nvPr/>
        </p:nvPicPr>
        <p:blipFill>
          <a:blip r:embed="rId3"/>
          <a:stretch/>
        </p:blipFill>
        <p:spPr>
          <a:xfrm>
            <a:off x="539640" y="3789360"/>
            <a:ext cx="25146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Выуч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9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1-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. Приготовить и принести образец формата А4 и чертежные принадлеж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3. По чертежу детали выполнить технический рису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1498680"/>
          <a:ext cx="8229600" cy="536400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330" descr="д1"/>
          <p:cNvPicPr/>
          <p:nvPr/>
        </p:nvPicPr>
        <p:blipFill>
          <a:blip r:embed="rId1"/>
          <a:stretch/>
        </p:blipFill>
        <p:spPr>
          <a:xfrm>
            <a:off x="684360" y="170028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31" descr="д2"/>
          <p:cNvPicPr/>
          <p:nvPr/>
        </p:nvPicPr>
        <p:blipFill>
          <a:blip r:embed="rId2"/>
          <a:stretch/>
        </p:blipFill>
        <p:spPr>
          <a:xfrm>
            <a:off x="3924360" y="1700280"/>
            <a:ext cx="1700280" cy="18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32" descr="д3"/>
          <p:cNvPicPr/>
          <p:nvPr/>
        </p:nvPicPr>
        <p:blipFill>
          <a:blip r:embed="rId3"/>
          <a:stretch/>
        </p:blipFill>
        <p:spPr>
          <a:xfrm>
            <a:off x="611280" y="3716280"/>
            <a:ext cx="2579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176040" y="638280"/>
            <a:ext cx="885852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школьников выполнять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ические рисунки предме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 Развивать пространственное мышл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ения работать карандашом без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  Воспитывать аккурат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ких рисун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556000" y="324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исать четверостишие, раскрывающее то,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проходили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ительно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прилагательн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глаго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е отношение к изученн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2"/>
          <p:cNvPicPr/>
          <p:nvPr/>
        </p:nvPicPr>
        <p:blipFill>
          <a:blip r:embed="rId1"/>
          <a:stretch/>
        </p:blipFill>
        <p:spPr>
          <a:xfrm>
            <a:off x="971640" y="3789360"/>
            <a:ext cx="70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8 апреля 2012 г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линии чертеж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повторение"/>
          <p:cNvPicPr/>
          <p:nvPr/>
        </p:nvPicPr>
        <p:blipFill>
          <a:blip r:embed="rId1"/>
          <a:stretch/>
        </p:blipFill>
        <p:spPr>
          <a:xfrm>
            <a:off x="2340000" y="1484280"/>
            <a:ext cx="4686120" cy="518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581400" y="1365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49760" y="234936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толстая основ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078920" y="41497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73560" y="38606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304600" y="422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волнист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88800" y="404640"/>
            <a:ext cx="83534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вторение теоретическог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атериала по теме: “Проецирование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. Объясн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. Графическая рабо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.Закрепление, обобщение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. 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82560" y="3636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тес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454040" y="773280"/>
            <a:ext cx="1919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 А,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48360" y="54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435640" y="1035000"/>
            <a:ext cx="187308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692360" y="5605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кроссвор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953720" y="1413000"/>
            <a:ext cx="410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  проек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2  Фр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  изомет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4  гориз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  толст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33480"/>
            <a:ext cx="6842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768920" y="4437000"/>
            <a:ext cx="4130640" cy="210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284040" y="4876920"/>
            <a:ext cx="2670120" cy="1757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5780160" y="1851120"/>
            <a:ext cx="3119400" cy="223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журавушка 2012-13\т4.jpg"/>
          <p:cNvPicPr/>
          <p:nvPr/>
        </p:nvPicPr>
        <p:blipFill>
          <a:blip r:embed="rId4"/>
          <a:stretch/>
        </p:blipFill>
        <p:spPr>
          <a:xfrm>
            <a:off x="108000" y="1855800"/>
            <a:ext cx="2844720" cy="242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2952720" y="4149720"/>
            <a:ext cx="2097000" cy="22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3116160" y="2111400"/>
            <a:ext cx="2540160" cy="1716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468360" y="8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уется в архитектуре, строительств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 искусстве, в интерьере, в  машиностроительном черч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24000" y="2243160"/>
            <a:ext cx="92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  <a:ea typeface="Aharoni"/>
              </a:rPr>
              <a:t>Технический рисуно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haroni"/>
              </a:rPr>
              <a:t> – это изображение, выполненное от руки по правилам аксонометрических проекций с соблюдением пропорций на гла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Без имени-7"/>
          <p:cNvPicPr/>
          <p:nvPr/>
        </p:nvPicPr>
        <p:blipFill>
          <a:blip r:embed="rId1"/>
          <a:stretch/>
        </p:blipFill>
        <p:spPr>
          <a:xfrm>
            <a:off x="0" y="115920"/>
            <a:ext cx="2448000" cy="21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665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9680" y="549360"/>
            <a:ext cx="875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сонометрические изображ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ные без примен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тежных инструментов, от р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хническими рисун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­ких рисун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следуется цель быст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­глядно показать на бумаге предмет или даже группу предметов в цел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я формы, уяснения взаимо­действия и принципа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8:19Z</dcterms:created>
  <dc:creator>Ученик</dc:creator>
  <dc:description/>
  <dc:language>en-US</dc:language>
  <cp:lastModifiedBy>Светлана</cp:lastModifiedBy>
  <dcterms:modified xsi:type="dcterms:W3CDTF">2013-03-20T18:39:12Z</dcterms:modified>
  <cp:revision>38</cp:revision>
  <dc:subject/>
  <dc:title>ТЕХНИЧЕСКИЙ РИСУНОК</dc:title>
</cp:coreProperties>
</file>