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CBA7-205D-4E50-A8DB-6578AE26B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D433-1023-46E4-9541-98E6B5167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E49E-9DD7-40C4-B577-F39757962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08C34-E808-482A-923A-79E6A3E7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9EE62-8961-46DF-9471-84FFAD625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324F-4D4D-4300-A546-C84C4BFEE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EFAE-D680-40BE-9F82-FA3BB70B1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E275F-E603-4984-AB0D-4A9110AA1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F3C5-71C1-44DE-B886-3BFD59774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BAE-785F-4933-A642-EF6A3778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E765-A159-4656-8F88-1EE4052B8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149E2-5D5B-4305-A106-9E0B4DA45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 Gothic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entury Goth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entury Gothic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14DD-D9AD-4C23-9A23-73837AFCC226}" type="slidenum">
              <a:rPr b="1" lang="en-US" sz="14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920" y="2205000"/>
            <a:ext cx="7701120" cy="2232000"/>
          </a:xfrm>
          <a:prstGeom prst="rect">
            <a:avLst/>
          </a:prstGeom>
          <a:solidFill>
            <a:srgbClr val="cc6600">
              <a:alpha val="70000"/>
            </a:srgbClr>
          </a:solidFill>
          <a:ln w="12600">
            <a:solidFill>
              <a:srgbClr val="9933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br>
              <a:rPr sz="8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ма: «Деньги, их функции»</a:t>
            </a:r>
            <a:br>
              <a:rPr sz="4400"/>
            </a:b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68360" y="333360"/>
            <a:ext cx="8280360" cy="56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Изобретение денег - одно из величайших достижений человечества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«Они – великий созидатель. Там, куда они текут, вырастают улицы, заводы, пустыни превращаются в оазисы, болота – в плодородные нивы… Они – жесточайший тиран. Чем больше человек хочет иметь свободы, тем усерднее вынужден служить им…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5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4000" y="907920"/>
            <a:ext cx="8002440" cy="388944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Задача: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определить роль денег в обществе через их функции.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4256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no Pro"/>
              </a:rPr>
              <a:t>ДЕНЬГИ – </a:t>
            </a:r>
            <a:r>
              <a:rPr b="0" lang="en-US" sz="3000" spc="-1" strike="noStrike">
                <a:solidFill>
                  <a:srgbClr val="000000"/>
                </a:solidFill>
                <a:latin typeface="Arno Pro"/>
              </a:rPr>
              <a:t>специфический товар, который имеет свойство обмениваться на любые другие товары, т.е. является всеобщим эквивалентом.</a:t>
            </a:r>
            <a:endParaRPr b="1" lang="en-US" sz="30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5" name="Схема 4" descr=""/>
          <p:cNvPicPr/>
          <p:nvPr/>
        </p:nvPicPr>
        <p:blipFill>
          <a:blip r:embed="rId2"/>
          <a:stretch/>
        </p:blipFill>
        <p:spPr>
          <a:xfrm>
            <a:off x="900000" y="1969920"/>
            <a:ext cx="7274160" cy="48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no Pro"/>
              </a:rPr>
              <a:t>3.  ФУНКЦИИ ДЕНЕГ</a:t>
            </a:r>
            <a:endParaRPr b="1" lang="en-US" sz="3200" spc="-1" strike="noStrike">
              <a:solidFill>
                <a:srgbClr val="000000"/>
              </a:solidFill>
              <a:latin typeface="Century Gothic"/>
            </a:endParaRPr>
          </a:p>
        </p:txBody>
      </p:sp>
      <p:pic>
        <p:nvPicPr>
          <p:cNvPr id="47" name="Схема 3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766296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c6600">
              <a:alpha val="70000"/>
            </a:srgbClr>
          </a:solidFill>
          <a:ln w="9360">
            <a:solidFill>
              <a:srgbClr val="cc66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денег</a:t>
            </a:r>
            <a:endParaRPr b="1" lang="en-US" sz="4400" spc="-1" strike="noStrike">
              <a:solidFill>
                <a:srgbClr val="000000"/>
              </a:solidFill>
              <a:latin typeface="Century Gothic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250920" y="4581360"/>
            <a:ext cx="889308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1989000"/>
            <a:ext cx="237492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товар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19640" y="1989000"/>
            <a:ext cx="2520720" cy="10065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символичес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43640" y="1989000"/>
            <a:ext cx="2376360" cy="10083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</a:rPr>
              <a:t>кредит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54764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24720" y="2997360"/>
            <a:ext cx="216000" cy="431640"/>
          </a:xfrm>
          <a:prstGeom prst="downArrow">
            <a:avLst>
              <a:gd name="adj1" fmla="val 50000"/>
              <a:gd name="adj2" fmla="val 49958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3500280"/>
            <a:ext cx="237492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Зол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и серебр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в слитках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любой тов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443640" y="3500280"/>
            <a:ext cx="2374920" cy="201636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Чеки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редит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кар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0280"/>
            <a:ext cx="2303640" cy="2089440"/>
          </a:xfrm>
          <a:prstGeom prst="roundRect">
            <a:avLst>
              <a:gd name="adj" fmla="val 16667"/>
            </a:avLst>
          </a:prstGeom>
          <a:solidFill>
            <a:srgbClr val="00ffff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едные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никелев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монеты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бумажн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imes New Roman"/>
              </a:rPr>
              <a:t>деньг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8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8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8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8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99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cc3300"/>
                </a:solidFill>
                <a:latin typeface="Times New Roman"/>
              </a:rPr>
              <a:t>Постройте логическую цепочку из разрозненных элементов, соблюдая порядок появления денег: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переход от натурального хозяйства к товарному; 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разделение труда и возникновение специализаци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трудности соизмерения различных товаров при обмене излишками;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  <a:p>
            <a:pPr algn="just">
              <a:lnSpc>
                <a:spcPct val="15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выделение особого товара, служащим всеобщим эквивалентом при обмене.</a:t>
            </a:r>
            <a:endParaRPr b="1" lang="en-US" sz="2600" spc="-1" strike="noStrike">
              <a:solidFill>
                <a:srgbClr val="000000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8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8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8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8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8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8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3T11:05:42Z</dcterms:created>
  <dc:creator>АннА</dc:creator>
  <dc:description/>
  <dc:language>en-US</dc:language>
  <cp:lastModifiedBy>user</cp:lastModifiedBy>
  <dcterms:modified xsi:type="dcterms:W3CDTF">2013-03-20T16:28:22Z</dcterms:modified>
  <cp:revision>21</cp:revision>
  <dc:subject/>
  <dc:title>ТЕМА 1 Сущность и функции денег</dc:title>
</cp:coreProperties>
</file>