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03C-1DBD-4CD3-B901-DFEE1680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3E6-F71A-4D05-A4B7-31BE42C5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61D-2B21-4FFC-92A3-DAB4DC89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37B-E97E-4086-9519-1C546939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A12-5644-4977-B102-0DCAFEF9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007-FE8F-4558-9E28-1CDC76C1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74A-42C2-41B7-B382-907A04EA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3B1-DBC1-4AF1-8FD7-C04B4DD8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869-F697-49AB-9DC3-8D00D78B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8A7-4EBD-4BB3-9D09-C2B6F854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02C-A122-4AA2-A64E-56D3C4DA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47D-9539-4F7B-ADA7-99E9DD7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B606-30DE-4D6E-A855-BE67647955F1}" type="slidenum"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01120" cy="2232000"/>
          </a:xfrm>
          <a:prstGeom prst="rect">
            <a:avLst/>
          </a:prstGeom>
          <a:solidFill>
            <a:srgbClr val="cc6600">
              <a:alpha val="70000"/>
            </a:srgbClr>
          </a:solidFill>
          <a:ln w="1260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а: «Деньги, их функции»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333360"/>
            <a:ext cx="8280360" cy="56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Изобретение денег - одно из величайших достижений человечеств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Они – великий созидатель. Там, куда они текут, вырастают улицы, заводы, пустыни превращаются в оазисы, болота – в плодородные нивы… Они – жесточайший тиран. Чем больше человек хочет иметь свободы, тем усерднее вынужден служить и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002440" cy="388944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ча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определить роль денег в обществе через их функции.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256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no Pro"/>
              </a:rPr>
              <a:t>ДЕНЬГИ – </a:t>
            </a:r>
            <a:r>
              <a:rPr b="0" lang="en-US" sz="3000" spc="-1" strike="noStrike">
                <a:solidFill>
                  <a:srgbClr val="000000"/>
                </a:solidFill>
                <a:latin typeface="Arno Pro"/>
              </a:rPr>
              <a:t>специфический товар, который имеет свойство обмениваться на любые другие товары, т.е. является всеобщим эквивалентом.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" name="Схема 4" descr=""/>
          <p:cNvPicPr/>
          <p:nvPr/>
        </p:nvPicPr>
        <p:blipFill>
          <a:blip r:embed="rId2"/>
          <a:stretch/>
        </p:blipFill>
        <p:spPr>
          <a:xfrm>
            <a:off x="900000" y="1969920"/>
            <a:ext cx="727416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no Pro"/>
              </a:rPr>
              <a:t>3.  ФУНКЦИИ ДЕНЕГ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Схема 3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6629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денег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0920" y="4581360"/>
            <a:ext cx="889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989000"/>
            <a:ext cx="2374920" cy="1008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тов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989000"/>
            <a:ext cx="2520720" cy="10065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имвол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989000"/>
            <a:ext cx="2376360" cy="1008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реди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2472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500280"/>
            <a:ext cx="2374920" cy="208944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Золо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и се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в слит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любой т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500280"/>
            <a:ext cx="2374920" cy="201636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Че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реди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ар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0280"/>
            <a:ext cx="2303640" cy="208944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Медны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икеле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моне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ума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нь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Постройте логическую цепочку из разрозненных элементов, соблюдая порядок появления денег: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реход от натурального хозяйства к товарному; 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азделение труда и возникновение специализации;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трудности соизмерения различных товаров при обмене излишками;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деление особого товара, служащим всеобщим эквивалентом при обмене.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1:05:42Z</dcterms:created>
  <dc:creator>АннА</dc:creator>
  <dc:description/>
  <dc:language>en-US</dc:language>
  <cp:lastModifiedBy>user</cp:lastModifiedBy>
  <dcterms:modified xsi:type="dcterms:W3CDTF">2013-03-20T16:28:22Z</dcterms:modified>
  <cp:revision>21</cp:revision>
  <dc:subject/>
  <dc:title>ТЕМА 1 Сущность и функции денег</dc:title>
</cp:coreProperties>
</file>