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8.wmf" ContentType="image/x-wmf"/>
  <Override PartName="/ppt/media/cashreg.wav" ContentType="audio/x-wav"/>
  <Override PartName="/ppt/media/image13.png" ContentType="image/png"/>
  <Override PartName="/ppt/media/image6.wmf" ContentType="image/x-wmf"/>
  <Override PartName="/ppt/media/image11.png" ContentType="image/png"/>
  <Override PartName="/ppt/media/type.wav" ContentType="audio/x-wav"/>
  <Override PartName="/ppt/media/image12.wmf" ContentType="image/x-wmf"/>
  <Override PartName="/ppt/media/image7.wmf" ContentType="image/x-wmf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carbrake.wav" ContentType="audio/x-wav"/>
  <Override PartName="/ppt/media/chimes.wav" ContentType="audio/x-wav"/>
  <Override PartName="/ppt/media/ricochet.wav" ContentType="audio/x-wav"/>
  <Override PartName="/ppt/media/image3.jpeg" ContentType="image/jpeg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1845-16C1-4B30-92AB-903879D371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EFC9-8C42-4E49-9FF0-FB8105B3EB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45E6-12CC-4DBC-92C1-ECCCBD748D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тить заголо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381-4F95-429A-9AF0-F7CD56E1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B54-38DB-4AB8-9488-09A484BC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D67D6-29AF-403C-B9D8-5AA828B0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8E354-F346-4FE3-AB0B-3D41A552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E71C9-6C04-4E5B-BAC2-A693CDCE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E9424-5808-4CD2-8ABF-E60E2B51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6D5AE-92B0-48A3-8EFF-9A76F583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64D5E-94B0-4957-81D5-B9E9E5AB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84D9A-5FEE-4BE0-91E5-C47C586B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F6D5F-008F-4112-84C0-69CD3607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33DDB-45A4-4D3B-B825-75284FF4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D65F1-F9AE-446F-9C35-506E7C04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E94-906E-4FAF-A213-BAC406F6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13C39-4A1F-4FEE-98B5-065FAAD6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B8FA9-AB3F-40D0-AFB6-A9FCD85D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D78F3-BA87-40A3-9BB9-764B002C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C0BFB-0A6A-4D1A-8C48-01C5EC4A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58597-F100-4893-BE0F-7A928718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6D45C-0B43-4869-9A6B-B39344B2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E83E9-6744-471A-B5BD-8372ED2D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85536-290D-4DB3-9715-88F22587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DAB0B-7564-4B36-97D0-4827F0BC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A7492-5B40-4568-8BDB-2A82E862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FBFE-2566-47F5-9D73-41963865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7C1D2-1E9C-4376-A0FD-2C22D992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34BAE-423E-4BD7-B0F8-1C917CA3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01252-A848-44DE-A8EE-BC25A36F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BF7AF-4C97-4A20-974F-242A327A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20FE9-E241-4182-99D6-3EB4C42A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033D2-87E5-4157-95FB-25B24088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8715C-3997-42D1-BC5C-7DE6D227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EFC64-59D7-46DC-BC44-48DD8477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0A23A-C7DC-4E9C-AF96-4C96F4B1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80A6F-BF27-4E00-9B1D-3004E281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085E-571D-46C7-A0E9-FB627B14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DF5D1-6A37-4181-8799-A961D565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5A1B5-C991-478B-8266-D2F1AF42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05C2C-9826-4D8B-B752-D7C57957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144E7-9754-4DAC-8161-0824DB33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6ED39-98BD-4EA6-942E-43C3033A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8BAF4-2A9E-4FAC-9427-EB0711B8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C6DD4-9828-4376-A419-82DC0487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F2311-6EF6-41EA-8D1B-542D6C56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7B045-C0BA-477A-AD41-4F702B07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9E2DB-081B-466F-96A9-95243356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FF5B-EB6B-4AD2-A8DB-784E4711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66A23-753C-4402-BB9D-0963A3A6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D8499-4994-4EA2-8724-1264839B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49C67-FB98-4304-87F4-76F96099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2BE68-9E83-4077-9843-F24D5776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D8D86-6619-4E16-919E-B6F0E828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AD3F-1FB1-493D-A527-9E5E16B1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6F44-E656-47B0-BB8C-4EE57559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BB38-E350-4B54-8CB1-62BAC4E9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88DB-AC3D-47BD-90E6-B5049F65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0D45-8E63-4D2D-856D-64F30DA9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90A1-8141-4FB9-AA80-9055C656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E178-6856-4DB3-BF0E-75168C9D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F08B-4710-442D-B7E1-DFE9D17E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4250-1F56-41D4-9FFA-5551FBD5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873E-A2DC-468B-B9E3-7DE67650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6ADA-F27F-4A52-AD0A-AA471896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72340-E8E0-4CA9-ACBC-76F85D53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F06A0-5E69-4592-BB13-3E36DC96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9E5EB-BDFD-44A6-96FD-6F47B250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29761-1D86-4075-8254-7DB80713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4F66F-A743-44DD-9D55-9400A664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3BA7-A8A0-4124-BA9C-4177AC74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CFE21-6777-450C-840F-46465E82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9D19B-FF4A-49ED-84EE-4B13605C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C02CC-E407-49C0-8992-50340B28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1589E-4B7F-47DD-8210-E110BE5C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7D224-8A00-4D3E-A322-5CFC1DC4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C76D7-A0C4-448E-8F93-AEB8D415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7F136-7ADC-4DFC-ADED-92EECAF1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47805-2248-4314-ACAD-49F61D87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673F4-A8E7-46DC-8225-13524946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38EA8-AEBD-43DE-A740-DA464419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8E3-4B2B-44B1-BA11-035A7D7C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DBE44-9618-4A91-9450-3B3AB7DA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6110-3FDC-46FA-8AB3-DB2DFC30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BD47B-5CFD-40C2-8E03-3C68300A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6D1A3-B398-4E00-B796-054CD258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1FB29-03FC-481E-9289-FE10A19D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A95F0-D701-4E02-8806-33CB68FA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5509A-6D1F-4AF5-AADD-E1D834CF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C5C72-0FE2-43D1-9E3B-E45E2D5C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5BCEB-E30C-4672-B72B-29387B53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106B1-0A2C-4B5B-81D6-938E71A7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61D-4085-4654-AD7A-35B8F291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21FD6-1A6D-4CAD-B386-606CE125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A9DB3-D4CB-4AD6-B4FB-C637E084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F9E92-9710-48A0-B0A9-E2BC5509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1029E-EAFB-481D-8A7B-2428F692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5DD68-8A6C-456D-8EAE-998F0CD7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A7B4A-94E9-4BDE-8757-B2C53828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FDBCD-5968-4ABC-9AFE-15676019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842D3-C9EF-411D-8026-8648AD3F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7F3E8-02E2-48E1-9DF8-B1A594D3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7BD57-8E5E-422F-B098-11E96759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2B0-41C2-4C93-A129-F9E96B0F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2DB5A-4C68-4412-851B-318C21E7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D18C9-3CCA-4762-9FC8-99343CA3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7BC99-672F-470B-8725-461F353D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1B7A4-441B-4485-91F6-FA522293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62361-637E-4351-B9AF-93C9D27F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E26C9-F502-4419-A866-6712D07B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85090-4527-465A-A2BC-4FE549C4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66574-439F-420E-9784-F2E3700F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B640B-48F5-40BE-83B9-05630D9C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D4D27-78A0-4493-8DFC-6A0E7362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B14-376A-4EE3-B85D-4D1885CC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0D079-0019-4D68-9734-43F9B763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09A6D-865D-42EC-9985-A51A2786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80569-9F09-45EE-BD58-F8CF2D7C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15D49-5033-4C18-B1CD-A6CE91CF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69B32-3A42-4C91-9ABB-8792D8C8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BCDFE-6B3D-41C5-9516-58DC59B9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6DF69-529F-4D27-839A-93CD430F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E0DBB-1434-4987-A05A-9F2D52B9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21228-04DB-45D2-92CF-207193FE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AACD7-B60A-468B-AA8A-D5642CE7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E48-4DFA-4EB5-8D3A-30F113EB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9BB2B-E0BF-4066-99FB-0ABBDDC4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493E9-D694-45E0-A693-11E5B30A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81E6F-BB03-4163-AF44-F04D36BD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D8013-1D35-46FA-9FE5-4B13B87F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C2E1A-C0AB-4326-858E-7ADDF998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716EA-406C-4C3D-8E68-B5280410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BA6FA-5483-4B5B-925A-C0BAF287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A4AE5-1034-4A3F-863F-0374B1BA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C7D21-536F-4B22-BE8F-65E66F47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814AB-AAD3-43CB-A0A7-4F8B5B7E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96D-77FC-428C-AEE4-9E928311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BA6C1-E3E1-4844-AD7E-79BFEF32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A2392-45DE-4E8A-B527-D848A47E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E69C6-3522-470A-850B-44AC46BC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1274D-C801-4E42-98F7-678D2E27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773AA-B261-4231-B7CE-98786E4F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C04F4-85C6-401F-8D84-23AD0D9C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656F4-5C06-4215-A4A7-2E74E162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4F602-4A6E-4969-B5D3-C2575229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2FDA8-940C-4B0F-A49B-278289C8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4A0AD-B75E-4ADC-8E67-79D465FC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C806-15E3-4105-89B2-687BC43C887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2CB2-1716-4BAD-A9F4-AA0634178FC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02AA-FDF4-4C0C-90D0-4BE44CF80A9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20FD-2F0E-464A-828E-EA2A8B76203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3A05-CAF8-4B21-BCE4-FBDE99A71C7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75DB-6782-436C-B7A2-46D43219716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9CDB-4EEE-4C2D-93C6-825CECBA405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8E2F-A9EC-4572-9FB8-C18155551BC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D504-3784-458B-A60A-0AC1CCEE639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F332-889B-448D-8B2D-4C0921E938B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14E3-E82C-4D5E-B853-C9FF8C9C344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7929-2869-42F5-8DAF-AFC7EAA24A2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png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Рябининская СОШ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 слова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А строить слова (или образовывать) мы можем при помощи частей слова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66680" y="21016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и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028840" y="21016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142640" y="41911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лете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бег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ерх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секретны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028840" y="4267080"/>
            <a:ext cx="380988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Вертолё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Бра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ц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Горош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нк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93" name="Picture 13" descr="слово1"/>
          <p:cNvPicPr/>
          <p:nvPr/>
        </p:nvPicPr>
        <p:blipFill>
          <a:blip r:embed="rId1"/>
          <a:stretch/>
        </p:blipFill>
        <p:spPr>
          <a:xfrm>
            <a:off x="1523880" y="2971800"/>
            <a:ext cx="3733920" cy="1143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4" descr="слово"/>
          <p:cNvPicPr/>
          <p:nvPr/>
        </p:nvPicPr>
        <p:blipFill>
          <a:blip r:embed="rId2"/>
          <a:stretch/>
        </p:blipFill>
        <p:spPr>
          <a:xfrm>
            <a:off x="5940360" y="2997360"/>
            <a:ext cx="2046240" cy="13716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16"/>
          <p:cNvSpPr/>
          <p:nvPr/>
        </p:nvSpPr>
        <p:spPr>
          <a:xfrm>
            <a:off x="70102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8"/>
          <p:cNvSpPr/>
          <p:nvPr/>
        </p:nvSpPr>
        <p:spPr>
          <a:xfrm>
            <a:off x="67816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3888720" y="609588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д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снеж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3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400"/>
                            </p:stCondLst>
                            <p:childTnLst>
                              <p:par>
                                <p:cTn id="224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900"/>
                            </p:stCondLst>
                            <p:childTnLst>
                              <p:par>
                                <p:cTn id="22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3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8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819160" y="121896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Определите, сколько суффиксов и приставок в словах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99" name="Picture 12" descr="PE01931_"/>
          <p:cNvPicPr/>
          <p:nvPr/>
        </p:nvPicPr>
        <p:blipFill>
          <a:blip r:embed="rId1"/>
          <a:stretch/>
        </p:blipFill>
        <p:spPr>
          <a:xfrm>
            <a:off x="380880" y="762120"/>
            <a:ext cx="2360880" cy="1981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2590560" y="3124080"/>
            <a:ext cx="4724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АВЫДУМЫВАЛ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142640" y="388620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ПОДОСИНОВИ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СОРТИРОВЩИ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028840" y="44953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13272"/>
                </a:solidFill>
                <a:latin typeface="Times New Roman"/>
                <a:ea typeface="Times New Roman"/>
              </a:rPr>
              <a:t>ПРИНАЛЕЧ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ЕССОННИЦ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3" name="WordArt 10"/>
          <p:cNvSpPr txBox="1"/>
          <p:nvPr/>
        </p:nvSpPr>
        <p:spPr>
          <a:xfrm>
            <a:off x="3000240" y="500040"/>
            <a:ext cx="5229360" cy="785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ингвистическая задач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04" name="Text Box 13"/>
          <p:cNvSpPr/>
          <p:nvPr/>
        </p:nvSpPr>
        <p:spPr>
          <a:xfrm rot="20518200">
            <a:off x="317520" y="2607840"/>
            <a:ext cx="32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о быстре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5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57480" y="285840"/>
            <a:ext cx="83581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сами создать слова.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14200" y="1600200"/>
            <a:ext cx="41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ём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же,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одруг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игруш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же,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чита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642920" y="1599840"/>
            <a:ext cx="428652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оренно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со слов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ётчи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ая же, как в глаголе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ерешё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инаковый с глаголом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лыша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08" name="Picture 9" descr="BD00028_"/>
          <p:cNvPicPr/>
          <p:nvPr/>
        </p:nvPicPr>
        <p:blipFill>
          <a:blip r:embed="rId1"/>
          <a:stretch/>
        </p:blipFill>
        <p:spPr>
          <a:xfrm>
            <a:off x="1523880" y="1214280"/>
            <a:ext cx="1295640" cy="128592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0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за сло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5928480" y="570564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за сло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7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75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325"/>
                            </p:stCondLst>
                            <p:childTnLst>
                              <p:par>
                                <p:cTn id="29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7825"/>
                            </p:stCondLst>
                            <p:childTnLst>
                              <p:par>
                                <p:cTn id="29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325"/>
                            </p:stCondLst>
                            <p:childTnLst>
                              <p:par>
                                <p:cTn id="30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2825"/>
                            </p:stCondLst>
                            <p:childTnLst>
                              <p:par>
                                <p:cTn id="30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325"/>
                            </p:stCondLst>
                            <p:childTnLst>
                              <p:par>
                                <p:cTn id="309" nodeType="afterEffect" fill="hold" presetClass="entr" presetID="12" presetSubtype="2">
                                  <p:stCondLst>
                                    <p:cond delay="8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1" dur="75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Запиши   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 10 слов, используя суффиксы   -еньк-, -щик-, -ышк-, -ищ- и всевозможные  приставк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словообразовательное дерево с корнем -снег-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3" name="Picture 6" descr="SO01871_"/>
          <p:cNvPicPr/>
          <p:nvPr/>
        </p:nvPicPr>
        <p:blipFill>
          <a:blip r:embed="rId1"/>
          <a:stretch/>
        </p:blipFill>
        <p:spPr>
          <a:xfrm>
            <a:off x="457200" y="4267080"/>
            <a:ext cx="8686800" cy="23180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7"/>
          <p:cNvSpPr/>
          <p:nvPr/>
        </p:nvSpPr>
        <p:spPr>
          <a:xfrm>
            <a:off x="21178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WordArt 9" descr=""/>
          <p:cNvPicPr/>
          <p:nvPr/>
        </p:nvPicPr>
        <p:blipFill>
          <a:blip r:embed="rId2"/>
          <a:stretch/>
        </p:blipFill>
        <p:spPr>
          <a:xfrm>
            <a:off x="158760" y="4406760"/>
            <a:ext cx="8004240" cy="1652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9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4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900"/>
                            </p:stCondLst>
                            <p:childTnLst>
                              <p:par>
                                <p:cTn id="331" nodeType="after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571320" y="3141360"/>
            <a:ext cx="3500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водный уро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7-9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класс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643280" y="1071360"/>
            <a:ext cx="45007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й душе слово живёт, горит, светится, как звезда на небе… Слово остаётся и летит из поколения в поколение, как свет угасшей звезды во вселенной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Пришвин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0" name="Picture 2" descr="C:\Documents and Settings\Admin\Рабочий стол\kosmos-4.jpg"/>
          <p:cNvPicPr/>
          <p:nvPr/>
        </p:nvPicPr>
        <p:blipFill>
          <a:blip r:embed="rId1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6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4996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Сколько слов в русском языке?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914400" y="2428560"/>
            <a:ext cx="374976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к они устроены и растут?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933800" y="2428560"/>
            <a:ext cx="374976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Кто придумывает слова?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45" name="Picture 12" descr="BD00028_"/>
          <p:cNvPicPr/>
          <p:nvPr/>
        </p:nvPicPr>
        <p:blipFill>
          <a:blip r:embed="rId1"/>
          <a:stretch/>
        </p:blipFill>
        <p:spPr>
          <a:xfrm>
            <a:off x="762120" y="2171880"/>
            <a:ext cx="3809880" cy="373212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952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те новые назва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х предметов: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математика,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физкультура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география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труд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7" name="WordArt 6" descr=""/>
          <p:cNvPicPr/>
          <p:nvPr/>
        </p:nvPicPr>
        <p:blipFill>
          <a:blip r:embed="rId2"/>
          <a:stretch/>
        </p:blipFill>
        <p:spPr>
          <a:xfrm>
            <a:off x="274680" y="493560"/>
            <a:ext cx="8594640" cy="119556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5257800" y="14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овые, необычные слова часто в своей речи создают маленькие дети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ай рубанок, я хочу порубанить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Вышагни отсюд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Бумага откнопилась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Я хохотала, хохотала,нахохотала целую комнату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Я возьму нитку и буду нанитывать бус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1" name="AutoShape 7"/>
          <p:cNvSpPr/>
          <p:nvPr/>
        </p:nvSpPr>
        <p:spPr>
          <a:xfrm>
            <a:off x="2057400" y="2666880"/>
            <a:ext cx="1828800" cy="1524240"/>
          </a:xfrm>
          <a:prstGeom prst="smileyFace">
            <a:avLst>
              <a:gd name="adj" fmla="val 9282"/>
            </a:avLst>
          </a:prstGeom>
          <a:solidFill>
            <a:srgbClr val="9b2d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3260880" y="2362320"/>
            <a:ext cx="146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WordArt 9"/>
          <p:cNvSpPr txBox="1"/>
          <p:nvPr/>
        </p:nvSpPr>
        <p:spPr>
          <a:xfrm>
            <a:off x="1066680" y="2362320"/>
            <a:ext cx="388620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408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Улыбнёмс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1219320" y="4267080"/>
            <a:ext cx="35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отрывки из книги К.Чуковского «От двух до пя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2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7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1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42976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Вы поняли, как образуются «детские слова» 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160" y="2437920"/>
            <a:ext cx="43434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еведите с «детского» на русский язык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7" name="Picture 13" descr="PE02043_"/>
          <p:cNvPicPr/>
          <p:nvPr/>
        </p:nvPicPr>
        <p:blipFill>
          <a:blip r:embed="rId1"/>
          <a:stretch/>
        </p:blipFill>
        <p:spPr>
          <a:xfrm>
            <a:off x="5643720" y="2895480"/>
            <a:ext cx="2503440" cy="36576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7"/>
          <p:cNvSpPr/>
          <p:nvPr/>
        </p:nvSpPr>
        <p:spPr>
          <a:xfrm>
            <a:off x="5562720" y="178596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добию, по схожести с другими сл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838080" y="3200400"/>
            <a:ext cx="38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тки,  стриганок, ползук, копатки, пальчатки, людь, одуван, мазелин, колоток, улицион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все слова придумываются. Слова ещё можно «строить», «выращивать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2133720" y="457200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      А       К    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9" descr="SO01862_"/>
          <p:cNvPicPr/>
          <p:nvPr/>
        </p:nvPicPr>
        <p:blipFill>
          <a:blip r:embed="rId1"/>
          <a:stretch/>
        </p:blipFill>
        <p:spPr>
          <a:xfrm>
            <a:off x="357120" y="4143240"/>
            <a:ext cx="8534520" cy="15242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SO01871_"/>
          <p:cNvPicPr/>
          <p:nvPr/>
        </p:nvPicPr>
        <p:blipFill>
          <a:blip r:embed="rId2"/>
          <a:stretch/>
        </p:blipFill>
        <p:spPr>
          <a:xfrm>
            <a:off x="826920" y="428760"/>
            <a:ext cx="78487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75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214200" y="856800"/>
            <a:ext cx="4662720" cy="53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вырастают как обычные деревья – из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рня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р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главная часть слова, она даёт жизнь многим словам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брать и записать все слова, выросшие из одного корня, то получится целое </a:t>
            </a:r>
            <a:r>
              <a:rPr b="1" lang="ru-RU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словообразовательное дерево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5" name="Picture 7" descr="NA01441_"/>
          <p:cNvPicPr/>
          <p:nvPr/>
        </p:nvPicPr>
        <p:blipFill>
          <a:blip r:embed="rId1"/>
          <a:stretch/>
        </p:blipFill>
        <p:spPr>
          <a:xfrm>
            <a:off x="5105520" y="1295280"/>
            <a:ext cx="3646440" cy="5073840"/>
          </a:xfrm>
          <a:prstGeom prst="rect">
            <a:avLst/>
          </a:prstGeom>
          <a:ln w="0">
            <a:noFill/>
          </a:ln>
        </p:spPr>
      </p:pic>
      <p:sp>
        <p:nvSpPr>
          <p:cNvPr id="566" name="Freeform 11"/>
          <p:cNvSpPr/>
          <p:nvPr/>
        </p:nvSpPr>
        <p:spPr>
          <a:xfrm>
            <a:off x="5334120" y="6172200"/>
            <a:ext cx="1455480" cy="635040"/>
          </a:xfrm>
          <a:custGeom>
            <a:avLst/>
            <a:gdLst>
              <a:gd name="textAreaLeft" fmla="*/ 0 w 1455480"/>
              <a:gd name="textAreaRight" fmla="*/ 1455840 w 145548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917" h="400">
                <a:moveTo>
                  <a:pt x="917" y="0"/>
                </a:moveTo>
                <a:cubicBezTo>
                  <a:pt x="913" y="20"/>
                  <a:pt x="917" y="43"/>
                  <a:pt x="906" y="59"/>
                </a:cubicBezTo>
                <a:cubicBezTo>
                  <a:pt x="871" y="110"/>
                  <a:pt x="635" y="117"/>
                  <a:pt x="623" y="118"/>
                </a:cubicBezTo>
                <a:cubicBezTo>
                  <a:pt x="569" y="153"/>
                  <a:pt x="539" y="202"/>
                  <a:pt x="494" y="247"/>
                </a:cubicBezTo>
                <a:cubicBezTo>
                  <a:pt x="486" y="271"/>
                  <a:pt x="479" y="294"/>
                  <a:pt x="471" y="318"/>
                </a:cubicBezTo>
                <a:cubicBezTo>
                  <a:pt x="466" y="334"/>
                  <a:pt x="153" y="353"/>
                  <a:pt x="153" y="353"/>
                </a:cubicBezTo>
                <a:cubicBezTo>
                  <a:pt x="98" y="362"/>
                  <a:pt x="41" y="361"/>
                  <a:pt x="0" y="40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12"/>
          <p:cNvSpPr/>
          <p:nvPr/>
        </p:nvSpPr>
        <p:spPr>
          <a:xfrm>
            <a:off x="6773760" y="6326280"/>
            <a:ext cx="952560" cy="541080"/>
          </a:xfrm>
          <a:custGeom>
            <a:avLst/>
            <a:gdLst>
              <a:gd name="textAreaLeft" fmla="*/ 0 w 952560"/>
              <a:gd name="textAreaRight" fmla="*/ 952920 w 952560"/>
              <a:gd name="textAreaTop" fmla="*/ 0 h 541080"/>
              <a:gd name="textAreaBottom" fmla="*/ 541080 h 541080"/>
            </a:gdLst>
            <a:ahLst/>
            <a:rect l="textAreaLeft" t="textAreaTop" r="textAreaRight" b="textAreaBottom"/>
            <a:pathLst>
              <a:path w="600" h="341">
                <a:moveTo>
                  <a:pt x="0" y="0"/>
                </a:moveTo>
                <a:cubicBezTo>
                  <a:pt x="25" y="72"/>
                  <a:pt x="97" y="113"/>
                  <a:pt x="165" y="141"/>
                </a:cubicBezTo>
                <a:cubicBezTo>
                  <a:pt x="188" y="150"/>
                  <a:pt x="235" y="165"/>
                  <a:pt x="235" y="165"/>
                </a:cubicBezTo>
                <a:cubicBezTo>
                  <a:pt x="255" y="163"/>
                  <a:pt x="386" y="137"/>
                  <a:pt x="435" y="165"/>
                </a:cubicBezTo>
                <a:cubicBezTo>
                  <a:pt x="485" y="194"/>
                  <a:pt x="501" y="280"/>
                  <a:pt x="541" y="306"/>
                </a:cubicBezTo>
                <a:cubicBezTo>
                  <a:pt x="583" y="334"/>
                  <a:pt x="564" y="323"/>
                  <a:pt x="600" y="341"/>
                </a:cubicBezTo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3"/>
          <p:cNvSpPr/>
          <p:nvPr/>
        </p:nvSpPr>
        <p:spPr>
          <a:xfrm>
            <a:off x="7445520" y="6288120"/>
            <a:ext cx="1120680" cy="523800"/>
          </a:xfrm>
          <a:custGeom>
            <a:avLst/>
            <a:gdLst>
              <a:gd name="textAreaLeft" fmla="*/ 0 w 1120680"/>
              <a:gd name="textAreaRight" fmla="*/ 1121040 w 112068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706" h="330">
                <a:moveTo>
                  <a:pt x="0" y="0"/>
                </a:moveTo>
                <a:cubicBezTo>
                  <a:pt x="25" y="37"/>
                  <a:pt x="29" y="95"/>
                  <a:pt x="47" y="118"/>
                </a:cubicBezTo>
                <a:cubicBezTo>
                  <a:pt x="79" y="158"/>
                  <a:pt x="149" y="148"/>
                  <a:pt x="188" y="153"/>
                </a:cubicBezTo>
                <a:cubicBezTo>
                  <a:pt x="248" y="161"/>
                  <a:pt x="254" y="164"/>
                  <a:pt x="306" y="177"/>
                </a:cubicBezTo>
                <a:cubicBezTo>
                  <a:pt x="344" y="215"/>
                  <a:pt x="408" y="313"/>
                  <a:pt x="470" y="318"/>
                </a:cubicBezTo>
                <a:cubicBezTo>
                  <a:pt x="548" y="325"/>
                  <a:pt x="706" y="330"/>
                  <a:pt x="706" y="330"/>
                </a:cubicBezTo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4"/>
          <p:cNvSpPr/>
          <p:nvPr/>
        </p:nvSpPr>
        <p:spPr>
          <a:xfrm>
            <a:off x="6643800" y="6176880"/>
            <a:ext cx="1231920" cy="74628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776" h="470">
                <a:moveTo>
                  <a:pt x="258" y="59"/>
                </a:moveTo>
                <a:cubicBezTo>
                  <a:pt x="278" y="118"/>
                  <a:pt x="297" y="94"/>
                  <a:pt x="317" y="153"/>
                </a:cubicBezTo>
                <a:cubicBezTo>
                  <a:pt x="316" y="162"/>
                  <a:pt x="317" y="264"/>
                  <a:pt x="282" y="282"/>
                </a:cubicBezTo>
                <a:cubicBezTo>
                  <a:pt x="239" y="304"/>
                  <a:pt x="131" y="321"/>
                  <a:pt x="82" y="329"/>
                </a:cubicBezTo>
                <a:cubicBezTo>
                  <a:pt x="2" y="383"/>
                  <a:pt x="21" y="403"/>
                  <a:pt x="0" y="341"/>
                </a:cubicBezTo>
                <a:cubicBezTo>
                  <a:pt x="4" y="329"/>
                  <a:pt x="1" y="312"/>
                  <a:pt x="12" y="306"/>
                </a:cubicBezTo>
                <a:cubicBezTo>
                  <a:pt x="56" y="281"/>
                  <a:pt x="147" y="271"/>
                  <a:pt x="200" y="259"/>
                </a:cubicBezTo>
                <a:cubicBezTo>
                  <a:pt x="224" y="253"/>
                  <a:pt x="270" y="235"/>
                  <a:pt x="270" y="235"/>
                </a:cubicBezTo>
                <a:cubicBezTo>
                  <a:pt x="258" y="141"/>
                  <a:pt x="269" y="131"/>
                  <a:pt x="188" y="106"/>
                </a:cubicBezTo>
                <a:cubicBezTo>
                  <a:pt x="180" y="94"/>
                  <a:pt x="170" y="83"/>
                  <a:pt x="164" y="70"/>
                </a:cubicBezTo>
                <a:cubicBezTo>
                  <a:pt x="144" y="30"/>
                  <a:pt x="160" y="0"/>
                  <a:pt x="141" y="94"/>
                </a:cubicBezTo>
                <a:cubicBezTo>
                  <a:pt x="149" y="110"/>
                  <a:pt x="149" y="133"/>
                  <a:pt x="164" y="141"/>
                </a:cubicBezTo>
                <a:cubicBezTo>
                  <a:pt x="217" y="170"/>
                  <a:pt x="283" y="169"/>
                  <a:pt x="341" y="188"/>
                </a:cubicBezTo>
                <a:cubicBezTo>
                  <a:pt x="437" y="253"/>
                  <a:pt x="383" y="231"/>
                  <a:pt x="505" y="247"/>
                </a:cubicBezTo>
                <a:cubicBezTo>
                  <a:pt x="529" y="255"/>
                  <a:pt x="563" y="249"/>
                  <a:pt x="576" y="270"/>
                </a:cubicBezTo>
                <a:cubicBezTo>
                  <a:pt x="614" y="330"/>
                  <a:pt x="587" y="298"/>
                  <a:pt x="670" y="353"/>
                </a:cubicBezTo>
                <a:cubicBezTo>
                  <a:pt x="682" y="361"/>
                  <a:pt x="693" y="368"/>
                  <a:pt x="705" y="376"/>
                </a:cubicBezTo>
                <a:cubicBezTo>
                  <a:pt x="717" y="384"/>
                  <a:pt x="740" y="400"/>
                  <a:pt x="740" y="400"/>
                </a:cubicBezTo>
                <a:cubicBezTo>
                  <a:pt x="744" y="412"/>
                  <a:pt x="746" y="424"/>
                  <a:pt x="752" y="435"/>
                </a:cubicBezTo>
                <a:cubicBezTo>
                  <a:pt x="758" y="448"/>
                  <a:pt x="776" y="470"/>
                  <a:pt x="776" y="47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16"/>
          <p:cNvSpPr/>
          <p:nvPr/>
        </p:nvSpPr>
        <p:spPr>
          <a:xfrm>
            <a:off x="7165800" y="6307200"/>
            <a:ext cx="1436760" cy="63180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905" h="398">
                <a:moveTo>
                  <a:pt x="0" y="0"/>
                </a:moveTo>
                <a:cubicBezTo>
                  <a:pt x="62" y="42"/>
                  <a:pt x="124" y="77"/>
                  <a:pt x="176" y="130"/>
                </a:cubicBezTo>
                <a:cubicBezTo>
                  <a:pt x="220" y="257"/>
                  <a:pt x="396" y="248"/>
                  <a:pt x="505" y="271"/>
                </a:cubicBezTo>
                <a:cubicBezTo>
                  <a:pt x="543" y="295"/>
                  <a:pt x="571" y="332"/>
                  <a:pt x="611" y="353"/>
                </a:cubicBezTo>
                <a:cubicBezTo>
                  <a:pt x="664" y="380"/>
                  <a:pt x="733" y="382"/>
                  <a:pt x="788" y="388"/>
                </a:cubicBezTo>
                <a:cubicBezTo>
                  <a:pt x="893" y="375"/>
                  <a:pt x="860" y="398"/>
                  <a:pt x="905" y="353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7"/>
          <p:cNvSpPr/>
          <p:nvPr/>
        </p:nvSpPr>
        <p:spPr>
          <a:xfrm>
            <a:off x="6345360" y="6513480"/>
            <a:ext cx="204840" cy="290520"/>
          </a:xfrm>
          <a:custGeom>
            <a:avLst/>
            <a:gdLst>
              <a:gd name="textAreaLeft" fmla="*/ 0 w 204840"/>
              <a:gd name="textAreaRight" fmla="*/ 205200 w 20484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129" h="183">
                <a:moveTo>
                  <a:pt x="0" y="0"/>
                </a:moveTo>
                <a:cubicBezTo>
                  <a:pt x="70" y="46"/>
                  <a:pt x="59" y="106"/>
                  <a:pt x="129" y="152"/>
                </a:cubicBezTo>
                <a:cubicBezTo>
                  <a:pt x="117" y="160"/>
                  <a:pt x="106" y="183"/>
                  <a:pt x="94" y="176"/>
                </a:cubicBezTo>
                <a:cubicBezTo>
                  <a:pt x="32" y="140"/>
                  <a:pt x="45" y="45"/>
                  <a:pt x="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8"/>
          <p:cNvSpPr/>
          <p:nvPr/>
        </p:nvSpPr>
        <p:spPr>
          <a:xfrm>
            <a:off x="7464600" y="6251400"/>
            <a:ext cx="984240" cy="298800"/>
          </a:xfrm>
          <a:custGeom>
            <a:avLst/>
            <a:gdLst>
              <a:gd name="textAreaLeft" fmla="*/ 0 w 984240"/>
              <a:gd name="textAreaRight" fmla="*/ 984600 w 984240"/>
              <a:gd name="textAreaTop" fmla="*/ 0 h 298800"/>
              <a:gd name="textAreaBottom" fmla="*/ 299160 h 298800"/>
            </a:gdLst>
            <a:ahLst/>
            <a:rect l="textAreaLeft" t="textAreaTop" r="textAreaRight" b="textAreaBottom"/>
            <a:pathLst>
              <a:path w="620" h="188">
                <a:moveTo>
                  <a:pt x="0" y="0"/>
                </a:moveTo>
                <a:cubicBezTo>
                  <a:pt x="83" y="62"/>
                  <a:pt x="110" y="88"/>
                  <a:pt x="200" y="118"/>
                </a:cubicBezTo>
                <a:cubicBezTo>
                  <a:pt x="256" y="137"/>
                  <a:pt x="317" y="125"/>
                  <a:pt x="376" y="129"/>
                </a:cubicBezTo>
                <a:cubicBezTo>
                  <a:pt x="493" y="169"/>
                  <a:pt x="620" y="133"/>
                  <a:pt x="294" y="153"/>
                </a:cubicBezTo>
                <a:cubicBezTo>
                  <a:pt x="263" y="161"/>
                  <a:pt x="231" y="168"/>
                  <a:pt x="200" y="176"/>
                </a:cubicBezTo>
                <a:cubicBezTo>
                  <a:pt x="184" y="180"/>
                  <a:pt x="153" y="188"/>
                  <a:pt x="153" y="188"/>
                </a:cubicBezTo>
                <a:cubicBezTo>
                  <a:pt x="84" y="176"/>
                  <a:pt x="35" y="176"/>
                  <a:pt x="35" y="94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9"/>
          <p:cNvSpPr/>
          <p:nvPr/>
        </p:nvSpPr>
        <p:spPr>
          <a:xfrm>
            <a:off x="6518160" y="6213600"/>
            <a:ext cx="317520" cy="504720"/>
          </a:xfrm>
          <a:custGeom>
            <a:avLst/>
            <a:gdLst>
              <a:gd name="textAreaLeft" fmla="*/ 0 w 317520"/>
              <a:gd name="textAreaRight" fmla="*/ 317880 w 31752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200" h="318">
                <a:moveTo>
                  <a:pt x="149" y="130"/>
                </a:moveTo>
                <a:cubicBezTo>
                  <a:pt x="103" y="84"/>
                  <a:pt x="93" y="62"/>
                  <a:pt x="32" y="83"/>
                </a:cubicBezTo>
                <a:cubicBezTo>
                  <a:pt x="24" y="95"/>
                  <a:pt x="5" y="104"/>
                  <a:pt x="8" y="118"/>
                </a:cubicBezTo>
                <a:cubicBezTo>
                  <a:pt x="17" y="165"/>
                  <a:pt x="125" y="130"/>
                  <a:pt x="126" y="130"/>
                </a:cubicBezTo>
                <a:cubicBezTo>
                  <a:pt x="134" y="114"/>
                  <a:pt x="143" y="99"/>
                  <a:pt x="149" y="83"/>
                </a:cubicBezTo>
                <a:cubicBezTo>
                  <a:pt x="155" y="68"/>
                  <a:pt x="161" y="20"/>
                  <a:pt x="161" y="36"/>
                </a:cubicBezTo>
                <a:cubicBezTo>
                  <a:pt x="161" y="124"/>
                  <a:pt x="98" y="169"/>
                  <a:pt x="32" y="212"/>
                </a:cubicBezTo>
                <a:cubicBezTo>
                  <a:pt x="4" y="295"/>
                  <a:pt x="0" y="259"/>
                  <a:pt x="20" y="318"/>
                </a:cubicBezTo>
                <a:cubicBezTo>
                  <a:pt x="50" y="278"/>
                  <a:pt x="64" y="241"/>
                  <a:pt x="91" y="200"/>
                </a:cubicBezTo>
                <a:cubicBezTo>
                  <a:pt x="115" y="124"/>
                  <a:pt x="81" y="198"/>
                  <a:pt x="138" y="153"/>
                </a:cubicBezTo>
                <a:cubicBezTo>
                  <a:pt x="145" y="147"/>
                  <a:pt x="194" y="56"/>
                  <a:pt x="196" y="47"/>
                </a:cubicBezTo>
                <a:cubicBezTo>
                  <a:pt x="200" y="32"/>
                  <a:pt x="196" y="16"/>
                  <a:pt x="196" y="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0"/>
          <p:cNvSpPr/>
          <p:nvPr/>
        </p:nvSpPr>
        <p:spPr>
          <a:xfrm>
            <a:off x="8205480" y="62388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Calibri"/>
              </a:rPr>
              <a:t>-во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5168520" y="4384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7467480" y="3774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подво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3"/>
          <p:cNvSpPr/>
          <p:nvPr/>
        </p:nvSpPr>
        <p:spPr>
          <a:xfrm>
            <a:off x="7772400" y="1565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я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4"/>
          <p:cNvSpPr/>
          <p:nvPr/>
        </p:nvSpPr>
        <p:spPr>
          <a:xfrm rot="19350600">
            <a:off x="4682880" y="181908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о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6842520" y="8794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6"/>
          <p:cNvSpPr/>
          <p:nvPr/>
        </p:nvSpPr>
        <p:spPr>
          <a:xfrm rot="2040600">
            <a:off x="8444160" y="24825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27"/>
          <p:cNvSpPr/>
          <p:nvPr/>
        </p:nvSpPr>
        <p:spPr>
          <a:xfrm>
            <a:off x="6008760" y="6381720"/>
            <a:ext cx="522360" cy="458640"/>
          </a:xfrm>
          <a:custGeom>
            <a:avLst/>
            <a:gdLst>
              <a:gd name="textAreaLeft" fmla="*/ 0 w 522360"/>
              <a:gd name="textAreaRight" fmla="*/ 522720 w 52236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329" h="289">
                <a:moveTo>
                  <a:pt x="329" y="0"/>
                </a:moveTo>
                <a:cubicBezTo>
                  <a:pt x="232" y="12"/>
                  <a:pt x="227" y="2"/>
                  <a:pt x="200" y="83"/>
                </a:cubicBezTo>
                <a:cubicBezTo>
                  <a:pt x="196" y="110"/>
                  <a:pt x="193" y="138"/>
                  <a:pt x="188" y="165"/>
                </a:cubicBezTo>
                <a:cubicBezTo>
                  <a:pt x="165" y="289"/>
                  <a:pt x="134" y="259"/>
                  <a:pt x="0" y="271"/>
                </a:cubicBezTo>
                <a:cubicBezTo>
                  <a:pt x="49" y="237"/>
                  <a:pt x="73" y="190"/>
                  <a:pt x="106" y="141"/>
                </a:cubicBezTo>
                <a:cubicBezTo>
                  <a:pt x="119" y="121"/>
                  <a:pt x="153" y="134"/>
                  <a:pt x="176" y="130"/>
                </a:cubicBezTo>
                <a:cubicBezTo>
                  <a:pt x="185" y="102"/>
                  <a:pt x="205" y="65"/>
                  <a:pt x="176" y="36"/>
                </a:cubicBezTo>
                <a:cubicBezTo>
                  <a:pt x="167" y="27"/>
                  <a:pt x="153" y="43"/>
                  <a:pt x="141" y="47"/>
                </a:cubicBezTo>
                <a:cubicBezTo>
                  <a:pt x="145" y="86"/>
                  <a:pt x="138" y="129"/>
                  <a:pt x="153" y="165"/>
                </a:cubicBezTo>
                <a:cubicBezTo>
                  <a:pt x="158" y="178"/>
                  <a:pt x="171" y="143"/>
                  <a:pt x="176" y="130"/>
                </a:cubicBezTo>
                <a:cubicBezTo>
                  <a:pt x="187" y="100"/>
                  <a:pt x="183" y="63"/>
                  <a:pt x="200" y="36"/>
                </a:cubicBezTo>
                <a:cubicBezTo>
                  <a:pt x="208" y="24"/>
                  <a:pt x="223" y="0"/>
                  <a:pt x="223" y="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7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1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4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а одном ли дереве выросли слова?   </a:t>
            </a:r>
            <a:br>
              <a:rPr sz="2900"/>
            </a:br>
            <a:r>
              <a:rPr b="0" i="1" lang="ru-RU" sz="29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айди ошибку. Обоснуй свой ответ</a:t>
            </a:r>
            <a:r>
              <a:rPr b="0" i="1" lang="ru-RU" sz="2900" spc="-1" strike="noStrike">
                <a:solidFill>
                  <a:srgbClr val="696464"/>
                </a:solidFill>
                <a:latin typeface="Calibri"/>
              </a:rPr>
              <a:t>.</a:t>
            </a:r>
            <a:r>
              <a:rPr b="0" i="1" lang="ru-RU" sz="36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83" name="Picture 10" descr="NA01441_"/>
          <p:cNvPicPr/>
          <p:nvPr/>
        </p:nvPicPr>
        <p:blipFill>
          <a:blip r:embed="rId1"/>
          <a:stretch/>
        </p:blipFill>
        <p:spPr>
          <a:xfrm>
            <a:off x="2225520" y="3316320"/>
            <a:ext cx="1492560" cy="16858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1051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тьс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и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льщ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и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к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л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льн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о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5" name="WordArt 8"/>
          <p:cNvSpPr txBox="1"/>
          <p:nvPr/>
        </p:nvSpPr>
        <p:spPr>
          <a:xfrm>
            <a:off x="2209680" y="914400"/>
            <a:ext cx="5334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ВЫПОЛНИ ЗАД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1447920" y="61722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1981080" y="6338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к у п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5T19:22:48Z</dcterms:modified>
  <cp:revision>14</cp:revision>
  <dc:subject/>
  <dc:title>Слайд 1</dc:title>
</cp:coreProperties>
</file>