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image13.png" ContentType="image/png"/>
  <Override PartName="/ppt/media/image6.wmf" ContentType="image/x-wmf"/>
  <Override PartName="/ppt/media/image11.png" ContentType="image/png"/>
  <Override PartName="/ppt/media/type.wav" ContentType="audio/x-wav"/>
  <Override PartName="/ppt/media/image12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carbrake.wav" ContentType="audio/x-wav"/>
  <Override PartName="/ppt/media/chimes.wav" ContentType="audio/x-wav"/>
  <Override PartName="/ppt/media/ricochet.wav" ContentType="audio/x-wav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369-864A-46F0-A11F-82A73F07D7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FD22-C119-45AC-B1FF-C4C56C5619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66A5-E152-4358-86B9-7FAA2200D0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и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530-539D-4DFB-A0F3-34B71090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7D8-A95A-4A4D-B29F-D76DC1E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F5FB2-354B-45C7-93ED-A27DECF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0F745-B7D8-4116-9D78-C9B623A1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8C238-95E6-4AD2-8789-10B5E9FD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7E74F-17CE-4B29-9A4F-B37A472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B59A3-C236-4FBF-9D3A-D1636588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E9C05-8A50-40F5-9933-A970DBC0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74D35-1D6D-49BC-AB6B-BDF2BDE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CBFB4-5726-442D-9643-183623F3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9C33B-02C2-417E-9985-08CF7D77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E5103-5304-4765-AF50-17914FBC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A4E-42C7-4289-B235-EA299005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8C6B7-2966-4D55-AE35-F08C0523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36C7E-4479-4CC3-99D5-19139731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64B36-D8DB-4ACC-A813-0DE2F470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27968-8EBC-409A-BA70-1DC3C6A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F21F7-F216-4D61-A233-39055888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E67F8-2A34-4D9B-AA5C-A30B76F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56D34-3BDF-4FF7-B1F8-406F97CB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E0C0A-6021-47D8-BDBB-4EDDBA3F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B21D4-0C8A-41EA-861D-2811643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7F1D5-459A-4A21-8FF0-6BA8335A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D59-091C-4898-9AF0-A0E41077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6D4A2-1C01-42AB-9FDD-F24C5EEE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C7FE3-E3E4-4F64-A127-3A290724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E82E0-928C-4010-9BFC-F679D2EF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9733-ABF1-4AB0-A48F-E37C108F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79957-8BEE-44EE-BB2F-4E2420F1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35EC8-BC45-4054-AABC-48BDD5C0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ECBA2-3F9F-4AC3-8DF4-CC7B7871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682DA-6178-4CA5-8291-9A9FA40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A4B63-0247-49B6-B14E-3F7BFC1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09B0D-D829-4556-AA98-3767E40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D0E6-28F3-4359-9E3C-ABF5CF37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6AC1D-259F-4887-993D-2D0C415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253C1-654B-46F8-9AAC-6EA9D6F3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39345-2940-4593-B99C-D5D8EBD1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25375-3219-43EE-8F72-A33A98CA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AB825-BA7F-4B1F-B036-643AF743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3FEF7-A7CE-497B-85E1-D780008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374DC-DCAD-4826-B78D-DD51CD94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4F7AA-EE80-4F80-8E48-E0E111C5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0FA4E-393B-491B-9C4E-3C189C7C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3F647-227E-469E-85A5-1DC4F04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A13-7896-4F51-86F1-7753D5A7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39AF8-5C93-4E8A-ACEF-6A03308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138B6-4A34-4378-91E2-01917D1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7E626-6271-4E8E-BDD5-177290F1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B97F8-586E-4BE5-B036-19EF76AA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3CA4F-D253-4689-A24A-F7C1EF70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D959-2CD8-46C4-9492-46E66EE5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CC30-839A-45FB-AABB-6DD6135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8191-7B79-4A11-AA42-51852533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F018-64F5-449D-9548-F5DFDE4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2617-5C3C-42E4-BF0B-E1B1356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A05-0F5B-4872-8E0B-21BD3901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06FC-CB92-4310-A8D0-E6D4641A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84EB-FC42-46FB-B7DD-BA2D23A0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C3E6-EC99-4093-B8D7-137DAF98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7068-A8C6-4E42-9905-278E4CC5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78E1-1C08-43B2-994B-51EE785B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0DFF-EAA0-4BC7-9DD4-8FE5EEAF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59D0-25D4-4BC7-82A0-EAC97E96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D7A2-30E2-4D18-A804-C43F21B3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C507-6706-451E-8468-C0BBD6CB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421B-31B4-4EAB-BC57-04A3F8C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EAA-26AB-4723-BE25-E2C61C6A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8C5A-6FA8-497F-AB58-E792F93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C8D20-3344-4CDF-A550-7F1DA6B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8849-07A0-4097-8FA0-1BFC3EB4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529B-8A23-4286-B85B-D0926F4B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AD86-96C5-4C72-9056-E07F5D1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3B61-7C44-4B91-BF01-F4316963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B17D-F020-4469-8CF4-058BE270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6A82-FF89-4989-AD92-249D504C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8D67-7EAA-4F20-B490-648A0EFA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D52A-F8EF-4CB0-94F6-F7B1C7AA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D6C-AAB5-44CD-992F-34131E0E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D6FE-E847-4609-B662-4B9C4A1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7D77-006D-4B46-80CB-F67AF293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667D-B119-4D25-B332-741A1F2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4EF8-BDC9-4418-9C0B-C43FDB78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62F4-0F94-4CFB-8CFC-BDFB77B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F3A7-2240-4140-B505-5AF39EE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29D9-EB59-4BFE-AC31-0A5773F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C2C8-84FA-41FB-8E80-FCA17DA2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7A5A-30CD-46D1-8840-6D8659CA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50526-9C8B-4942-8E71-14F92F14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BC8-D924-4548-8CC6-18223D8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8A767-7BDB-468E-819E-655ADBB0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2F19-1D20-4706-92AC-C6016C23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1867-0B62-492E-B3D9-20EE1F3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840C1-566B-476F-AD50-787D311B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CCB8-0AF0-4EBC-9C2A-F3B89241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99DB-164B-4D7F-B7C8-378DACE5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2F0B3-C479-473E-BF2F-DF804B7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BDC9-B259-412E-A820-43DF3FE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86FA-15EE-4759-8D84-A791A03D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2C1FF-96BB-40F3-BA29-6A95029B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EDC-411D-456F-8865-30035694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20C7-8B66-4310-8BC4-8A7E006B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02700-0B12-409A-862A-A7902336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3652-202A-41BF-8D90-2E5C6B02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9E6F-D8CD-4387-A6BD-26C19F47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E1A1-2A44-4F6D-97FD-7CD3D176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398D-F223-4723-AD03-3F970899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7328-F903-4687-8E46-8114CE1D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F5E9-59F9-4485-AE5A-F09536A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354E-8E52-4476-B618-89988671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52D79-F260-4814-B0B2-C99D5C9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876-62A9-476B-8CD4-C2A9340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525E6-469B-41BF-908B-7CAF3A3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FAC1-0AC3-4C2A-A029-314201F9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344EF-2E83-4813-B5F7-F3A7F2BA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B485F-1EA3-48F6-A6F4-79348611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5741-93AE-49AA-A7B5-CDFB391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BCC2-E917-4513-9B27-99EF814C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0E9C-918F-4021-A391-E00F308C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4839-C20F-45A5-880E-1CC5C544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24F06-DAD2-4191-A7BC-BEFCF3A0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B61F-C976-4130-A5FB-547A594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934-C9D5-416E-B1DD-5A25F96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D9A2-01CE-4B4E-B857-3AF11F8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D8561-4FBB-43B2-940C-103E34B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2368-B7F2-48A1-83F0-F3B5D95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266C-CE2B-44DB-9771-AB34AFE7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5A889-85AD-43C6-ABAC-0BB3E1AC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D9EA0-15BE-449C-AECA-E15CDA06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096C-DA07-4205-BACA-329DC1E3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9F7F6-9C9D-44E4-8A04-241B714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DF1D-E595-4DF8-9B1F-CB300C01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495E-667D-4D8C-87EB-9C670957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F2F-3D6D-4E22-9619-A8F5BA49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E2FC3-A896-4718-AFA0-B6A09B8E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9277-FB26-4F6A-8E7B-8445707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34E4B-6F98-4624-847B-CA49F44D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B8A6-B87C-41EA-ACDD-79806EE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2CF42-C62A-4034-A701-DCB576AC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23E8E-770B-4196-BBF8-44BE1CF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8839-85A7-4A15-81F8-71144C13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28EC6-DA48-43BA-9B71-A3F3F123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166CB-A782-4A54-8AC9-FEECAC30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2CC8C-D913-4440-B9C4-D0FC0795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58B-220B-4CEE-B2BC-7AB04E6ADE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B84-D1E9-4A0C-AD9F-CF1AAE8321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EE2D-63DF-40B6-B5BC-DE93549844E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4109-8FE6-4E29-A26C-33C088D9363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EFDF-1A0B-4111-8148-1797BA9623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AD17-1247-4D95-9820-2E42B96FD0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26CE-3012-43EA-A499-297A0CDFC6C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222A-E875-4D22-8FD0-DF616B0601B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4D19-D8C6-4B5B-AF4D-9B2EA8761D8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E89-BEFC-4E73-B3F8-2B65EE42886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67DD-607B-4162-878B-FC6E1A1751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31C-0B37-44F2-B45F-9CF0B12033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ябининская СОШ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слова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 строить слова (или образовывать) мы можем при помощи частей слова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66680" y="21016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42640" y="4191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ерх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екретны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028840" y="4267080"/>
            <a:ext cx="38098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ертолё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ра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Горош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к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3" name="Picture 13" descr="слово1"/>
          <p:cNvPicPr/>
          <p:nvPr/>
        </p:nvPicPr>
        <p:blipFill>
          <a:blip r:embed="rId1"/>
          <a:stretch/>
        </p:blipFill>
        <p:spPr>
          <a:xfrm>
            <a:off x="1523880" y="297180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4" descr="слово"/>
          <p:cNvPicPr/>
          <p:nvPr/>
        </p:nvPicPr>
        <p:blipFill>
          <a:blip r:embed="rId2"/>
          <a:stretch/>
        </p:blipFill>
        <p:spPr>
          <a:xfrm>
            <a:off x="5940360" y="2997360"/>
            <a:ext cx="2046240" cy="13716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70102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3888720" y="60958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неж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19160" y="121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пределите, сколько суффиксов и приставок в словах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99" name="Picture 12" descr="PE01931_"/>
          <p:cNvPicPr/>
          <p:nvPr/>
        </p:nvPicPr>
        <p:blipFill>
          <a:blip r:embed="rId1"/>
          <a:stretch/>
        </p:blipFill>
        <p:spPr>
          <a:xfrm>
            <a:off x="380880" y="762120"/>
            <a:ext cx="2360880" cy="1981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590560" y="3124080"/>
            <a:ext cx="4724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АВЫДУМЫВ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14264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СОРТИРОВЩ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028840" y="4495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3272"/>
                </a:solidFill>
                <a:latin typeface="Times New Roman"/>
                <a:ea typeface="Times New Roman"/>
              </a:rPr>
              <a:t>ПРИНАЛЕЧ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СОНН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WordArt 10"/>
          <p:cNvSpPr txBox="1"/>
          <p:nvPr/>
        </p:nvSpPr>
        <p:spPr>
          <a:xfrm>
            <a:off x="3000240" y="500040"/>
            <a:ext cx="522936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нгвистическая задач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 rot="20518200">
            <a:off x="317520" y="260784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быстр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748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ами создать слова.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1420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друг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игруш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чи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42920" y="1599840"/>
            <a:ext cx="42865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ор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со слов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ётчи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ая же, как в глаголе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шё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ый с глаголом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ыш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8" name="Picture 9" descr="BD00028_"/>
          <p:cNvPicPr/>
          <p:nvPr/>
        </p:nvPicPr>
        <p:blipFill>
          <a:blip r:embed="rId1"/>
          <a:stretch/>
        </p:blipFill>
        <p:spPr>
          <a:xfrm>
            <a:off x="1523880" y="1214280"/>
            <a:ext cx="1295640" cy="12859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5928480" y="5705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7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325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825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325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825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325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Запиши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10 слов, используя суффиксы   -еньк-, -щик-, -ышк-, -ищ- и всевозможные  пристав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образовательное дерево с корнем -снег-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3" name="Picture 6" descr="SO01871_"/>
          <p:cNvPicPr/>
          <p:nvPr/>
        </p:nvPicPr>
        <p:blipFill>
          <a:blip r:embed="rId1"/>
          <a:stretch/>
        </p:blipFill>
        <p:spPr>
          <a:xfrm>
            <a:off x="457200" y="4267080"/>
            <a:ext cx="8686800" cy="23180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21178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WordArt 9" descr=""/>
          <p:cNvPicPr/>
          <p:nvPr/>
        </p:nvPicPr>
        <p:blipFill>
          <a:blip r:embed="rId2"/>
          <a:stretch/>
        </p:blipFill>
        <p:spPr>
          <a:xfrm>
            <a:off x="158760" y="4406760"/>
            <a:ext cx="800424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4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71320" y="3141360"/>
            <a:ext cx="3500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водный ур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7-9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лас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3280" y="1071360"/>
            <a:ext cx="45007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душе слово живёт, горит, светится, как звезда на небе… Слово остаётся и летит из поколения в поколение, как свет угасшей звезды во вселенной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2" descr="C:\Documents and Settings\Admin\Рабочий стол\kosmos-4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Сколько слов в русском языке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они устроены и растут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338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то придумывает слова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45" name="Picture 12" descr="BD00028_"/>
          <p:cNvPicPr/>
          <p:nvPr/>
        </p:nvPicPr>
        <p:blipFill>
          <a:blip r:embed="rId1"/>
          <a:stretch/>
        </p:blipFill>
        <p:spPr>
          <a:xfrm>
            <a:off x="7621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новые наз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математика,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физкультур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географи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тру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7" name="WordArt 6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8594640" cy="1195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5257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овые, необычные слова часто в своей речи создают маленькие дет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й рубанок, я хочу поруба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ышагни отсю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Бумага откнопилас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Я хохотала, хохотала,нахохотала целую комнату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Я возьму нитку и буду нанитывать бу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057400" y="2666880"/>
            <a:ext cx="1828800" cy="1524240"/>
          </a:xfrm>
          <a:prstGeom prst="smileyFace">
            <a:avLst>
              <a:gd name="adj" fmla="val 928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60880" y="236232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1066680" y="2362320"/>
            <a:ext cx="3886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0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Улыбнёмс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4267080"/>
            <a:ext cx="35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отрывки из книги К.Чуковского «От двух до пя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ы поняли, как образуются «детские слова» 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4343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ведите с «детского» на русский язы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Picture 13" descr="PE02043_"/>
          <p:cNvPicPr/>
          <p:nvPr/>
        </p:nvPicPr>
        <p:blipFill>
          <a:blip r:embed="rId1"/>
          <a:stretch/>
        </p:blipFill>
        <p:spPr>
          <a:xfrm>
            <a:off x="5643720" y="2895480"/>
            <a:ext cx="2503440" cy="3657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5562720" y="17859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обию, по схожести с другими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838080" y="320040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ки,  стриганок, ползук, копатки, пальчатки, людь, одуван, мазелин, колоток, у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 слова придумываются. Слова ещё можно «строить», «выращивать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3720" y="4572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      А       К   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SO01862_"/>
          <p:cNvPicPr/>
          <p:nvPr/>
        </p:nvPicPr>
        <p:blipFill>
          <a:blip r:embed="rId1"/>
          <a:stretch/>
        </p:blipFill>
        <p:spPr>
          <a:xfrm>
            <a:off x="357120" y="4143240"/>
            <a:ext cx="8534520" cy="152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SO01871_"/>
          <p:cNvPicPr/>
          <p:nvPr/>
        </p:nvPicPr>
        <p:blipFill>
          <a:blip r:embed="rId2"/>
          <a:stretch/>
        </p:blipFill>
        <p:spPr>
          <a:xfrm>
            <a:off x="826920" y="428760"/>
            <a:ext cx="78487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4200" y="856800"/>
            <a:ext cx="46627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ырастают как обычные деревья –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н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лавная часть слова, она даёт жизнь многим слов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брать и записать все слова, выросшие из одного корня, то получится целое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ловообразовательное дерев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Picture 7" descr="NA01441_"/>
          <p:cNvPicPr/>
          <p:nvPr/>
        </p:nvPicPr>
        <p:blipFill>
          <a:blip r:embed="rId1"/>
          <a:stretch/>
        </p:blipFill>
        <p:spPr>
          <a:xfrm>
            <a:off x="5105520" y="1295280"/>
            <a:ext cx="3646440" cy="5073840"/>
          </a:xfrm>
          <a:prstGeom prst="rect">
            <a:avLst/>
          </a:prstGeom>
          <a:ln w="0">
            <a:noFill/>
          </a:ln>
        </p:spPr>
      </p:pic>
      <p:sp>
        <p:nvSpPr>
          <p:cNvPr id="566" name="Freeform 11"/>
          <p:cNvSpPr/>
          <p:nvPr/>
        </p:nvSpPr>
        <p:spPr>
          <a:xfrm>
            <a:off x="5334120" y="6172200"/>
            <a:ext cx="1455480" cy="63504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917" h="400">
                <a:moveTo>
                  <a:pt x="917" y="0"/>
                </a:moveTo>
                <a:cubicBezTo>
                  <a:pt x="913" y="20"/>
                  <a:pt x="917" y="43"/>
                  <a:pt x="906" y="59"/>
                </a:cubicBezTo>
                <a:cubicBezTo>
                  <a:pt x="871" y="110"/>
                  <a:pt x="635" y="117"/>
                  <a:pt x="623" y="118"/>
                </a:cubicBezTo>
                <a:cubicBezTo>
                  <a:pt x="569" y="153"/>
                  <a:pt x="539" y="202"/>
                  <a:pt x="494" y="247"/>
                </a:cubicBezTo>
                <a:cubicBezTo>
                  <a:pt x="486" y="271"/>
                  <a:pt x="479" y="294"/>
                  <a:pt x="471" y="318"/>
                </a:cubicBezTo>
                <a:cubicBezTo>
                  <a:pt x="466" y="334"/>
                  <a:pt x="153" y="353"/>
                  <a:pt x="153" y="353"/>
                </a:cubicBezTo>
                <a:cubicBezTo>
                  <a:pt x="98" y="362"/>
                  <a:pt x="41" y="361"/>
                  <a:pt x="0" y="40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"/>
          <p:cNvSpPr/>
          <p:nvPr/>
        </p:nvSpPr>
        <p:spPr>
          <a:xfrm>
            <a:off x="6773760" y="6326280"/>
            <a:ext cx="952560" cy="541080"/>
          </a:xfrm>
          <a:custGeom>
            <a:avLst/>
            <a:gdLst>
              <a:gd name="textAreaLeft" fmla="*/ 0 w 952560"/>
              <a:gd name="textAreaRight" fmla="*/ 952920 w 9525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00" h="341">
                <a:moveTo>
                  <a:pt x="0" y="0"/>
                </a:moveTo>
                <a:cubicBezTo>
                  <a:pt x="25" y="72"/>
                  <a:pt x="97" y="113"/>
                  <a:pt x="165" y="141"/>
                </a:cubicBezTo>
                <a:cubicBezTo>
                  <a:pt x="188" y="150"/>
                  <a:pt x="235" y="165"/>
                  <a:pt x="235" y="165"/>
                </a:cubicBezTo>
                <a:cubicBezTo>
                  <a:pt x="255" y="163"/>
                  <a:pt x="386" y="137"/>
                  <a:pt x="435" y="165"/>
                </a:cubicBezTo>
                <a:cubicBezTo>
                  <a:pt x="485" y="194"/>
                  <a:pt x="501" y="280"/>
                  <a:pt x="541" y="306"/>
                </a:cubicBezTo>
                <a:cubicBezTo>
                  <a:pt x="583" y="334"/>
                  <a:pt x="564" y="323"/>
                  <a:pt x="600" y="341"/>
                </a:cubicBez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3"/>
          <p:cNvSpPr/>
          <p:nvPr/>
        </p:nvSpPr>
        <p:spPr>
          <a:xfrm>
            <a:off x="7445520" y="6288120"/>
            <a:ext cx="1120680" cy="5238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06" h="330">
                <a:moveTo>
                  <a:pt x="0" y="0"/>
                </a:moveTo>
                <a:cubicBezTo>
                  <a:pt x="25" y="37"/>
                  <a:pt x="29" y="95"/>
                  <a:pt x="47" y="118"/>
                </a:cubicBezTo>
                <a:cubicBezTo>
                  <a:pt x="79" y="158"/>
                  <a:pt x="149" y="148"/>
                  <a:pt x="188" y="153"/>
                </a:cubicBezTo>
                <a:cubicBezTo>
                  <a:pt x="248" y="161"/>
                  <a:pt x="254" y="164"/>
                  <a:pt x="306" y="177"/>
                </a:cubicBezTo>
                <a:cubicBezTo>
                  <a:pt x="344" y="215"/>
                  <a:pt x="408" y="313"/>
                  <a:pt x="470" y="318"/>
                </a:cubicBezTo>
                <a:cubicBezTo>
                  <a:pt x="548" y="325"/>
                  <a:pt x="706" y="330"/>
                  <a:pt x="706" y="330"/>
                </a:cubicBezTo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4"/>
          <p:cNvSpPr/>
          <p:nvPr/>
        </p:nvSpPr>
        <p:spPr>
          <a:xfrm>
            <a:off x="6643800" y="6176880"/>
            <a:ext cx="1231920" cy="7462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76" h="470">
                <a:moveTo>
                  <a:pt x="258" y="59"/>
                </a:moveTo>
                <a:cubicBezTo>
                  <a:pt x="278" y="118"/>
                  <a:pt x="297" y="94"/>
                  <a:pt x="317" y="153"/>
                </a:cubicBezTo>
                <a:cubicBezTo>
                  <a:pt x="316" y="162"/>
                  <a:pt x="317" y="264"/>
                  <a:pt x="282" y="282"/>
                </a:cubicBezTo>
                <a:cubicBezTo>
                  <a:pt x="239" y="304"/>
                  <a:pt x="131" y="321"/>
                  <a:pt x="82" y="329"/>
                </a:cubicBezTo>
                <a:cubicBezTo>
                  <a:pt x="2" y="383"/>
                  <a:pt x="21" y="403"/>
                  <a:pt x="0" y="341"/>
                </a:cubicBezTo>
                <a:cubicBezTo>
                  <a:pt x="4" y="329"/>
                  <a:pt x="1" y="312"/>
                  <a:pt x="12" y="306"/>
                </a:cubicBezTo>
                <a:cubicBezTo>
                  <a:pt x="56" y="281"/>
                  <a:pt x="147" y="271"/>
                  <a:pt x="200" y="259"/>
                </a:cubicBezTo>
                <a:cubicBezTo>
                  <a:pt x="224" y="253"/>
                  <a:pt x="270" y="235"/>
                  <a:pt x="270" y="235"/>
                </a:cubicBezTo>
                <a:cubicBezTo>
                  <a:pt x="258" y="141"/>
                  <a:pt x="269" y="131"/>
                  <a:pt x="188" y="106"/>
                </a:cubicBezTo>
                <a:cubicBezTo>
                  <a:pt x="180" y="94"/>
                  <a:pt x="170" y="83"/>
                  <a:pt x="164" y="70"/>
                </a:cubicBezTo>
                <a:cubicBezTo>
                  <a:pt x="144" y="30"/>
                  <a:pt x="160" y="0"/>
                  <a:pt x="141" y="94"/>
                </a:cubicBezTo>
                <a:cubicBezTo>
                  <a:pt x="149" y="110"/>
                  <a:pt x="149" y="133"/>
                  <a:pt x="164" y="141"/>
                </a:cubicBezTo>
                <a:cubicBezTo>
                  <a:pt x="217" y="170"/>
                  <a:pt x="283" y="169"/>
                  <a:pt x="341" y="188"/>
                </a:cubicBezTo>
                <a:cubicBezTo>
                  <a:pt x="437" y="253"/>
                  <a:pt x="383" y="231"/>
                  <a:pt x="505" y="247"/>
                </a:cubicBezTo>
                <a:cubicBezTo>
                  <a:pt x="529" y="255"/>
                  <a:pt x="563" y="249"/>
                  <a:pt x="576" y="270"/>
                </a:cubicBezTo>
                <a:cubicBezTo>
                  <a:pt x="614" y="330"/>
                  <a:pt x="587" y="298"/>
                  <a:pt x="670" y="353"/>
                </a:cubicBezTo>
                <a:cubicBezTo>
                  <a:pt x="682" y="361"/>
                  <a:pt x="693" y="368"/>
                  <a:pt x="705" y="376"/>
                </a:cubicBezTo>
                <a:cubicBezTo>
                  <a:pt x="717" y="384"/>
                  <a:pt x="740" y="400"/>
                  <a:pt x="740" y="400"/>
                </a:cubicBezTo>
                <a:cubicBezTo>
                  <a:pt x="744" y="412"/>
                  <a:pt x="746" y="424"/>
                  <a:pt x="752" y="435"/>
                </a:cubicBezTo>
                <a:cubicBezTo>
                  <a:pt x="758" y="448"/>
                  <a:pt x="776" y="470"/>
                  <a:pt x="776" y="47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7165800" y="6307200"/>
            <a:ext cx="1436760" cy="63180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905" h="398">
                <a:moveTo>
                  <a:pt x="0" y="0"/>
                </a:moveTo>
                <a:cubicBezTo>
                  <a:pt x="62" y="42"/>
                  <a:pt x="124" y="77"/>
                  <a:pt x="176" y="130"/>
                </a:cubicBezTo>
                <a:cubicBezTo>
                  <a:pt x="220" y="257"/>
                  <a:pt x="396" y="248"/>
                  <a:pt x="505" y="271"/>
                </a:cubicBezTo>
                <a:cubicBezTo>
                  <a:pt x="543" y="295"/>
                  <a:pt x="571" y="332"/>
                  <a:pt x="611" y="353"/>
                </a:cubicBezTo>
                <a:cubicBezTo>
                  <a:pt x="664" y="380"/>
                  <a:pt x="733" y="382"/>
                  <a:pt x="788" y="388"/>
                </a:cubicBezTo>
                <a:cubicBezTo>
                  <a:pt x="893" y="375"/>
                  <a:pt x="860" y="398"/>
                  <a:pt x="905" y="353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6345360" y="6513480"/>
            <a:ext cx="204840" cy="290520"/>
          </a:xfrm>
          <a:custGeom>
            <a:avLst/>
            <a:gdLst>
              <a:gd name="textAreaLeft" fmla="*/ 0 w 204840"/>
              <a:gd name="textAreaRight" fmla="*/ 205200 w 204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29" h="183">
                <a:moveTo>
                  <a:pt x="0" y="0"/>
                </a:moveTo>
                <a:cubicBezTo>
                  <a:pt x="70" y="46"/>
                  <a:pt x="59" y="106"/>
                  <a:pt x="129" y="152"/>
                </a:cubicBezTo>
                <a:cubicBezTo>
                  <a:pt x="117" y="160"/>
                  <a:pt x="106" y="183"/>
                  <a:pt x="94" y="176"/>
                </a:cubicBezTo>
                <a:cubicBezTo>
                  <a:pt x="32" y="140"/>
                  <a:pt x="45" y="45"/>
                  <a:pt x="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7464600" y="6251400"/>
            <a:ext cx="984240" cy="298800"/>
          </a:xfrm>
          <a:custGeom>
            <a:avLst/>
            <a:gdLst>
              <a:gd name="textAreaLeft" fmla="*/ 0 w 984240"/>
              <a:gd name="textAreaRight" fmla="*/ 984600 w 98424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620" h="188">
                <a:moveTo>
                  <a:pt x="0" y="0"/>
                </a:moveTo>
                <a:cubicBezTo>
                  <a:pt x="83" y="62"/>
                  <a:pt x="110" y="88"/>
                  <a:pt x="200" y="118"/>
                </a:cubicBezTo>
                <a:cubicBezTo>
                  <a:pt x="256" y="137"/>
                  <a:pt x="317" y="125"/>
                  <a:pt x="376" y="129"/>
                </a:cubicBezTo>
                <a:cubicBezTo>
                  <a:pt x="493" y="169"/>
                  <a:pt x="620" y="133"/>
                  <a:pt x="294" y="153"/>
                </a:cubicBezTo>
                <a:cubicBezTo>
                  <a:pt x="263" y="161"/>
                  <a:pt x="231" y="168"/>
                  <a:pt x="200" y="176"/>
                </a:cubicBezTo>
                <a:cubicBezTo>
                  <a:pt x="184" y="180"/>
                  <a:pt x="153" y="188"/>
                  <a:pt x="153" y="188"/>
                </a:cubicBezTo>
                <a:cubicBezTo>
                  <a:pt x="84" y="176"/>
                  <a:pt x="35" y="176"/>
                  <a:pt x="35" y="94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9"/>
          <p:cNvSpPr/>
          <p:nvPr/>
        </p:nvSpPr>
        <p:spPr>
          <a:xfrm>
            <a:off x="6518160" y="6213600"/>
            <a:ext cx="317520" cy="504720"/>
          </a:xfrm>
          <a:custGeom>
            <a:avLst/>
            <a:gdLst>
              <a:gd name="textAreaLeft" fmla="*/ 0 w 317520"/>
              <a:gd name="textAreaRight" fmla="*/ 317880 w 317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200" h="318">
                <a:moveTo>
                  <a:pt x="149" y="130"/>
                </a:moveTo>
                <a:cubicBezTo>
                  <a:pt x="103" y="84"/>
                  <a:pt x="93" y="62"/>
                  <a:pt x="32" y="83"/>
                </a:cubicBezTo>
                <a:cubicBezTo>
                  <a:pt x="24" y="95"/>
                  <a:pt x="5" y="104"/>
                  <a:pt x="8" y="118"/>
                </a:cubicBezTo>
                <a:cubicBezTo>
                  <a:pt x="17" y="165"/>
                  <a:pt x="125" y="130"/>
                  <a:pt x="126" y="130"/>
                </a:cubicBezTo>
                <a:cubicBezTo>
                  <a:pt x="134" y="114"/>
                  <a:pt x="143" y="99"/>
                  <a:pt x="149" y="83"/>
                </a:cubicBezTo>
                <a:cubicBezTo>
                  <a:pt x="155" y="68"/>
                  <a:pt x="161" y="20"/>
                  <a:pt x="161" y="36"/>
                </a:cubicBezTo>
                <a:cubicBezTo>
                  <a:pt x="161" y="124"/>
                  <a:pt x="98" y="169"/>
                  <a:pt x="32" y="212"/>
                </a:cubicBezTo>
                <a:cubicBezTo>
                  <a:pt x="4" y="295"/>
                  <a:pt x="0" y="259"/>
                  <a:pt x="20" y="318"/>
                </a:cubicBezTo>
                <a:cubicBezTo>
                  <a:pt x="50" y="278"/>
                  <a:pt x="64" y="241"/>
                  <a:pt x="91" y="200"/>
                </a:cubicBezTo>
                <a:cubicBezTo>
                  <a:pt x="115" y="124"/>
                  <a:pt x="81" y="198"/>
                  <a:pt x="138" y="153"/>
                </a:cubicBezTo>
                <a:cubicBezTo>
                  <a:pt x="145" y="147"/>
                  <a:pt x="194" y="56"/>
                  <a:pt x="196" y="47"/>
                </a:cubicBezTo>
                <a:cubicBezTo>
                  <a:pt x="200" y="32"/>
                  <a:pt x="196" y="16"/>
                  <a:pt x="196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205480" y="6238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Calibri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5168520" y="438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467480" y="3774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од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7772400" y="156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 rot="19350600">
            <a:off x="4682880" y="181908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842520" y="879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 rot="2040600">
            <a:off x="8444160" y="2482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7"/>
          <p:cNvSpPr/>
          <p:nvPr/>
        </p:nvSpPr>
        <p:spPr>
          <a:xfrm>
            <a:off x="6008760" y="6381720"/>
            <a:ext cx="522360" cy="458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9" h="289">
                <a:moveTo>
                  <a:pt x="329" y="0"/>
                </a:moveTo>
                <a:cubicBezTo>
                  <a:pt x="232" y="12"/>
                  <a:pt x="227" y="2"/>
                  <a:pt x="200" y="83"/>
                </a:cubicBezTo>
                <a:cubicBezTo>
                  <a:pt x="196" y="110"/>
                  <a:pt x="193" y="138"/>
                  <a:pt x="188" y="165"/>
                </a:cubicBezTo>
                <a:cubicBezTo>
                  <a:pt x="165" y="289"/>
                  <a:pt x="134" y="259"/>
                  <a:pt x="0" y="271"/>
                </a:cubicBezTo>
                <a:cubicBezTo>
                  <a:pt x="49" y="237"/>
                  <a:pt x="73" y="190"/>
                  <a:pt x="106" y="141"/>
                </a:cubicBezTo>
                <a:cubicBezTo>
                  <a:pt x="119" y="121"/>
                  <a:pt x="153" y="134"/>
                  <a:pt x="176" y="130"/>
                </a:cubicBezTo>
                <a:cubicBezTo>
                  <a:pt x="185" y="102"/>
                  <a:pt x="205" y="65"/>
                  <a:pt x="176" y="36"/>
                </a:cubicBezTo>
                <a:cubicBezTo>
                  <a:pt x="167" y="27"/>
                  <a:pt x="153" y="43"/>
                  <a:pt x="141" y="47"/>
                </a:cubicBezTo>
                <a:cubicBezTo>
                  <a:pt x="145" y="86"/>
                  <a:pt x="138" y="129"/>
                  <a:pt x="153" y="165"/>
                </a:cubicBezTo>
                <a:cubicBezTo>
                  <a:pt x="158" y="178"/>
                  <a:pt x="171" y="143"/>
                  <a:pt x="176" y="130"/>
                </a:cubicBezTo>
                <a:cubicBezTo>
                  <a:pt x="187" y="100"/>
                  <a:pt x="183" y="63"/>
                  <a:pt x="200" y="36"/>
                </a:cubicBezTo>
                <a:cubicBezTo>
                  <a:pt x="208" y="24"/>
                  <a:pt x="223" y="0"/>
                  <a:pt x="223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 одном ли дереве выросли слова?   </a:t>
            </a:r>
            <a:br>
              <a:rPr sz="2900"/>
            </a:b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йди ошибку. Обоснуй свой ответ</a:t>
            </a:r>
            <a:r>
              <a:rPr b="0" i="1" lang="ru-RU" sz="2900" spc="-1" strike="noStrike">
                <a:solidFill>
                  <a:srgbClr val="696464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83" name="Picture 10" descr="NA01441_"/>
          <p:cNvPicPr/>
          <p:nvPr/>
        </p:nvPicPr>
        <p:blipFill>
          <a:blip r:embed="rId1"/>
          <a:stretch/>
        </p:blipFill>
        <p:spPr>
          <a:xfrm>
            <a:off x="2225520" y="3316320"/>
            <a:ext cx="1492560" cy="16858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щ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н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2209680" y="91440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ВЫПОЛНИ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1447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981080" y="6338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к у 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5T19:22:48Z</dcterms:modified>
  <cp:revision>14</cp:revision>
  <dc:subject/>
  <dc:title>Слайд 1</dc:title>
</cp:coreProperties>
</file>