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8.wmf" ContentType="image/x-wmf"/>
  <Override PartName="/ppt/media/cashreg.wav" ContentType="audio/x-wav"/>
  <Override PartName="/ppt/media/image13.png" ContentType="image/png"/>
  <Override PartName="/ppt/media/image6.wmf" ContentType="image/x-wmf"/>
  <Override PartName="/ppt/media/image11.png" ContentType="image/png"/>
  <Override PartName="/ppt/media/type.wav" ContentType="audio/x-wav"/>
  <Override PartName="/ppt/media/image12.wmf" ContentType="image/x-wmf"/>
  <Override PartName="/ppt/media/image7.wmf" ContentType="image/x-wmf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carbrake.wav" ContentType="audio/x-wav"/>
  <Override PartName="/ppt/media/chimes.wav" ContentType="audio/x-wav"/>
  <Override PartName="/ppt/media/ricochet.wav" ContentType="audio/x-wav"/>
  <Override PartName="/ppt/media/image3.jpeg" ContentType="image/jpeg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19F5-49D2-4509-AACC-EA3BDD1421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A634-5BCD-44F2-9A66-072857620B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9CAB-2685-458A-81E6-48FE287F73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стить заголо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66B9-A85C-45F6-BE1B-5381A0F1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994-DE0F-469A-9B11-0249A8FF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5DFC6-224D-4174-96B1-EE91174E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202DF-987C-459B-992B-DDE6F64E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AE9D4-6AF1-446E-B853-8FD2A95E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2D7F2-3938-4786-8C23-7AB411B2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2BA85-8470-4188-BEBB-CC99A5F2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74472-D83C-4032-B9A5-379CD604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C555E-EDD4-4BDB-BBC6-9582F7F8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23737-60EB-4934-A1C8-45E188E5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834FA-5E4F-4B14-9F2B-1DBE5A1D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2202E-9AD3-41EA-87E2-E5DCBEAC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DEA-9F53-45C7-A648-9D680197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02499-A4C7-40A4-B090-807D4AAD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00ABA-3B9E-4333-8835-2DB485A0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C87D9-E34F-4388-9AE6-ACF68E4E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6ECED-4B02-4407-96B4-82559C47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2A3EB-A24C-4E45-8525-B12FF44A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63ED3-EB44-463D-A122-0F19D957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EC22E-C145-4EBA-860A-1C9B92BF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3CAC6-E2F7-4F84-A90D-383B2BEC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DD9B4-272B-4E7B-9FEC-001D48A9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4FA90-0759-42D4-B098-E0A17C9F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7B6-FEED-4FF2-98EC-3E2543BA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DC27C-9437-4F34-835A-04ACE453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F29FE-F1FA-4E05-95A2-9A1951A3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B78BF-82B9-44DE-B55C-87F4C96E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BDA13-0718-43B9-B790-B5F6D5ED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305D6-5F97-4F03-B83B-F85BE7E6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38FCC-84BB-4458-98BC-4B1D6AF6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4CEE2-88EF-41D8-B86E-519A980D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04B32-E0B3-4C9C-B304-26C8B25C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DC2DC-5DB9-4B2C-8924-BC600FB6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65144-5444-4D95-BF8B-6D7FD543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ADF5-7DF6-4046-9B88-90AD1425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4C47B-0515-405F-B662-4CD539E9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B65F6-4C56-4DC8-A075-83C9F26A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41CAF-B2EA-40BF-BD3A-8C621974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D90D1-A4D8-4121-9F7E-7B392364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DBE11-2711-433E-8FF4-B8EE5881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72483-4F33-4643-878C-B5EDED94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7A1A5-F3FF-47F1-9FFF-0C6D5316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0DE6E-3D9E-4985-817E-7D3E6BBB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A0A30-D1FE-4B2F-AAEF-C08360D1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9A0B3-BC00-4BA0-9572-C260AAF9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3B8D-1637-44C3-8D4D-6497F8B9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DA657-8C42-47B1-9D9D-092EB1AE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FAB2D-F60A-4F58-9D0F-5157B161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858C7-A6D6-4E3B-9C39-245C91BB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CE484-CE27-4139-9593-78BAA011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F1FA3-DDC8-4597-9C19-C1F2A2FC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7C88-A5A8-4F1D-A2EF-CEFA8488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1170-70EB-454C-8031-1B3EA998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816D-7BFB-4142-BF09-4D9BECDC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9C41-180D-4E84-A69B-40295C54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B7C1-1932-48A7-B82C-50EAA5F4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C9E3-E86C-4CD1-B26A-E19A729D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82C5-6961-4F5C-80A3-F0078553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F9E2-BE00-4A22-A730-7FF2F344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C4B1-B23E-4B4E-B98E-47668945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E674-D598-4A3D-A3E2-34945883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FC8A-EB9D-4B78-B36B-F6287FBE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04CF5-C7AD-4CB1-A158-108D5096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0D786-76E5-4514-823D-20A7CBFB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E9979-9DD8-4FF8-8B63-3BD4734F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B6CED-D55A-4199-B894-00DD19F0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F8635-DDDC-4158-9BEA-03AB0222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6015-7E35-4264-AC37-122317A1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9F28E-29C6-4E54-8F35-E2448CB7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6D829-52E9-4EDF-B52A-7A589F06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A87BF-2929-4B72-8178-22020035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8E638-EB12-49A1-B1A1-20AAF634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56952-1DCE-4DA7-AEF8-F7415714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B0434-70AE-4400-A12D-D8216F8F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CBBE3-EF1F-4CAC-BCA0-54692A95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F85D0-5383-43C7-A71E-5B0FE457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EF5AB-D5E8-472D-8EC7-8946FA03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83B68-ABF4-4F95-99C3-7ED5EDD5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21F2-0869-49DA-A3CC-2D79653B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CCB58-F0FB-420E-8519-E2D36592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03E51-C796-49CE-9879-18107D2B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AF0B9-CF31-4103-A309-606D0420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B88BF-2113-4003-B571-B91B769F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07D45-85EE-4D1A-A366-F076025F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82E6B-2925-487C-89D1-061D5D5A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7F58E-255F-4578-965C-5F71FFE6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6EBD1-3158-4562-A93D-BBEE15B9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B7FC2-4FD8-491D-A1F5-88305DAB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6C9AF-948A-41AC-A1DE-463705CA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8CFC-16A2-4486-A54C-0368A506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414BC-1487-48A0-BD2C-8396F6BC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36C1E-1324-4216-A870-A52F4461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544CC-50E1-4F8C-8637-2D26E224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0E739-7DAF-4E99-97A4-C876F734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DAD7E-7C29-44A8-B6EF-797206EA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B2FB1-EB8A-43D4-844E-13DDAA19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45203-BA2B-49DA-8E56-4198B9AE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4EA36-7DC5-4C01-B20C-A2214424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62967-8125-4A61-8C87-C51646E9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2BE77-2512-4C7E-B6DD-864D23C5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265E-4B9B-4101-AEE0-EF9F35AA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23AE8-3333-45A9-87B5-0B7A4430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ED8A0-9BAB-4B35-BD66-907C91DB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D8178-C122-459B-AF0B-A3DA0C30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62547-B2AA-42A8-91F5-E3AB5A08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CF17B-941C-487B-BC96-3A829656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66547-9016-4C4E-A057-84AEFCBA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372BA-675C-4A8C-B83D-668B5922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181B7-14D3-4168-9EC6-684551B9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CC974-CE70-4D22-A58E-4040CC19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37234-50BC-421D-B778-F24089A9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6EF-A99C-4554-8581-0DA2E7A8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BDE43-D7E4-44AE-BBC5-6CF85EC2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667FA-9A8A-44CB-9ADF-FC236BBB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3CE95-1A7E-42F7-B685-96EF05A3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59837-9568-4A1C-B0F2-83123D74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8D809-16A3-464F-B74F-20D95462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0EFA9-0822-46F5-BE47-36A58103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7BB59-5A56-4DC0-8B30-488C1AF3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3AE96-813B-4CAA-9B8E-DF1A15A5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7F728-6A88-42D8-A45C-DD7584BA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CE55C-F3A1-4F1F-ACA2-95165163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B8E-A0A2-449C-86D0-A3D0E272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32A68-8878-4C83-9084-EB64FB50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3D6C9-ECF5-4390-8C6A-7D7114B7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F4619-2503-470E-B819-363AA752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7F135-6850-4617-940E-CDBDCFE9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ACF92-6CBD-4AB1-8215-15576956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5D1ED-F847-4BA0-AAC2-3AE88B5C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AFCED-7386-429B-B282-579D7E93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48873-F418-4C19-B5E2-E8F76338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AC825-A42D-422F-A8F4-9296E02C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1B826-CB7F-44B6-96F6-F5ED87AC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DDB-1037-4064-8AE5-095540D5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BA43B-FEDA-4879-B0A7-3E3CBE12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B990C-66BD-4FAA-B9B9-CD351181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892BB-0DC3-41B4-A4A8-E00620CA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89EC5-C8AC-46E1-92A8-A27EF8F9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B42A0-4EAB-402F-988C-D61EC87C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C359F-1EBB-41EE-A3C4-F2681DC1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48571-9B1E-4245-BF8E-C5D33B02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7FA94-F0CD-49E3-99F9-0E606AC0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FFFBD-2750-44EE-BE2A-D4E52344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EC573-6776-46B8-9FCE-BA5E88AC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A541-47D6-4660-AE59-C79E7F445DA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A4C7-34DA-4122-BC41-7C0A65A14E6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C8A2-49E6-466E-816B-8DF1B8615B9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8024-EEA9-46F3-BA99-92E3890B101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C676-5616-4670-B194-020C8C53F3E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D0DD-FF39-4E8B-81FF-06D025E33A1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E73D-1193-4D46-9072-763DC2423B5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1F09-D0B9-4520-B212-94D85D6B6BA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67DE-D543-46AA-8B28-0A134CA9F1B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DDF6-F44C-4986-93BF-90AFD84E383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4846-8486-47B2-A900-78484DF7A83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2D93-23C5-4014-8658-B54F5C07F62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3.png"/><Relationship Id="rId3" Type="http://schemas.openxmlformats.org/officeDocument/2006/relationships/audio" Target="../media/cashreg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Рябининская СОШ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 слова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А строить слова (или образовывать) мы можем при помощи частей слова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066680" y="21016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ки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5028840" y="21016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142640" y="41911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лете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о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бег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верх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секретны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028840" y="4267080"/>
            <a:ext cx="380988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Вертолё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чик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Бра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ц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Горош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нк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93" name="Picture 13" descr="слово1"/>
          <p:cNvPicPr/>
          <p:nvPr/>
        </p:nvPicPr>
        <p:blipFill>
          <a:blip r:embed="rId1"/>
          <a:stretch/>
        </p:blipFill>
        <p:spPr>
          <a:xfrm>
            <a:off x="1523880" y="2971800"/>
            <a:ext cx="3733920" cy="1143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4" descr="слово"/>
          <p:cNvPicPr/>
          <p:nvPr/>
        </p:nvPicPr>
        <p:blipFill>
          <a:blip r:embed="rId2"/>
          <a:stretch/>
        </p:blipFill>
        <p:spPr>
          <a:xfrm>
            <a:off x="5940360" y="2997360"/>
            <a:ext cx="2046240" cy="13716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16"/>
          <p:cNvSpPr/>
          <p:nvPr/>
        </p:nvSpPr>
        <p:spPr>
          <a:xfrm>
            <a:off x="70102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8"/>
          <p:cNvSpPr/>
          <p:nvPr/>
        </p:nvSpPr>
        <p:spPr>
          <a:xfrm>
            <a:off x="67816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3888720" y="609588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од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снеж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3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400"/>
                            </p:stCondLst>
                            <p:childTnLst>
                              <p:par>
                                <p:cTn id="224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900"/>
                            </p:stCondLst>
                            <p:childTnLst>
                              <p:par>
                                <p:cTn id="22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3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8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819160" y="121896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Определите, сколько суффиксов и приставок в словах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599" name="Picture 12" descr="PE01931_"/>
          <p:cNvPicPr/>
          <p:nvPr/>
        </p:nvPicPr>
        <p:blipFill>
          <a:blip r:embed="rId1"/>
          <a:stretch/>
        </p:blipFill>
        <p:spPr>
          <a:xfrm>
            <a:off x="380880" y="762120"/>
            <a:ext cx="2360880" cy="19810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2590560" y="3124080"/>
            <a:ext cx="4724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НАВЫДУМЫВАЛ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142640" y="388620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ПОДОСИНОВИ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СОРТИРОВЩИ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028840" y="44953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13272"/>
                </a:solidFill>
                <a:latin typeface="Times New Roman"/>
                <a:ea typeface="Times New Roman"/>
              </a:rPr>
              <a:t>ПРИНАЛЕЧ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ЕССОННИЦ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3" name="WordArt 10"/>
          <p:cNvSpPr txBox="1"/>
          <p:nvPr/>
        </p:nvSpPr>
        <p:spPr>
          <a:xfrm>
            <a:off x="3000240" y="500040"/>
            <a:ext cx="5229360" cy="785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ингвистическая задач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04" name="Text Box 13"/>
          <p:cNvSpPr/>
          <p:nvPr/>
        </p:nvSpPr>
        <p:spPr>
          <a:xfrm rot="20518200">
            <a:off x="317520" y="2607840"/>
            <a:ext cx="32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о быстре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500"/>
                            </p:stCondLst>
                            <p:childTnLst>
                              <p:par>
                                <p:cTn id="2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57480" y="285840"/>
            <a:ext cx="83581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сами создать слова.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214200" y="1600200"/>
            <a:ext cx="41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ём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к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же, как в слове </a:t>
            </a: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подруг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ь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в слове </a:t>
            </a: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игруш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ы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же, как в слове </a:t>
            </a: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чита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642920" y="1599840"/>
            <a:ext cx="428652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оренно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со слово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ётчи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ая же, как в глаголе 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ерешё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инаковый с глаголом 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лыша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08" name="Picture 9" descr="BD00028_"/>
          <p:cNvPicPr/>
          <p:nvPr/>
        </p:nvPicPr>
        <p:blipFill>
          <a:blip r:embed="rId1"/>
          <a:stretch/>
        </p:blipFill>
        <p:spPr>
          <a:xfrm>
            <a:off x="1523880" y="1214280"/>
            <a:ext cx="1295640" cy="128592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0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за сло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"/>
          <p:cNvSpPr/>
          <p:nvPr/>
        </p:nvSpPr>
        <p:spPr>
          <a:xfrm>
            <a:off x="5928480" y="570564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за сло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500"/>
                            </p:stCondLst>
                            <p:childTnLst>
                              <p:par>
                                <p:cTn id="28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7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75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325"/>
                            </p:stCondLst>
                            <p:childTnLst>
                              <p:par>
                                <p:cTn id="29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7825"/>
                            </p:stCondLst>
                            <p:childTnLst>
                              <p:par>
                                <p:cTn id="29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325"/>
                            </p:stCondLst>
                            <p:childTnLst>
                              <p:par>
                                <p:cTn id="30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2825"/>
                            </p:stCondLst>
                            <p:childTnLst>
                              <p:par>
                                <p:cTn id="30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325"/>
                            </p:stCondLst>
                            <p:childTnLst>
                              <p:par>
                                <p:cTn id="309" nodeType="afterEffect" fill="hold" presetClass="entr" presetID="12" presetSubtype="2">
                                  <p:stCondLst>
                                    <p:cond delay="8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1" dur="75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Запиши   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ри 10 слов, используя суффиксы   -еньк-, -щик-, -ышк-, -ищ- и всевозможные  приставк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словообразовательное дерево с корнем -снег-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3" name="Picture 6" descr="SO01871_"/>
          <p:cNvPicPr/>
          <p:nvPr/>
        </p:nvPicPr>
        <p:blipFill>
          <a:blip r:embed="rId1"/>
          <a:stretch/>
        </p:blipFill>
        <p:spPr>
          <a:xfrm>
            <a:off x="457200" y="4267080"/>
            <a:ext cx="8686800" cy="23180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7"/>
          <p:cNvSpPr/>
          <p:nvPr/>
        </p:nvSpPr>
        <p:spPr>
          <a:xfrm>
            <a:off x="21178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WordArt 9" descr=""/>
          <p:cNvPicPr/>
          <p:nvPr/>
        </p:nvPicPr>
        <p:blipFill>
          <a:blip r:embed="rId2"/>
          <a:stretch/>
        </p:blipFill>
        <p:spPr>
          <a:xfrm>
            <a:off x="158760" y="4406760"/>
            <a:ext cx="8004240" cy="1652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9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4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900"/>
                            </p:stCondLst>
                            <p:childTnLst>
                              <p:par>
                                <p:cTn id="331" nodeType="after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571320" y="3141360"/>
            <a:ext cx="3500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Вводный уро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7-9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класс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643280" y="1071360"/>
            <a:ext cx="45007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й душе слово живёт, горит, светится, как звезда на небе… Слово остаётся и летит из поколения в поколение, как свет угасшей звезды во вселенной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Пришвин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0" name="Picture 2" descr="C:\Documents and Settings\Admin\Рабочий стол\kosmos-4.jpg"/>
          <p:cNvPicPr/>
          <p:nvPr/>
        </p:nvPicPr>
        <p:blipFill>
          <a:blip r:embed="rId1"/>
          <a:stretch/>
        </p:blipFill>
        <p:spPr>
          <a:xfrm>
            <a:off x="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6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4996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Сколько слов в русском языке?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914400" y="2428560"/>
            <a:ext cx="374976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к они устроены и растут?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933800" y="2428560"/>
            <a:ext cx="374976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Кто придумывает слова?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545" name="Picture 12" descr="BD00028_"/>
          <p:cNvPicPr/>
          <p:nvPr/>
        </p:nvPicPr>
        <p:blipFill>
          <a:blip r:embed="rId1"/>
          <a:stretch/>
        </p:blipFill>
        <p:spPr>
          <a:xfrm>
            <a:off x="762120" y="2171880"/>
            <a:ext cx="3809880" cy="373212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9528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йте новые назва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х предметов: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математика,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физкультура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география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труд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7" name="WordArt 6" descr=""/>
          <p:cNvPicPr/>
          <p:nvPr/>
        </p:nvPicPr>
        <p:blipFill>
          <a:blip r:embed="rId2"/>
          <a:stretch/>
        </p:blipFill>
        <p:spPr>
          <a:xfrm>
            <a:off x="274680" y="493560"/>
            <a:ext cx="8594640" cy="119556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7"/>
          <p:cNvSpPr/>
          <p:nvPr/>
        </p:nvSpPr>
        <p:spPr>
          <a:xfrm>
            <a:off x="5257800" y="144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Новые, необычные слова часто в своей речи создают маленькие дети.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ай рубанок, я хочу порубанить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Вышагни отсюд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Бумага откнопилась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Я хохотала, хохотала,нахохотала целую комнату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Я возьму нитку и буду нанитывать бус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1" name="AutoShape 7"/>
          <p:cNvSpPr/>
          <p:nvPr/>
        </p:nvSpPr>
        <p:spPr>
          <a:xfrm>
            <a:off x="2057400" y="2666880"/>
            <a:ext cx="1828800" cy="1524240"/>
          </a:xfrm>
          <a:prstGeom prst="smileyFace">
            <a:avLst>
              <a:gd name="adj" fmla="val 9282"/>
            </a:avLst>
          </a:prstGeom>
          <a:solidFill>
            <a:srgbClr val="9b2d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3260880" y="2362320"/>
            <a:ext cx="146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WordArt 9"/>
          <p:cNvSpPr txBox="1"/>
          <p:nvPr/>
        </p:nvSpPr>
        <p:spPr>
          <a:xfrm>
            <a:off x="1066680" y="2362320"/>
            <a:ext cx="388620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408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Улыбнёмся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1219320" y="4267080"/>
            <a:ext cx="35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отрывки из книги К.Чуковского «От двух до пя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2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7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1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42976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Вы поняли, как образуются «детские слова» 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160" y="2437920"/>
            <a:ext cx="43434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еведите с «детского» на русский язык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57" name="Picture 13" descr="PE02043_"/>
          <p:cNvPicPr/>
          <p:nvPr/>
        </p:nvPicPr>
        <p:blipFill>
          <a:blip r:embed="rId1"/>
          <a:stretch/>
        </p:blipFill>
        <p:spPr>
          <a:xfrm>
            <a:off x="5643720" y="2895480"/>
            <a:ext cx="2503440" cy="36576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7"/>
          <p:cNvSpPr/>
          <p:nvPr/>
        </p:nvSpPr>
        <p:spPr>
          <a:xfrm>
            <a:off x="5562720" y="178596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добию, по схожести с другими сл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838080" y="3200400"/>
            <a:ext cx="3886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тки,  стриганок, ползук, копатки, пальчатки, людь, одуван, мазелин, колоток, улицион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все слова придумываются. Слова ещё можно «строить», «выращивать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2133720" y="457200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      А       К    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9" descr="SO01862_"/>
          <p:cNvPicPr/>
          <p:nvPr/>
        </p:nvPicPr>
        <p:blipFill>
          <a:blip r:embed="rId1"/>
          <a:stretch/>
        </p:blipFill>
        <p:spPr>
          <a:xfrm>
            <a:off x="357120" y="4143240"/>
            <a:ext cx="8534520" cy="15242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0" descr="SO01871_"/>
          <p:cNvPicPr/>
          <p:nvPr/>
        </p:nvPicPr>
        <p:blipFill>
          <a:blip r:embed="rId2"/>
          <a:stretch/>
        </p:blipFill>
        <p:spPr>
          <a:xfrm>
            <a:off x="826920" y="428760"/>
            <a:ext cx="78487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2" presetSubtype="8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75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214200" y="856800"/>
            <a:ext cx="4662720" cy="53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вырастают как обычные деревья – из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орня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ор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главная часть слова, она даёт жизнь многим словам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обрать и записать все слова, выросшие из одного корня, то получится целое </a:t>
            </a:r>
            <a:r>
              <a:rPr b="1" lang="ru-RU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словообразовательное дерево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5" name="Picture 7" descr="NA01441_"/>
          <p:cNvPicPr/>
          <p:nvPr/>
        </p:nvPicPr>
        <p:blipFill>
          <a:blip r:embed="rId1"/>
          <a:stretch/>
        </p:blipFill>
        <p:spPr>
          <a:xfrm>
            <a:off x="5105520" y="1295280"/>
            <a:ext cx="3646440" cy="5073840"/>
          </a:xfrm>
          <a:prstGeom prst="rect">
            <a:avLst/>
          </a:prstGeom>
          <a:ln w="0">
            <a:noFill/>
          </a:ln>
        </p:spPr>
      </p:pic>
      <p:sp>
        <p:nvSpPr>
          <p:cNvPr id="566" name="Freeform 11"/>
          <p:cNvSpPr/>
          <p:nvPr/>
        </p:nvSpPr>
        <p:spPr>
          <a:xfrm>
            <a:off x="5334120" y="6172200"/>
            <a:ext cx="1455480" cy="635040"/>
          </a:xfrm>
          <a:custGeom>
            <a:avLst/>
            <a:gdLst>
              <a:gd name="textAreaLeft" fmla="*/ 0 w 1455480"/>
              <a:gd name="textAreaRight" fmla="*/ 1455840 w 145548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917" h="400">
                <a:moveTo>
                  <a:pt x="917" y="0"/>
                </a:moveTo>
                <a:cubicBezTo>
                  <a:pt x="913" y="20"/>
                  <a:pt x="917" y="43"/>
                  <a:pt x="906" y="59"/>
                </a:cubicBezTo>
                <a:cubicBezTo>
                  <a:pt x="871" y="110"/>
                  <a:pt x="635" y="117"/>
                  <a:pt x="623" y="118"/>
                </a:cubicBezTo>
                <a:cubicBezTo>
                  <a:pt x="569" y="153"/>
                  <a:pt x="539" y="202"/>
                  <a:pt x="494" y="247"/>
                </a:cubicBezTo>
                <a:cubicBezTo>
                  <a:pt x="486" y="271"/>
                  <a:pt x="479" y="294"/>
                  <a:pt x="471" y="318"/>
                </a:cubicBezTo>
                <a:cubicBezTo>
                  <a:pt x="466" y="334"/>
                  <a:pt x="153" y="353"/>
                  <a:pt x="153" y="353"/>
                </a:cubicBezTo>
                <a:cubicBezTo>
                  <a:pt x="98" y="362"/>
                  <a:pt x="41" y="361"/>
                  <a:pt x="0" y="40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12"/>
          <p:cNvSpPr/>
          <p:nvPr/>
        </p:nvSpPr>
        <p:spPr>
          <a:xfrm>
            <a:off x="6773760" y="6326280"/>
            <a:ext cx="952560" cy="541080"/>
          </a:xfrm>
          <a:custGeom>
            <a:avLst/>
            <a:gdLst>
              <a:gd name="textAreaLeft" fmla="*/ 0 w 952560"/>
              <a:gd name="textAreaRight" fmla="*/ 952920 w 952560"/>
              <a:gd name="textAreaTop" fmla="*/ 0 h 541080"/>
              <a:gd name="textAreaBottom" fmla="*/ 541080 h 541080"/>
            </a:gdLst>
            <a:ahLst/>
            <a:rect l="textAreaLeft" t="textAreaTop" r="textAreaRight" b="textAreaBottom"/>
            <a:pathLst>
              <a:path w="600" h="341">
                <a:moveTo>
                  <a:pt x="0" y="0"/>
                </a:moveTo>
                <a:cubicBezTo>
                  <a:pt x="25" y="72"/>
                  <a:pt x="97" y="113"/>
                  <a:pt x="165" y="141"/>
                </a:cubicBezTo>
                <a:cubicBezTo>
                  <a:pt x="188" y="150"/>
                  <a:pt x="235" y="165"/>
                  <a:pt x="235" y="165"/>
                </a:cubicBezTo>
                <a:cubicBezTo>
                  <a:pt x="255" y="163"/>
                  <a:pt x="386" y="137"/>
                  <a:pt x="435" y="165"/>
                </a:cubicBezTo>
                <a:cubicBezTo>
                  <a:pt x="485" y="194"/>
                  <a:pt x="501" y="280"/>
                  <a:pt x="541" y="306"/>
                </a:cubicBezTo>
                <a:cubicBezTo>
                  <a:pt x="583" y="334"/>
                  <a:pt x="564" y="323"/>
                  <a:pt x="600" y="341"/>
                </a:cubicBezTo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13"/>
          <p:cNvSpPr/>
          <p:nvPr/>
        </p:nvSpPr>
        <p:spPr>
          <a:xfrm>
            <a:off x="7445520" y="6288120"/>
            <a:ext cx="1120680" cy="523800"/>
          </a:xfrm>
          <a:custGeom>
            <a:avLst/>
            <a:gdLst>
              <a:gd name="textAreaLeft" fmla="*/ 0 w 1120680"/>
              <a:gd name="textAreaRight" fmla="*/ 1121040 w 112068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706" h="330">
                <a:moveTo>
                  <a:pt x="0" y="0"/>
                </a:moveTo>
                <a:cubicBezTo>
                  <a:pt x="25" y="37"/>
                  <a:pt x="29" y="95"/>
                  <a:pt x="47" y="118"/>
                </a:cubicBezTo>
                <a:cubicBezTo>
                  <a:pt x="79" y="158"/>
                  <a:pt x="149" y="148"/>
                  <a:pt x="188" y="153"/>
                </a:cubicBezTo>
                <a:cubicBezTo>
                  <a:pt x="248" y="161"/>
                  <a:pt x="254" y="164"/>
                  <a:pt x="306" y="177"/>
                </a:cubicBezTo>
                <a:cubicBezTo>
                  <a:pt x="344" y="215"/>
                  <a:pt x="408" y="313"/>
                  <a:pt x="470" y="318"/>
                </a:cubicBezTo>
                <a:cubicBezTo>
                  <a:pt x="548" y="325"/>
                  <a:pt x="706" y="330"/>
                  <a:pt x="706" y="330"/>
                </a:cubicBezTo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14"/>
          <p:cNvSpPr/>
          <p:nvPr/>
        </p:nvSpPr>
        <p:spPr>
          <a:xfrm>
            <a:off x="6643800" y="6176880"/>
            <a:ext cx="1231920" cy="74628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776" h="470">
                <a:moveTo>
                  <a:pt x="258" y="59"/>
                </a:moveTo>
                <a:cubicBezTo>
                  <a:pt x="278" y="118"/>
                  <a:pt x="297" y="94"/>
                  <a:pt x="317" y="153"/>
                </a:cubicBezTo>
                <a:cubicBezTo>
                  <a:pt x="316" y="162"/>
                  <a:pt x="317" y="264"/>
                  <a:pt x="282" y="282"/>
                </a:cubicBezTo>
                <a:cubicBezTo>
                  <a:pt x="239" y="304"/>
                  <a:pt x="131" y="321"/>
                  <a:pt x="82" y="329"/>
                </a:cubicBezTo>
                <a:cubicBezTo>
                  <a:pt x="2" y="383"/>
                  <a:pt x="21" y="403"/>
                  <a:pt x="0" y="341"/>
                </a:cubicBezTo>
                <a:cubicBezTo>
                  <a:pt x="4" y="329"/>
                  <a:pt x="1" y="312"/>
                  <a:pt x="12" y="306"/>
                </a:cubicBezTo>
                <a:cubicBezTo>
                  <a:pt x="56" y="281"/>
                  <a:pt x="147" y="271"/>
                  <a:pt x="200" y="259"/>
                </a:cubicBezTo>
                <a:cubicBezTo>
                  <a:pt x="224" y="253"/>
                  <a:pt x="270" y="235"/>
                  <a:pt x="270" y="235"/>
                </a:cubicBezTo>
                <a:cubicBezTo>
                  <a:pt x="258" y="141"/>
                  <a:pt x="269" y="131"/>
                  <a:pt x="188" y="106"/>
                </a:cubicBezTo>
                <a:cubicBezTo>
                  <a:pt x="180" y="94"/>
                  <a:pt x="170" y="83"/>
                  <a:pt x="164" y="70"/>
                </a:cubicBezTo>
                <a:cubicBezTo>
                  <a:pt x="144" y="30"/>
                  <a:pt x="160" y="0"/>
                  <a:pt x="141" y="94"/>
                </a:cubicBezTo>
                <a:cubicBezTo>
                  <a:pt x="149" y="110"/>
                  <a:pt x="149" y="133"/>
                  <a:pt x="164" y="141"/>
                </a:cubicBezTo>
                <a:cubicBezTo>
                  <a:pt x="217" y="170"/>
                  <a:pt x="283" y="169"/>
                  <a:pt x="341" y="188"/>
                </a:cubicBezTo>
                <a:cubicBezTo>
                  <a:pt x="437" y="253"/>
                  <a:pt x="383" y="231"/>
                  <a:pt x="505" y="247"/>
                </a:cubicBezTo>
                <a:cubicBezTo>
                  <a:pt x="529" y="255"/>
                  <a:pt x="563" y="249"/>
                  <a:pt x="576" y="270"/>
                </a:cubicBezTo>
                <a:cubicBezTo>
                  <a:pt x="614" y="330"/>
                  <a:pt x="587" y="298"/>
                  <a:pt x="670" y="353"/>
                </a:cubicBezTo>
                <a:cubicBezTo>
                  <a:pt x="682" y="361"/>
                  <a:pt x="693" y="368"/>
                  <a:pt x="705" y="376"/>
                </a:cubicBezTo>
                <a:cubicBezTo>
                  <a:pt x="717" y="384"/>
                  <a:pt x="740" y="400"/>
                  <a:pt x="740" y="400"/>
                </a:cubicBezTo>
                <a:cubicBezTo>
                  <a:pt x="744" y="412"/>
                  <a:pt x="746" y="424"/>
                  <a:pt x="752" y="435"/>
                </a:cubicBezTo>
                <a:cubicBezTo>
                  <a:pt x="758" y="448"/>
                  <a:pt x="776" y="470"/>
                  <a:pt x="776" y="47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16"/>
          <p:cNvSpPr/>
          <p:nvPr/>
        </p:nvSpPr>
        <p:spPr>
          <a:xfrm>
            <a:off x="7165800" y="6307200"/>
            <a:ext cx="1436760" cy="63180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905" h="398">
                <a:moveTo>
                  <a:pt x="0" y="0"/>
                </a:moveTo>
                <a:cubicBezTo>
                  <a:pt x="62" y="42"/>
                  <a:pt x="124" y="77"/>
                  <a:pt x="176" y="130"/>
                </a:cubicBezTo>
                <a:cubicBezTo>
                  <a:pt x="220" y="257"/>
                  <a:pt x="396" y="248"/>
                  <a:pt x="505" y="271"/>
                </a:cubicBezTo>
                <a:cubicBezTo>
                  <a:pt x="543" y="295"/>
                  <a:pt x="571" y="332"/>
                  <a:pt x="611" y="353"/>
                </a:cubicBezTo>
                <a:cubicBezTo>
                  <a:pt x="664" y="380"/>
                  <a:pt x="733" y="382"/>
                  <a:pt x="788" y="388"/>
                </a:cubicBezTo>
                <a:cubicBezTo>
                  <a:pt x="893" y="375"/>
                  <a:pt x="860" y="398"/>
                  <a:pt x="905" y="353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7"/>
          <p:cNvSpPr/>
          <p:nvPr/>
        </p:nvSpPr>
        <p:spPr>
          <a:xfrm>
            <a:off x="6345360" y="6513480"/>
            <a:ext cx="204840" cy="290520"/>
          </a:xfrm>
          <a:custGeom>
            <a:avLst/>
            <a:gdLst>
              <a:gd name="textAreaLeft" fmla="*/ 0 w 204840"/>
              <a:gd name="textAreaRight" fmla="*/ 205200 w 20484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129" h="183">
                <a:moveTo>
                  <a:pt x="0" y="0"/>
                </a:moveTo>
                <a:cubicBezTo>
                  <a:pt x="70" y="46"/>
                  <a:pt x="59" y="106"/>
                  <a:pt x="129" y="152"/>
                </a:cubicBezTo>
                <a:cubicBezTo>
                  <a:pt x="117" y="160"/>
                  <a:pt x="106" y="183"/>
                  <a:pt x="94" y="176"/>
                </a:cubicBezTo>
                <a:cubicBezTo>
                  <a:pt x="32" y="140"/>
                  <a:pt x="45" y="45"/>
                  <a:pt x="0" y="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8"/>
          <p:cNvSpPr/>
          <p:nvPr/>
        </p:nvSpPr>
        <p:spPr>
          <a:xfrm>
            <a:off x="7464600" y="6251400"/>
            <a:ext cx="984240" cy="298800"/>
          </a:xfrm>
          <a:custGeom>
            <a:avLst/>
            <a:gdLst>
              <a:gd name="textAreaLeft" fmla="*/ 0 w 984240"/>
              <a:gd name="textAreaRight" fmla="*/ 984600 w 984240"/>
              <a:gd name="textAreaTop" fmla="*/ 0 h 298800"/>
              <a:gd name="textAreaBottom" fmla="*/ 299160 h 298800"/>
            </a:gdLst>
            <a:ahLst/>
            <a:rect l="textAreaLeft" t="textAreaTop" r="textAreaRight" b="textAreaBottom"/>
            <a:pathLst>
              <a:path w="620" h="188">
                <a:moveTo>
                  <a:pt x="0" y="0"/>
                </a:moveTo>
                <a:cubicBezTo>
                  <a:pt x="83" y="62"/>
                  <a:pt x="110" y="88"/>
                  <a:pt x="200" y="118"/>
                </a:cubicBezTo>
                <a:cubicBezTo>
                  <a:pt x="256" y="137"/>
                  <a:pt x="317" y="125"/>
                  <a:pt x="376" y="129"/>
                </a:cubicBezTo>
                <a:cubicBezTo>
                  <a:pt x="493" y="169"/>
                  <a:pt x="620" y="133"/>
                  <a:pt x="294" y="153"/>
                </a:cubicBezTo>
                <a:cubicBezTo>
                  <a:pt x="263" y="161"/>
                  <a:pt x="231" y="168"/>
                  <a:pt x="200" y="176"/>
                </a:cubicBezTo>
                <a:cubicBezTo>
                  <a:pt x="184" y="180"/>
                  <a:pt x="153" y="188"/>
                  <a:pt x="153" y="188"/>
                </a:cubicBezTo>
                <a:cubicBezTo>
                  <a:pt x="84" y="176"/>
                  <a:pt x="35" y="176"/>
                  <a:pt x="35" y="94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9"/>
          <p:cNvSpPr/>
          <p:nvPr/>
        </p:nvSpPr>
        <p:spPr>
          <a:xfrm>
            <a:off x="6518160" y="6213600"/>
            <a:ext cx="317520" cy="504720"/>
          </a:xfrm>
          <a:custGeom>
            <a:avLst/>
            <a:gdLst>
              <a:gd name="textAreaLeft" fmla="*/ 0 w 317520"/>
              <a:gd name="textAreaRight" fmla="*/ 317880 w 31752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200" h="318">
                <a:moveTo>
                  <a:pt x="149" y="130"/>
                </a:moveTo>
                <a:cubicBezTo>
                  <a:pt x="103" y="84"/>
                  <a:pt x="93" y="62"/>
                  <a:pt x="32" y="83"/>
                </a:cubicBezTo>
                <a:cubicBezTo>
                  <a:pt x="24" y="95"/>
                  <a:pt x="5" y="104"/>
                  <a:pt x="8" y="118"/>
                </a:cubicBezTo>
                <a:cubicBezTo>
                  <a:pt x="17" y="165"/>
                  <a:pt x="125" y="130"/>
                  <a:pt x="126" y="130"/>
                </a:cubicBezTo>
                <a:cubicBezTo>
                  <a:pt x="134" y="114"/>
                  <a:pt x="143" y="99"/>
                  <a:pt x="149" y="83"/>
                </a:cubicBezTo>
                <a:cubicBezTo>
                  <a:pt x="155" y="68"/>
                  <a:pt x="161" y="20"/>
                  <a:pt x="161" y="36"/>
                </a:cubicBezTo>
                <a:cubicBezTo>
                  <a:pt x="161" y="124"/>
                  <a:pt x="98" y="169"/>
                  <a:pt x="32" y="212"/>
                </a:cubicBezTo>
                <a:cubicBezTo>
                  <a:pt x="4" y="295"/>
                  <a:pt x="0" y="259"/>
                  <a:pt x="20" y="318"/>
                </a:cubicBezTo>
                <a:cubicBezTo>
                  <a:pt x="50" y="278"/>
                  <a:pt x="64" y="241"/>
                  <a:pt x="91" y="200"/>
                </a:cubicBezTo>
                <a:cubicBezTo>
                  <a:pt x="115" y="124"/>
                  <a:pt x="81" y="198"/>
                  <a:pt x="138" y="153"/>
                </a:cubicBezTo>
                <a:cubicBezTo>
                  <a:pt x="145" y="147"/>
                  <a:pt x="194" y="56"/>
                  <a:pt x="196" y="47"/>
                </a:cubicBezTo>
                <a:cubicBezTo>
                  <a:pt x="200" y="32"/>
                  <a:pt x="196" y="16"/>
                  <a:pt x="196" y="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0"/>
          <p:cNvSpPr/>
          <p:nvPr/>
        </p:nvSpPr>
        <p:spPr>
          <a:xfrm>
            <a:off x="8205480" y="62388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Calibri"/>
              </a:rPr>
              <a:t>-вод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5168520" y="4384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2"/>
          <p:cNvSpPr/>
          <p:nvPr/>
        </p:nvSpPr>
        <p:spPr>
          <a:xfrm>
            <a:off x="7467480" y="3774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подво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3"/>
          <p:cNvSpPr/>
          <p:nvPr/>
        </p:nvSpPr>
        <p:spPr>
          <a:xfrm>
            <a:off x="7772400" y="1565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я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4"/>
          <p:cNvSpPr/>
          <p:nvPr/>
        </p:nvSpPr>
        <p:spPr>
          <a:xfrm rot="19350600">
            <a:off x="4682880" y="1819080"/>
            <a:ext cx="20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ов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5"/>
          <p:cNvSpPr/>
          <p:nvPr/>
        </p:nvSpPr>
        <p:spPr>
          <a:xfrm>
            <a:off x="6842520" y="8794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и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6"/>
          <p:cNvSpPr/>
          <p:nvPr/>
        </p:nvSpPr>
        <p:spPr>
          <a:xfrm rot="2040600">
            <a:off x="8444160" y="24825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27"/>
          <p:cNvSpPr/>
          <p:nvPr/>
        </p:nvSpPr>
        <p:spPr>
          <a:xfrm>
            <a:off x="6008760" y="6381720"/>
            <a:ext cx="522360" cy="458640"/>
          </a:xfrm>
          <a:custGeom>
            <a:avLst/>
            <a:gdLst>
              <a:gd name="textAreaLeft" fmla="*/ 0 w 522360"/>
              <a:gd name="textAreaRight" fmla="*/ 522720 w 52236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329" h="289">
                <a:moveTo>
                  <a:pt x="329" y="0"/>
                </a:moveTo>
                <a:cubicBezTo>
                  <a:pt x="232" y="12"/>
                  <a:pt x="227" y="2"/>
                  <a:pt x="200" y="83"/>
                </a:cubicBezTo>
                <a:cubicBezTo>
                  <a:pt x="196" y="110"/>
                  <a:pt x="193" y="138"/>
                  <a:pt x="188" y="165"/>
                </a:cubicBezTo>
                <a:cubicBezTo>
                  <a:pt x="165" y="289"/>
                  <a:pt x="134" y="259"/>
                  <a:pt x="0" y="271"/>
                </a:cubicBezTo>
                <a:cubicBezTo>
                  <a:pt x="49" y="237"/>
                  <a:pt x="73" y="190"/>
                  <a:pt x="106" y="141"/>
                </a:cubicBezTo>
                <a:cubicBezTo>
                  <a:pt x="119" y="121"/>
                  <a:pt x="153" y="134"/>
                  <a:pt x="176" y="130"/>
                </a:cubicBezTo>
                <a:cubicBezTo>
                  <a:pt x="185" y="102"/>
                  <a:pt x="205" y="65"/>
                  <a:pt x="176" y="36"/>
                </a:cubicBezTo>
                <a:cubicBezTo>
                  <a:pt x="167" y="27"/>
                  <a:pt x="153" y="43"/>
                  <a:pt x="141" y="47"/>
                </a:cubicBezTo>
                <a:cubicBezTo>
                  <a:pt x="145" y="86"/>
                  <a:pt x="138" y="129"/>
                  <a:pt x="153" y="165"/>
                </a:cubicBezTo>
                <a:cubicBezTo>
                  <a:pt x="158" y="178"/>
                  <a:pt x="171" y="143"/>
                  <a:pt x="176" y="130"/>
                </a:cubicBezTo>
                <a:cubicBezTo>
                  <a:pt x="187" y="100"/>
                  <a:pt x="183" y="63"/>
                  <a:pt x="200" y="36"/>
                </a:cubicBezTo>
                <a:cubicBezTo>
                  <a:pt x="208" y="24"/>
                  <a:pt x="223" y="0"/>
                  <a:pt x="223" y="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7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3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1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4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На одном ли дереве выросли слова?   </a:t>
            </a:r>
            <a:br>
              <a:rPr sz="2900"/>
            </a:br>
            <a:r>
              <a:rPr b="0" i="1" lang="ru-RU" sz="29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Найди ошибку. Обоснуй свой ответ</a:t>
            </a:r>
            <a:r>
              <a:rPr b="0" i="1" lang="ru-RU" sz="2900" spc="-1" strike="noStrike">
                <a:solidFill>
                  <a:srgbClr val="696464"/>
                </a:solidFill>
                <a:latin typeface="Calibri"/>
              </a:rPr>
              <a:t>.</a:t>
            </a:r>
            <a:r>
              <a:rPr b="0" i="1" lang="ru-RU" sz="36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583" name="Picture 10" descr="NA01441_"/>
          <p:cNvPicPr/>
          <p:nvPr/>
        </p:nvPicPr>
        <p:blipFill>
          <a:blip r:embed="rId1"/>
          <a:stretch/>
        </p:blipFill>
        <p:spPr>
          <a:xfrm>
            <a:off x="2225520" y="3316320"/>
            <a:ext cx="1492560" cy="16858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1051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тьс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и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льщик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ни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к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л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льник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о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5" name="WordArt 8"/>
          <p:cNvSpPr txBox="1"/>
          <p:nvPr/>
        </p:nvSpPr>
        <p:spPr>
          <a:xfrm>
            <a:off x="2209680" y="914400"/>
            <a:ext cx="5334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ВЫПОЛНИ ЗАД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6" name="Text Box 11"/>
          <p:cNvSpPr/>
          <p:nvPr/>
        </p:nvSpPr>
        <p:spPr>
          <a:xfrm>
            <a:off x="1447920" y="61722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1981080" y="6338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к у п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9-25T19:22:48Z</dcterms:modified>
  <cp:revision>14</cp:revision>
  <dc:subject/>
  <dc:title>Слайд 1</dc:title>
</cp:coreProperties>
</file>