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wmf" ContentType="image/x-wmf"/>
  <Override PartName="/ppt/media/image8.wmf" ContentType="image/x-wmf"/>
  <Override PartName="/ppt/media/cashreg.wav" ContentType="audio/x-wav"/>
  <Override PartName="/ppt/media/image13.png" ContentType="image/png"/>
  <Override PartName="/ppt/media/image6.wmf" ContentType="image/x-wmf"/>
  <Override PartName="/ppt/media/image11.png" ContentType="image/png"/>
  <Override PartName="/ppt/media/type.wav" ContentType="audio/x-wav"/>
  <Override PartName="/ppt/media/image12.wmf" ContentType="image/x-wmf"/>
  <Override PartName="/ppt/media/image7.wmf" ContentType="image/x-wmf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carbrake.wav" ContentType="audio/x-wav"/>
  <Override PartName="/ppt/media/chimes.wav" ContentType="audio/x-wav"/>
  <Override PartName="/ppt/media/ricochet.wav" ContentType="audio/x-wav"/>
  <Override PartName="/ppt/media/image3.jpeg" ContentType="image/jpeg"/>
  <Override PartName="/ppt/media/drumroll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ECAF-C0F7-455B-890C-C1176C6269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758A-D215-4AE6-94C5-35E41E7A1C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9E4D-D70E-45D4-9631-0AADF8E7EF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стить заголов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6353-A543-42F5-BBD3-7A92C2BCF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1E58-405C-44EA-BC73-EB91927B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219AF-2924-4C2C-8179-DAAC65B9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CB23C-D36B-42B1-BA0C-2BD4662F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5A564-7DC7-415F-B651-0E80C5A2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D841A-D221-47C0-83B6-E73B5E19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F864C-0B04-46A8-8CDF-F35BD4A1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AD7D0-6F3D-480A-BFB3-A0660609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E3BAF1-3919-45FB-A213-ECAFCE6D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4783B-35AD-49F6-9370-9C861F9BF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6C363-0461-4084-B719-FD319815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0B00F-91F6-4F88-9D9A-49254AF9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2698-7F7E-428A-B57D-2DF4E8C2F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11E0E-AB42-4060-963E-BBFE83FF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4F27F4-76EC-4B47-80ED-EB422C75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6359F-1AC2-4C77-9BAF-3F2ACC95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80C91-515A-4F57-BC7F-12E24576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32C06-086B-4CF2-8549-93C44445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7253F-05B3-46FB-A34F-F639ACAE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AFC3D9-8501-469F-ADC0-60F30FD2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38E760-9D3F-49E5-B25C-BCA37ED6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23919-B6F7-4F58-BF28-81CFFD1C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1BAB8-84D6-415A-814E-E93686641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3126-85AE-4177-B2FA-13A84BE03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BB902-B402-45DD-9358-7D340A6F1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262B6-526B-4424-8F45-9CAD0A597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2EE59-5329-4B04-AEF3-E291E36A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26074-5DDB-42F7-9D49-1E09ED7B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F535F-CF18-436C-B8D8-3380F4BC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89A9D-11F5-48DE-9DEE-95093AE0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B7812-3D11-423C-83E2-D1FFC991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52029-CE3D-41A4-A352-33221BE1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48678-429C-4ED3-97C9-A1B52FD2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1D6CA-B36A-4D1F-B74E-F050F762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8E18-E1C9-4415-895B-AB497DA2E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38334-279E-441F-ADE1-692A9E77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16137-2BE8-4E40-A359-8B8D40C5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B3D25-D29A-4434-BC6C-58A70B0E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8699FB-09EF-4B56-BE72-008584D73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093DC7-9DF5-48ED-83D2-533B6F2D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813EBC-CDF3-4186-BAFD-3AFAF0C7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55D59-EDD4-45CE-9136-1B0A254B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21C742-3F29-44DA-8935-42411B88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7F9773-2191-4946-9CCB-E1AB96FC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89411E-B6A3-43C7-ABAD-3C1F0AB6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29A8-A7F0-4DF7-8E76-DA975660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C9E249-717B-44B4-9D5C-B6490897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6E830-480F-46EC-993F-5FC10684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3C0E31-C332-41BD-8A0C-33CFD09E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EE0F87-2034-4F17-A06A-C6705EE9F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D27C77-82A1-46DB-9334-FD98466E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3428-451A-4DC8-84EF-43BA891C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F440-7BEB-421D-9BC8-AA54FBC6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43E4-6A78-4D5C-A541-97A3FD11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9C4F-B469-4E12-AAA6-EBEEEBF3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4EBB-04EC-40B9-AF82-4BD55247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7D8C-F5E6-428A-B4A7-7A7AA707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8F70-173F-40BE-879F-3B7F90F8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9209-2A38-4342-9184-E542FAEA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877A-97AD-4E17-904A-AF676F44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EE96-1CB9-4BD9-8F96-1989AB14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2952-4903-4CC8-B76A-D7775E173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C64A9-16D3-439B-BB56-6B24B88D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3A32E-6B31-4805-B7FA-F8F224A4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3B294-868D-4A70-99E0-F53B6C8B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D6A5D-2F88-45E6-B174-D9B1E45C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6AD6D-3909-4BDE-B9D0-3D866D32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9D04-A109-4709-AFAC-7DBEB971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7FA06-71A7-4699-A4A2-3B6FCE00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9F976-66E2-4389-B732-67A6DD9F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F6370-DC34-4A7A-8953-58F31AF5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F445D-8051-4460-9795-C95C1948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9BCE1-C556-433E-A0DA-C8AB9E92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82F53-1473-40FC-8003-8241E602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E9033-0928-43BF-AE79-2F73BF4C3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B1EBE-C9D4-4374-B8A5-D0AA08192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55D33-A2B1-4BBC-9AE4-6563F8DE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44F47-47BF-4E66-AFFB-785CDC74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D2B7-861D-482F-80BC-EDB30789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AE127-FE27-40FA-9384-BCDD79FF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7A4AB-111D-4D36-9D78-5A9422FB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13554-EA59-4CEA-86B4-0CAD7BAC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45FAC-E6D6-4CC1-B0CE-B8FB65E0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C9E54-E213-4067-9156-DFA54E71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1EC10-434C-4888-A97B-E16138AA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417C3-8F9B-4D0E-8DAA-733E9F5F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BB930-3334-4BEA-A37D-D0FB4BC87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EA50D-1F87-4777-982B-2360FCB7E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3EAB1-A973-437B-B5AC-E0E91FE73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F8C6-E722-4CB9-9701-6EF135E8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0F952-7F86-4C99-B10A-88AFD6E1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DAAD0-851D-4F8D-A292-F1387C2E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0FFA9-1F51-424B-B98B-FAFBE2B7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9B0DC-D517-4C03-A9FA-A3AD1D35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58004-7CC5-45F8-BF2A-90DC3C35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B1164-A9A0-4790-8D61-30370A80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66169-6D76-4D8B-A00E-8B631DA7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37740-8417-4916-BA73-C42E6229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6FD86-55C3-4592-A72F-4AE84FC4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A49EB-30CE-4E02-BDB9-85E074CAF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7CCD-B344-40D6-883A-7F7FD405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37382-307E-4AF8-BC86-4B5729C70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BAE04-3463-450D-AA26-CA9D122D1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7769E-2034-4CEC-A9B0-DDF00197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000C2-934C-4080-A6BD-C8172E95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E96AD-B401-43B7-9FD2-19D4EBE4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D6E5B-0888-4DD2-A564-396FF996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1AEEA-E0AF-4F7A-8C05-15EEC225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B1A14-7E62-44DC-91D9-BF8CDAA9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0F48F-B84C-478F-9F11-113BEF5D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F194B-70AA-4571-B24F-180F79DF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44B9-6EBB-429A-8969-C534BDC6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24213-DB67-413F-8A12-06175C7E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6A20E-93DF-4209-8AE9-5DA49EEB0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FB758-76C4-46EA-951A-738EC1C7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A69F2-AA29-4E5A-B3DC-06DBB612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36D35-B74F-487D-B49E-36076A18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213A1-4C89-4BCD-8540-14AB935A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2CD3B-DFD3-4822-84AA-5268E58F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EBF09-7CE9-4A5B-B611-C41D6390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0EA3D-26A4-45C5-B831-204A30E1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50A16-27E5-4DEC-8D2E-3D0D0E6C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1AF8-4294-499D-9301-99CEFD94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955C0-7575-4BC1-B03A-D65CD435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D1B63-D075-4DF1-9D67-C5C4FDE2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3F41E-F0BC-46A2-B2D2-129C4C0E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5533F-145A-4B5A-B3CE-1AB77AFB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BDC49-D268-4483-A201-EBE9FF6C4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02FCE-45E0-47D9-8564-6490615D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DF4E0-31C2-4B25-AEBE-AB097E7B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BB1EC-0789-4F79-8B52-C92C67D1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AAA2D-D61F-442A-A93D-CB7D372E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C8344-33D8-4C42-A0BA-035CC96E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8BEA-9D4C-4FDF-B123-9F4D1C65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BC3CD-E3FC-4CBE-B83A-C20E4847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37BAE-D294-4ADA-B044-EB003A2C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D6AD3-BE24-49E6-B794-2A376CEA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8799D-4DB5-4854-B4CA-B39613F3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51C57-B285-4081-94C0-CA435283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B62D9-A566-4A03-83A4-FB3850534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282AC-898F-4144-9658-1BE6D97A7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24E6D-1073-494C-AE64-1465FEBA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4F1C4-6AE9-48EE-A30C-E3FAB1CE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EB19F-6C43-4BDB-8E89-58936BDF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A2CE-81B2-4DFF-BB0E-E9C889911C7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A69F-AA8D-452D-8B11-5B8E7660DC7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3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3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3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07C9-45B0-446F-A4A8-BE853615765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4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5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6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5820-675E-44A1-A58B-1A63DFC0A98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B6CB-93FB-47CE-A1F7-CCF4292CCDE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B7F8-1A18-468C-A78E-4AE1D94B568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BDF4-CAC4-4F3C-9902-0B69912BFAE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39D8-106F-4EE7-A788-DDE0F561272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866E-21A7-4329-876D-68D980611AA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1200-06C5-4322-A09B-6A3D0348975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0AD4-4675-4305-A603-16F6EA50E64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8363520" y="6480360"/>
            <a:ext cx="6465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11BE-55FA-44A5-AD98-BDB4ECA559C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3.png"/><Relationship Id="rId3" Type="http://schemas.openxmlformats.org/officeDocument/2006/relationships/audio" Target="../media/cashreg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5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русского языка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Рябининская СОШ»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 слова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А строить слова (или образовывать) мы можем при помощи частей слова: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066680" y="2101680"/>
            <a:ext cx="3810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ки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5028840" y="21016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а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142640" y="419112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У</a:t>
            </a: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лететь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о</a:t>
            </a: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бег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верх</a:t>
            </a: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секретный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5028840" y="4267080"/>
            <a:ext cx="380988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Вертолёт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чик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Брат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ец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Горош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инк</a:t>
            </a: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93" name="Picture 13" descr="слово1"/>
          <p:cNvPicPr/>
          <p:nvPr/>
        </p:nvPicPr>
        <p:blipFill>
          <a:blip r:embed="rId1"/>
          <a:stretch/>
        </p:blipFill>
        <p:spPr>
          <a:xfrm>
            <a:off x="1523880" y="2971800"/>
            <a:ext cx="3733920" cy="11430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4" descr="слово"/>
          <p:cNvPicPr/>
          <p:nvPr/>
        </p:nvPicPr>
        <p:blipFill>
          <a:blip r:embed="rId2"/>
          <a:stretch/>
        </p:blipFill>
        <p:spPr>
          <a:xfrm>
            <a:off x="5940360" y="2997360"/>
            <a:ext cx="2046240" cy="137160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16"/>
          <p:cNvSpPr/>
          <p:nvPr/>
        </p:nvSpPr>
        <p:spPr>
          <a:xfrm>
            <a:off x="7010280" y="396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8"/>
          <p:cNvSpPr/>
          <p:nvPr/>
        </p:nvSpPr>
        <p:spPr>
          <a:xfrm>
            <a:off x="678168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20"/>
          <p:cNvSpPr/>
          <p:nvPr/>
        </p:nvSpPr>
        <p:spPr>
          <a:xfrm>
            <a:off x="3888720" y="6095880"/>
            <a:ext cx="20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од</a:t>
            </a: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снеж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3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400"/>
                            </p:stCondLst>
                            <p:childTnLst>
                              <p:par>
                                <p:cTn id="224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900"/>
                            </p:stCondLst>
                            <p:childTnLst>
                              <p:par>
                                <p:cTn id="22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3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80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819160" y="1218960"/>
            <a:ext cx="601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Определите, сколько суффиксов и приставок в словах.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599" name="Picture 12" descr="PE01931_"/>
          <p:cNvPicPr/>
          <p:nvPr/>
        </p:nvPicPr>
        <p:blipFill>
          <a:blip r:embed="rId1"/>
          <a:stretch/>
        </p:blipFill>
        <p:spPr>
          <a:xfrm>
            <a:off x="380880" y="762120"/>
            <a:ext cx="2360880" cy="198108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 txBox="1"/>
          <p:nvPr/>
        </p:nvSpPr>
        <p:spPr>
          <a:xfrm>
            <a:off x="2590560" y="3124080"/>
            <a:ext cx="4724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НАВЫДУМЫВАЛ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1142640" y="3886200"/>
            <a:ext cx="3809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ПОДОСИНОВИК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СОРТИРОВЩИК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5028840" y="449532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13272"/>
                </a:solidFill>
                <a:latin typeface="Times New Roman"/>
                <a:ea typeface="Times New Roman"/>
              </a:rPr>
              <a:t>ПРИНАЛЕЧ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БЕССОННИЦ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3" name="WordArt 10"/>
          <p:cNvSpPr txBox="1"/>
          <p:nvPr/>
        </p:nvSpPr>
        <p:spPr>
          <a:xfrm>
            <a:off x="3000240" y="500040"/>
            <a:ext cx="5229360" cy="785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Лингвистическая задач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04" name="Text Box 13"/>
          <p:cNvSpPr/>
          <p:nvPr/>
        </p:nvSpPr>
        <p:spPr>
          <a:xfrm rot="20518200">
            <a:off x="317520" y="2607840"/>
            <a:ext cx="323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то быстре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8500"/>
                            </p:stCondLst>
                            <p:childTnLst>
                              <p:par>
                                <p:cTn id="2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9000"/>
                            </p:stCondLst>
                            <p:childTnLst>
                              <p:par>
                                <p:cTn id="2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57480" y="285840"/>
            <a:ext cx="83581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буйте сами создать слова.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214200" y="1600200"/>
            <a:ext cx="41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ём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к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ая же, как в слове </a:t>
            </a:r>
            <a:r>
              <a:rPr b="0" lang="ru-RU" sz="26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подруг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ень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 в слове </a:t>
            </a:r>
            <a:r>
              <a:rPr b="0" lang="ru-RU" sz="26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игрушк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ы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же, как в слове </a:t>
            </a:r>
            <a:r>
              <a:rPr b="0" lang="ru-RU" sz="26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читал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642920" y="1599840"/>
            <a:ext cx="428652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коренное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 со слово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лётчи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авк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ая же, как в глаголе </a:t>
            </a:r>
            <a:r>
              <a:rPr b="0" lang="ru-RU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ерешёл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ффикс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инаковый с глаголом </a:t>
            </a:r>
            <a:r>
              <a:rPr b="0" lang="ru-RU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лышать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08" name="Picture 9" descr="BD00028_"/>
          <p:cNvPicPr/>
          <p:nvPr/>
        </p:nvPicPr>
        <p:blipFill>
          <a:blip r:embed="rId1"/>
          <a:stretch/>
        </p:blipFill>
        <p:spPr>
          <a:xfrm>
            <a:off x="1523880" y="1214280"/>
            <a:ext cx="1295640" cy="128592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10"/>
          <p:cNvSpPr/>
          <p:nvPr/>
        </p:nvSpPr>
        <p:spPr>
          <a:xfrm>
            <a:off x="1905120" y="5410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то за сло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1"/>
          <p:cNvSpPr/>
          <p:nvPr/>
        </p:nvSpPr>
        <p:spPr>
          <a:xfrm>
            <a:off x="5928480" y="5705640"/>
            <a:ext cx="23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то за сло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5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9" dur="5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500"/>
                            </p:stCondLst>
                            <p:childTnLst>
                              <p:par>
                                <p:cTn id="281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3" dur="500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6000"/>
                            </p:stCondLst>
                            <p:childTnLst>
                              <p:par>
                                <p:cTn id="28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7" dur="500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7500"/>
                            </p:stCondLst>
                            <p:childTnLst>
                              <p:par>
                                <p:cTn id="289" nodeType="afterEffect" fill="hold" presetClass="entr" presetID="12" presetSubtype="8">
                                  <p:stCondLst>
                                    <p:cond delay="7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" dur="75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325"/>
                            </p:stCondLst>
                            <p:childTnLst>
                              <p:par>
                                <p:cTn id="29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5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7825"/>
                            </p:stCondLst>
                            <p:childTnLst>
                              <p:par>
                                <p:cTn id="297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9" dur="500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325"/>
                            </p:stCondLst>
                            <p:childTnLst>
                              <p:par>
                                <p:cTn id="301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3" dur="500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2825"/>
                            </p:stCondLst>
                            <p:childTnLst>
                              <p:par>
                                <p:cTn id="30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7" dur="500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5325"/>
                            </p:stCondLst>
                            <p:childTnLst>
                              <p:par>
                                <p:cTn id="309" nodeType="afterEffect" fill="hold" presetClass="entr" presetID="12" presetSubtype="2">
                                  <p:stCondLst>
                                    <p:cond delay="8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1" dur="75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Запиши   </a:t>
            </a: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ери 10 слов, используя суффиксы   -еньк-, -щик-, -ышк-, -ищ- и всевозможные  приставки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те словообразовательное дерево с корнем -снег-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13" name="Picture 6" descr="SO01871_"/>
          <p:cNvPicPr/>
          <p:nvPr/>
        </p:nvPicPr>
        <p:blipFill>
          <a:blip r:embed="rId1"/>
          <a:stretch/>
        </p:blipFill>
        <p:spPr>
          <a:xfrm>
            <a:off x="457200" y="4267080"/>
            <a:ext cx="8686800" cy="231804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7"/>
          <p:cNvSpPr/>
          <p:nvPr/>
        </p:nvSpPr>
        <p:spPr>
          <a:xfrm>
            <a:off x="21178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WordArt 9" descr=""/>
          <p:cNvPicPr/>
          <p:nvPr/>
        </p:nvPicPr>
        <p:blipFill>
          <a:blip r:embed="rId2"/>
          <a:stretch/>
        </p:blipFill>
        <p:spPr>
          <a:xfrm>
            <a:off x="158760" y="4406760"/>
            <a:ext cx="8004240" cy="1652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900"/>
                            </p:stCondLst>
                            <p:childTnLst>
                              <p:par>
                                <p:cTn id="321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400"/>
                            </p:stCondLst>
                            <p:childTnLst>
                              <p:par>
                                <p:cTn id="326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900"/>
                            </p:stCondLst>
                            <p:childTnLst>
                              <p:par>
                                <p:cTn id="331" nodeType="afterEffect" fill="hold" presetClass="entr" presetID="3" presetSubtype="5">
                                  <p:stCondLst>
                                    <p:cond delay="7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571320" y="3141360"/>
            <a:ext cx="35002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Вводный урок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7-9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классы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643280" y="1071360"/>
            <a:ext cx="450072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ждой душе слово живёт, горит, светится, как звезда на небе… Слово остаётся и летит из поколения в поколение, как свет угасшей звезды во вселенной.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Пришвин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40" name="Picture 2" descr="C:\Documents and Settings\Admin\Рабочий стол\kosmos-4.jpg"/>
          <p:cNvPicPr/>
          <p:nvPr/>
        </p:nvPicPr>
        <p:blipFill>
          <a:blip r:embed="rId1"/>
          <a:stretch/>
        </p:blipFill>
        <p:spPr>
          <a:xfrm>
            <a:off x="0" y="0"/>
            <a:ext cx="49291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6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49968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34817"/>
                </a:solidFill>
                <a:latin typeface="Times New Roman"/>
                <a:ea typeface="Times New Roman"/>
              </a:rPr>
              <a:t>Сколько слов в русском языке?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914400" y="2428560"/>
            <a:ext cx="374976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ак они устроены и растут?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933800" y="2428560"/>
            <a:ext cx="374976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Кто придумывает слова?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545" name="Picture 12" descr="BD00028_"/>
          <p:cNvPicPr/>
          <p:nvPr/>
        </p:nvPicPr>
        <p:blipFill>
          <a:blip r:embed="rId1"/>
          <a:stretch/>
        </p:blipFill>
        <p:spPr>
          <a:xfrm>
            <a:off x="762120" y="2171880"/>
            <a:ext cx="3809880" cy="373212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9528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умайте новые назван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х предметов: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-математика,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-физкультура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-география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-труд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47" name="WordArt 6" descr=""/>
          <p:cNvPicPr/>
          <p:nvPr/>
        </p:nvPicPr>
        <p:blipFill>
          <a:blip r:embed="rId2"/>
          <a:stretch/>
        </p:blipFill>
        <p:spPr>
          <a:xfrm>
            <a:off x="274680" y="493560"/>
            <a:ext cx="8594640" cy="119556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7"/>
          <p:cNvSpPr/>
          <p:nvPr/>
        </p:nvSpPr>
        <p:spPr>
          <a:xfrm>
            <a:off x="5257800" y="1447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500"/>
                            </p:stCondLst>
                            <p:childTnLst>
                              <p:par>
                                <p:cTn id="48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" dur="500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Новые, необычные слова часто в своей речи создают маленькие дети.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ай рубанок, я хочу порубанить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-Вышагни отсюда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Бумага откнопилась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-Я хохотала, хохотала,нахохотала целую комнату</a:t>
            </a:r>
            <a:r>
              <a:rPr b="0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Я возьму нитку и буду нанитывать бусы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1" name="AutoShape 7"/>
          <p:cNvSpPr/>
          <p:nvPr/>
        </p:nvSpPr>
        <p:spPr>
          <a:xfrm>
            <a:off x="2057400" y="2666880"/>
            <a:ext cx="1828800" cy="1524240"/>
          </a:xfrm>
          <a:prstGeom prst="smileyFace">
            <a:avLst>
              <a:gd name="adj" fmla="val 9282"/>
            </a:avLst>
          </a:prstGeom>
          <a:solidFill>
            <a:srgbClr val="9b2d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3260880" y="2362320"/>
            <a:ext cx="146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WordArt 9"/>
          <p:cNvSpPr txBox="1"/>
          <p:nvPr/>
        </p:nvSpPr>
        <p:spPr>
          <a:xfrm>
            <a:off x="1066680" y="2362320"/>
            <a:ext cx="3886200" cy="1371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408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Улыбнёмся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  <p:sp>
        <p:nvSpPr>
          <p:cNvPr id="554" name="Text Box 10"/>
          <p:cNvSpPr/>
          <p:nvPr/>
        </p:nvSpPr>
        <p:spPr>
          <a:xfrm>
            <a:off x="1219320" y="4267080"/>
            <a:ext cx="359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отрывки из книги К.Чуковского «От двух до пя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7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3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8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2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7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1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42976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Вы поняли, как образуются «детские слова» ?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3160" y="2437920"/>
            <a:ext cx="434340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еведите с «детского» на русский язык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57" name="Picture 13" descr="PE02043_"/>
          <p:cNvPicPr/>
          <p:nvPr/>
        </p:nvPicPr>
        <p:blipFill>
          <a:blip r:embed="rId1"/>
          <a:stretch/>
        </p:blipFill>
        <p:spPr>
          <a:xfrm>
            <a:off x="5643720" y="2895480"/>
            <a:ext cx="2503440" cy="365760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7"/>
          <p:cNvSpPr/>
          <p:nvPr/>
        </p:nvSpPr>
        <p:spPr>
          <a:xfrm>
            <a:off x="5562720" y="178596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добию, по схожести с другими сло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0"/>
          <p:cNvSpPr/>
          <p:nvPr/>
        </p:nvSpPr>
        <p:spPr>
          <a:xfrm>
            <a:off x="838080" y="3200400"/>
            <a:ext cx="3886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тки,  стриганок, ползук, копатки, пальчатки, людь, одуван, мазелин, колоток, улицион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5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90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не все слова придумываются. Слова ещё можно «строить», «выращивать»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2133720" y="457200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      А       К    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9" descr="SO01862_"/>
          <p:cNvPicPr/>
          <p:nvPr/>
        </p:nvPicPr>
        <p:blipFill>
          <a:blip r:embed="rId1"/>
          <a:stretch/>
        </p:blipFill>
        <p:spPr>
          <a:xfrm>
            <a:off x="357120" y="4143240"/>
            <a:ext cx="8534520" cy="15242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0" descr="SO01871_"/>
          <p:cNvPicPr/>
          <p:nvPr/>
        </p:nvPicPr>
        <p:blipFill>
          <a:blip r:embed="rId2"/>
          <a:stretch/>
        </p:blipFill>
        <p:spPr>
          <a:xfrm>
            <a:off x="826920" y="428760"/>
            <a:ext cx="7848720" cy="121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2" presetSubtype="8">
                                  <p:stCondLst>
                                    <p:cond delay="4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" dur="75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214200" y="856800"/>
            <a:ext cx="4662720" cy="53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 вырастают как обычные деревья – из </a:t>
            </a:r>
            <a:r>
              <a:rPr b="1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корня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Корен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главная часть слова, она даёт жизнь многим словам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обрать и записать все слова, выросшие из одного корня, то получится целое </a:t>
            </a:r>
            <a:r>
              <a:rPr b="1" lang="ru-RU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словообразовательное дерево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65" name="Picture 7" descr="NA01441_"/>
          <p:cNvPicPr/>
          <p:nvPr/>
        </p:nvPicPr>
        <p:blipFill>
          <a:blip r:embed="rId1"/>
          <a:stretch/>
        </p:blipFill>
        <p:spPr>
          <a:xfrm>
            <a:off x="5105520" y="1295280"/>
            <a:ext cx="3646440" cy="5073840"/>
          </a:xfrm>
          <a:prstGeom prst="rect">
            <a:avLst/>
          </a:prstGeom>
          <a:ln w="0">
            <a:noFill/>
          </a:ln>
        </p:spPr>
      </p:pic>
      <p:sp>
        <p:nvSpPr>
          <p:cNvPr id="566" name="Freeform 11"/>
          <p:cNvSpPr/>
          <p:nvPr/>
        </p:nvSpPr>
        <p:spPr>
          <a:xfrm>
            <a:off x="5334120" y="6172200"/>
            <a:ext cx="1455480" cy="635040"/>
          </a:xfrm>
          <a:custGeom>
            <a:avLst/>
            <a:gdLst>
              <a:gd name="textAreaLeft" fmla="*/ 0 w 1455480"/>
              <a:gd name="textAreaRight" fmla="*/ 1455840 w 1455480"/>
              <a:gd name="textAreaTop" fmla="*/ 0 h 635040"/>
              <a:gd name="textAreaBottom" fmla="*/ 635040 h 635040"/>
            </a:gdLst>
            <a:ahLst/>
            <a:rect l="textAreaLeft" t="textAreaTop" r="textAreaRight" b="textAreaBottom"/>
            <a:pathLst>
              <a:path w="917" h="400">
                <a:moveTo>
                  <a:pt x="917" y="0"/>
                </a:moveTo>
                <a:cubicBezTo>
                  <a:pt x="913" y="20"/>
                  <a:pt x="917" y="43"/>
                  <a:pt x="906" y="59"/>
                </a:cubicBezTo>
                <a:cubicBezTo>
                  <a:pt x="871" y="110"/>
                  <a:pt x="635" y="117"/>
                  <a:pt x="623" y="118"/>
                </a:cubicBezTo>
                <a:cubicBezTo>
                  <a:pt x="569" y="153"/>
                  <a:pt x="539" y="202"/>
                  <a:pt x="494" y="247"/>
                </a:cubicBezTo>
                <a:cubicBezTo>
                  <a:pt x="486" y="271"/>
                  <a:pt x="479" y="294"/>
                  <a:pt x="471" y="318"/>
                </a:cubicBezTo>
                <a:cubicBezTo>
                  <a:pt x="466" y="334"/>
                  <a:pt x="153" y="353"/>
                  <a:pt x="153" y="353"/>
                </a:cubicBezTo>
                <a:cubicBezTo>
                  <a:pt x="98" y="362"/>
                  <a:pt x="41" y="361"/>
                  <a:pt x="0" y="400"/>
                </a:cubicBezTo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12"/>
          <p:cNvSpPr/>
          <p:nvPr/>
        </p:nvSpPr>
        <p:spPr>
          <a:xfrm>
            <a:off x="6773760" y="6326280"/>
            <a:ext cx="952560" cy="541080"/>
          </a:xfrm>
          <a:custGeom>
            <a:avLst/>
            <a:gdLst>
              <a:gd name="textAreaLeft" fmla="*/ 0 w 952560"/>
              <a:gd name="textAreaRight" fmla="*/ 952920 w 952560"/>
              <a:gd name="textAreaTop" fmla="*/ 0 h 541080"/>
              <a:gd name="textAreaBottom" fmla="*/ 541080 h 541080"/>
            </a:gdLst>
            <a:ahLst/>
            <a:rect l="textAreaLeft" t="textAreaTop" r="textAreaRight" b="textAreaBottom"/>
            <a:pathLst>
              <a:path w="600" h="341">
                <a:moveTo>
                  <a:pt x="0" y="0"/>
                </a:moveTo>
                <a:cubicBezTo>
                  <a:pt x="25" y="72"/>
                  <a:pt x="97" y="113"/>
                  <a:pt x="165" y="141"/>
                </a:cubicBezTo>
                <a:cubicBezTo>
                  <a:pt x="188" y="150"/>
                  <a:pt x="235" y="165"/>
                  <a:pt x="235" y="165"/>
                </a:cubicBezTo>
                <a:cubicBezTo>
                  <a:pt x="255" y="163"/>
                  <a:pt x="386" y="137"/>
                  <a:pt x="435" y="165"/>
                </a:cubicBezTo>
                <a:cubicBezTo>
                  <a:pt x="485" y="194"/>
                  <a:pt x="501" y="280"/>
                  <a:pt x="541" y="306"/>
                </a:cubicBezTo>
                <a:cubicBezTo>
                  <a:pt x="583" y="334"/>
                  <a:pt x="564" y="323"/>
                  <a:pt x="600" y="341"/>
                </a:cubicBezTo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13"/>
          <p:cNvSpPr/>
          <p:nvPr/>
        </p:nvSpPr>
        <p:spPr>
          <a:xfrm>
            <a:off x="7445520" y="6288120"/>
            <a:ext cx="1120680" cy="523800"/>
          </a:xfrm>
          <a:custGeom>
            <a:avLst/>
            <a:gdLst>
              <a:gd name="textAreaLeft" fmla="*/ 0 w 1120680"/>
              <a:gd name="textAreaRight" fmla="*/ 1121040 w 112068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706" h="330">
                <a:moveTo>
                  <a:pt x="0" y="0"/>
                </a:moveTo>
                <a:cubicBezTo>
                  <a:pt x="25" y="37"/>
                  <a:pt x="29" y="95"/>
                  <a:pt x="47" y="118"/>
                </a:cubicBezTo>
                <a:cubicBezTo>
                  <a:pt x="79" y="158"/>
                  <a:pt x="149" y="148"/>
                  <a:pt x="188" y="153"/>
                </a:cubicBezTo>
                <a:cubicBezTo>
                  <a:pt x="248" y="161"/>
                  <a:pt x="254" y="164"/>
                  <a:pt x="306" y="177"/>
                </a:cubicBezTo>
                <a:cubicBezTo>
                  <a:pt x="344" y="215"/>
                  <a:pt x="408" y="313"/>
                  <a:pt x="470" y="318"/>
                </a:cubicBezTo>
                <a:cubicBezTo>
                  <a:pt x="548" y="325"/>
                  <a:pt x="706" y="330"/>
                  <a:pt x="706" y="330"/>
                </a:cubicBezTo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14"/>
          <p:cNvSpPr/>
          <p:nvPr/>
        </p:nvSpPr>
        <p:spPr>
          <a:xfrm>
            <a:off x="6643800" y="6176880"/>
            <a:ext cx="1231920" cy="746280"/>
          </a:xfrm>
          <a:custGeom>
            <a:avLst/>
            <a:gdLst>
              <a:gd name="textAreaLeft" fmla="*/ 0 w 1231920"/>
              <a:gd name="textAreaRight" fmla="*/ 1232280 w 123192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776" h="470">
                <a:moveTo>
                  <a:pt x="258" y="59"/>
                </a:moveTo>
                <a:cubicBezTo>
                  <a:pt x="278" y="118"/>
                  <a:pt x="297" y="94"/>
                  <a:pt x="317" y="153"/>
                </a:cubicBezTo>
                <a:cubicBezTo>
                  <a:pt x="316" y="162"/>
                  <a:pt x="317" y="264"/>
                  <a:pt x="282" y="282"/>
                </a:cubicBezTo>
                <a:cubicBezTo>
                  <a:pt x="239" y="304"/>
                  <a:pt x="131" y="321"/>
                  <a:pt x="82" y="329"/>
                </a:cubicBezTo>
                <a:cubicBezTo>
                  <a:pt x="2" y="383"/>
                  <a:pt x="21" y="403"/>
                  <a:pt x="0" y="341"/>
                </a:cubicBezTo>
                <a:cubicBezTo>
                  <a:pt x="4" y="329"/>
                  <a:pt x="1" y="312"/>
                  <a:pt x="12" y="306"/>
                </a:cubicBezTo>
                <a:cubicBezTo>
                  <a:pt x="56" y="281"/>
                  <a:pt x="147" y="271"/>
                  <a:pt x="200" y="259"/>
                </a:cubicBezTo>
                <a:cubicBezTo>
                  <a:pt x="224" y="253"/>
                  <a:pt x="270" y="235"/>
                  <a:pt x="270" y="235"/>
                </a:cubicBezTo>
                <a:cubicBezTo>
                  <a:pt x="258" y="141"/>
                  <a:pt x="269" y="131"/>
                  <a:pt x="188" y="106"/>
                </a:cubicBezTo>
                <a:cubicBezTo>
                  <a:pt x="180" y="94"/>
                  <a:pt x="170" y="83"/>
                  <a:pt x="164" y="70"/>
                </a:cubicBezTo>
                <a:cubicBezTo>
                  <a:pt x="144" y="30"/>
                  <a:pt x="160" y="0"/>
                  <a:pt x="141" y="94"/>
                </a:cubicBezTo>
                <a:cubicBezTo>
                  <a:pt x="149" y="110"/>
                  <a:pt x="149" y="133"/>
                  <a:pt x="164" y="141"/>
                </a:cubicBezTo>
                <a:cubicBezTo>
                  <a:pt x="217" y="170"/>
                  <a:pt x="283" y="169"/>
                  <a:pt x="341" y="188"/>
                </a:cubicBezTo>
                <a:cubicBezTo>
                  <a:pt x="437" y="253"/>
                  <a:pt x="383" y="231"/>
                  <a:pt x="505" y="247"/>
                </a:cubicBezTo>
                <a:cubicBezTo>
                  <a:pt x="529" y="255"/>
                  <a:pt x="563" y="249"/>
                  <a:pt x="576" y="270"/>
                </a:cubicBezTo>
                <a:cubicBezTo>
                  <a:pt x="614" y="330"/>
                  <a:pt x="587" y="298"/>
                  <a:pt x="670" y="353"/>
                </a:cubicBezTo>
                <a:cubicBezTo>
                  <a:pt x="682" y="361"/>
                  <a:pt x="693" y="368"/>
                  <a:pt x="705" y="376"/>
                </a:cubicBezTo>
                <a:cubicBezTo>
                  <a:pt x="717" y="384"/>
                  <a:pt x="740" y="400"/>
                  <a:pt x="740" y="400"/>
                </a:cubicBezTo>
                <a:cubicBezTo>
                  <a:pt x="744" y="412"/>
                  <a:pt x="746" y="424"/>
                  <a:pt x="752" y="435"/>
                </a:cubicBezTo>
                <a:cubicBezTo>
                  <a:pt x="758" y="448"/>
                  <a:pt x="776" y="470"/>
                  <a:pt x="776" y="470"/>
                </a:cubicBezTo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16"/>
          <p:cNvSpPr/>
          <p:nvPr/>
        </p:nvSpPr>
        <p:spPr>
          <a:xfrm>
            <a:off x="7165800" y="6307200"/>
            <a:ext cx="1436760" cy="631800"/>
          </a:xfrm>
          <a:custGeom>
            <a:avLst/>
            <a:gdLst>
              <a:gd name="textAreaLeft" fmla="*/ 0 w 1436760"/>
              <a:gd name="textAreaRight" fmla="*/ 1437120 w 1436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905" h="398">
                <a:moveTo>
                  <a:pt x="0" y="0"/>
                </a:moveTo>
                <a:cubicBezTo>
                  <a:pt x="62" y="42"/>
                  <a:pt x="124" y="77"/>
                  <a:pt x="176" y="130"/>
                </a:cubicBezTo>
                <a:cubicBezTo>
                  <a:pt x="220" y="257"/>
                  <a:pt x="396" y="248"/>
                  <a:pt x="505" y="271"/>
                </a:cubicBezTo>
                <a:cubicBezTo>
                  <a:pt x="543" y="295"/>
                  <a:pt x="571" y="332"/>
                  <a:pt x="611" y="353"/>
                </a:cubicBezTo>
                <a:cubicBezTo>
                  <a:pt x="664" y="380"/>
                  <a:pt x="733" y="382"/>
                  <a:pt x="788" y="388"/>
                </a:cubicBezTo>
                <a:cubicBezTo>
                  <a:pt x="893" y="375"/>
                  <a:pt x="860" y="398"/>
                  <a:pt x="905" y="353"/>
                </a:cubicBezTo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17"/>
          <p:cNvSpPr/>
          <p:nvPr/>
        </p:nvSpPr>
        <p:spPr>
          <a:xfrm>
            <a:off x="6345360" y="6513480"/>
            <a:ext cx="204840" cy="290520"/>
          </a:xfrm>
          <a:custGeom>
            <a:avLst/>
            <a:gdLst>
              <a:gd name="textAreaLeft" fmla="*/ 0 w 204840"/>
              <a:gd name="textAreaRight" fmla="*/ 205200 w 204840"/>
              <a:gd name="textAreaTop" fmla="*/ 0 h 290520"/>
              <a:gd name="textAreaBottom" fmla="*/ 290520 h 290520"/>
            </a:gdLst>
            <a:ahLst/>
            <a:rect l="textAreaLeft" t="textAreaTop" r="textAreaRight" b="textAreaBottom"/>
            <a:pathLst>
              <a:path w="129" h="183">
                <a:moveTo>
                  <a:pt x="0" y="0"/>
                </a:moveTo>
                <a:cubicBezTo>
                  <a:pt x="70" y="46"/>
                  <a:pt x="59" y="106"/>
                  <a:pt x="129" y="152"/>
                </a:cubicBezTo>
                <a:cubicBezTo>
                  <a:pt x="117" y="160"/>
                  <a:pt x="106" y="183"/>
                  <a:pt x="94" y="176"/>
                </a:cubicBezTo>
                <a:cubicBezTo>
                  <a:pt x="32" y="140"/>
                  <a:pt x="45" y="45"/>
                  <a:pt x="0" y="0"/>
                </a:cubicBezTo>
                <a:close/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18"/>
          <p:cNvSpPr/>
          <p:nvPr/>
        </p:nvSpPr>
        <p:spPr>
          <a:xfrm>
            <a:off x="7464600" y="6251400"/>
            <a:ext cx="984240" cy="298800"/>
          </a:xfrm>
          <a:custGeom>
            <a:avLst/>
            <a:gdLst>
              <a:gd name="textAreaLeft" fmla="*/ 0 w 984240"/>
              <a:gd name="textAreaRight" fmla="*/ 984600 w 984240"/>
              <a:gd name="textAreaTop" fmla="*/ 0 h 298800"/>
              <a:gd name="textAreaBottom" fmla="*/ 299160 h 298800"/>
            </a:gdLst>
            <a:ahLst/>
            <a:rect l="textAreaLeft" t="textAreaTop" r="textAreaRight" b="textAreaBottom"/>
            <a:pathLst>
              <a:path w="620" h="188">
                <a:moveTo>
                  <a:pt x="0" y="0"/>
                </a:moveTo>
                <a:cubicBezTo>
                  <a:pt x="83" y="62"/>
                  <a:pt x="110" y="88"/>
                  <a:pt x="200" y="118"/>
                </a:cubicBezTo>
                <a:cubicBezTo>
                  <a:pt x="256" y="137"/>
                  <a:pt x="317" y="125"/>
                  <a:pt x="376" y="129"/>
                </a:cubicBezTo>
                <a:cubicBezTo>
                  <a:pt x="493" y="169"/>
                  <a:pt x="620" y="133"/>
                  <a:pt x="294" y="153"/>
                </a:cubicBezTo>
                <a:cubicBezTo>
                  <a:pt x="263" y="161"/>
                  <a:pt x="231" y="168"/>
                  <a:pt x="200" y="176"/>
                </a:cubicBezTo>
                <a:cubicBezTo>
                  <a:pt x="184" y="180"/>
                  <a:pt x="153" y="188"/>
                  <a:pt x="153" y="188"/>
                </a:cubicBezTo>
                <a:cubicBezTo>
                  <a:pt x="84" y="176"/>
                  <a:pt x="35" y="176"/>
                  <a:pt x="35" y="94"/>
                </a:cubicBezTo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19"/>
          <p:cNvSpPr/>
          <p:nvPr/>
        </p:nvSpPr>
        <p:spPr>
          <a:xfrm>
            <a:off x="6518160" y="6213600"/>
            <a:ext cx="317520" cy="504720"/>
          </a:xfrm>
          <a:custGeom>
            <a:avLst/>
            <a:gdLst>
              <a:gd name="textAreaLeft" fmla="*/ 0 w 317520"/>
              <a:gd name="textAreaRight" fmla="*/ 317880 w 317520"/>
              <a:gd name="textAreaTop" fmla="*/ 0 h 504720"/>
              <a:gd name="textAreaBottom" fmla="*/ 504720 h 504720"/>
            </a:gdLst>
            <a:ahLst/>
            <a:rect l="textAreaLeft" t="textAreaTop" r="textAreaRight" b="textAreaBottom"/>
            <a:pathLst>
              <a:path w="200" h="318">
                <a:moveTo>
                  <a:pt x="149" y="130"/>
                </a:moveTo>
                <a:cubicBezTo>
                  <a:pt x="103" y="84"/>
                  <a:pt x="93" y="62"/>
                  <a:pt x="32" y="83"/>
                </a:cubicBezTo>
                <a:cubicBezTo>
                  <a:pt x="24" y="95"/>
                  <a:pt x="5" y="104"/>
                  <a:pt x="8" y="118"/>
                </a:cubicBezTo>
                <a:cubicBezTo>
                  <a:pt x="17" y="165"/>
                  <a:pt x="125" y="130"/>
                  <a:pt x="126" y="130"/>
                </a:cubicBezTo>
                <a:cubicBezTo>
                  <a:pt x="134" y="114"/>
                  <a:pt x="143" y="99"/>
                  <a:pt x="149" y="83"/>
                </a:cubicBezTo>
                <a:cubicBezTo>
                  <a:pt x="155" y="68"/>
                  <a:pt x="161" y="20"/>
                  <a:pt x="161" y="36"/>
                </a:cubicBezTo>
                <a:cubicBezTo>
                  <a:pt x="161" y="124"/>
                  <a:pt x="98" y="169"/>
                  <a:pt x="32" y="212"/>
                </a:cubicBezTo>
                <a:cubicBezTo>
                  <a:pt x="4" y="295"/>
                  <a:pt x="0" y="259"/>
                  <a:pt x="20" y="318"/>
                </a:cubicBezTo>
                <a:cubicBezTo>
                  <a:pt x="50" y="278"/>
                  <a:pt x="64" y="241"/>
                  <a:pt x="91" y="200"/>
                </a:cubicBezTo>
                <a:cubicBezTo>
                  <a:pt x="115" y="124"/>
                  <a:pt x="81" y="198"/>
                  <a:pt x="138" y="153"/>
                </a:cubicBezTo>
                <a:cubicBezTo>
                  <a:pt x="145" y="147"/>
                  <a:pt x="194" y="56"/>
                  <a:pt x="196" y="47"/>
                </a:cubicBezTo>
                <a:cubicBezTo>
                  <a:pt x="200" y="32"/>
                  <a:pt x="196" y="16"/>
                  <a:pt x="196" y="0"/>
                </a:cubicBezTo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20"/>
          <p:cNvSpPr/>
          <p:nvPr/>
        </p:nvSpPr>
        <p:spPr>
          <a:xfrm>
            <a:off x="8205480" y="62388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33"/>
                </a:solidFill>
                <a:latin typeface="Calibri"/>
              </a:rPr>
              <a:t>-вод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21"/>
          <p:cNvSpPr/>
          <p:nvPr/>
        </p:nvSpPr>
        <p:spPr>
          <a:xfrm>
            <a:off x="5168520" y="43848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о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2"/>
          <p:cNvSpPr/>
          <p:nvPr/>
        </p:nvSpPr>
        <p:spPr>
          <a:xfrm>
            <a:off x="7467480" y="3774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подво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3"/>
          <p:cNvSpPr/>
          <p:nvPr/>
        </p:nvSpPr>
        <p:spPr>
          <a:xfrm>
            <a:off x="7772400" y="1565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одя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4"/>
          <p:cNvSpPr/>
          <p:nvPr/>
        </p:nvSpPr>
        <p:spPr>
          <a:xfrm rot="19350600">
            <a:off x="4682880" y="1819080"/>
            <a:ext cx="20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одово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5"/>
          <p:cNvSpPr/>
          <p:nvPr/>
        </p:nvSpPr>
        <p:spPr>
          <a:xfrm>
            <a:off x="6842520" y="8794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оди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26"/>
          <p:cNvSpPr/>
          <p:nvPr/>
        </p:nvSpPr>
        <p:spPr>
          <a:xfrm rot="2040600">
            <a:off x="8444160" y="24825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27"/>
          <p:cNvSpPr/>
          <p:nvPr/>
        </p:nvSpPr>
        <p:spPr>
          <a:xfrm>
            <a:off x="6008760" y="6381720"/>
            <a:ext cx="522360" cy="458640"/>
          </a:xfrm>
          <a:custGeom>
            <a:avLst/>
            <a:gdLst>
              <a:gd name="textAreaLeft" fmla="*/ 0 w 522360"/>
              <a:gd name="textAreaRight" fmla="*/ 522720 w 522360"/>
              <a:gd name="textAreaTop" fmla="*/ 0 h 458640"/>
              <a:gd name="textAreaBottom" fmla="*/ 459000 h 458640"/>
            </a:gdLst>
            <a:ahLst/>
            <a:rect l="textAreaLeft" t="textAreaTop" r="textAreaRight" b="textAreaBottom"/>
            <a:pathLst>
              <a:path w="329" h="289">
                <a:moveTo>
                  <a:pt x="329" y="0"/>
                </a:moveTo>
                <a:cubicBezTo>
                  <a:pt x="232" y="12"/>
                  <a:pt x="227" y="2"/>
                  <a:pt x="200" y="83"/>
                </a:cubicBezTo>
                <a:cubicBezTo>
                  <a:pt x="196" y="110"/>
                  <a:pt x="193" y="138"/>
                  <a:pt x="188" y="165"/>
                </a:cubicBezTo>
                <a:cubicBezTo>
                  <a:pt x="165" y="289"/>
                  <a:pt x="134" y="259"/>
                  <a:pt x="0" y="271"/>
                </a:cubicBezTo>
                <a:cubicBezTo>
                  <a:pt x="49" y="237"/>
                  <a:pt x="73" y="190"/>
                  <a:pt x="106" y="141"/>
                </a:cubicBezTo>
                <a:cubicBezTo>
                  <a:pt x="119" y="121"/>
                  <a:pt x="153" y="134"/>
                  <a:pt x="176" y="130"/>
                </a:cubicBezTo>
                <a:cubicBezTo>
                  <a:pt x="185" y="102"/>
                  <a:pt x="205" y="65"/>
                  <a:pt x="176" y="36"/>
                </a:cubicBezTo>
                <a:cubicBezTo>
                  <a:pt x="167" y="27"/>
                  <a:pt x="153" y="43"/>
                  <a:pt x="141" y="47"/>
                </a:cubicBezTo>
                <a:cubicBezTo>
                  <a:pt x="145" y="86"/>
                  <a:pt x="138" y="129"/>
                  <a:pt x="153" y="165"/>
                </a:cubicBezTo>
                <a:cubicBezTo>
                  <a:pt x="158" y="178"/>
                  <a:pt x="171" y="143"/>
                  <a:pt x="176" y="130"/>
                </a:cubicBezTo>
                <a:cubicBezTo>
                  <a:pt x="187" y="100"/>
                  <a:pt x="183" y="63"/>
                  <a:pt x="200" y="36"/>
                </a:cubicBezTo>
                <a:cubicBezTo>
                  <a:pt x="208" y="24"/>
                  <a:pt x="223" y="0"/>
                  <a:pt x="223" y="0"/>
                </a:cubicBezTo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7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500"/>
                            </p:stCondLst>
                            <p:childTnLst>
                              <p:par>
                                <p:cTn id="13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8000"/>
                            </p:stCondLst>
                            <p:childTnLst>
                              <p:par>
                                <p:cTn id="14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9500"/>
                            </p:stCondLst>
                            <p:childTnLst>
                              <p:par>
                                <p:cTn id="14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1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3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4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На одном ли дереве выросли слова?   </a:t>
            </a:r>
            <a:br>
              <a:rPr sz="2900"/>
            </a:br>
            <a:r>
              <a:rPr b="0" i="1" lang="ru-RU" sz="29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Найди ошибку. Обоснуй свой ответ</a:t>
            </a:r>
            <a:r>
              <a:rPr b="0" i="1" lang="ru-RU" sz="2900" spc="-1" strike="noStrike">
                <a:solidFill>
                  <a:srgbClr val="696464"/>
                </a:solidFill>
                <a:latin typeface="Calibri"/>
              </a:rPr>
              <a:t>.</a:t>
            </a:r>
            <a:r>
              <a:rPr b="0" i="1" lang="ru-RU" sz="3600" spc="-1" strike="noStrike">
                <a:solidFill>
                  <a:srgbClr val="696464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583" name="Picture 10" descr="NA01441_"/>
          <p:cNvPicPr/>
          <p:nvPr/>
        </p:nvPicPr>
        <p:blipFill>
          <a:blip r:embed="rId1"/>
          <a:stretch/>
        </p:blipFill>
        <p:spPr>
          <a:xfrm>
            <a:off x="2225520" y="3316320"/>
            <a:ext cx="1492560" cy="168588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1051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тьс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ить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льщик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ние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упка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л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альник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пой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5" name="WordArt 8"/>
          <p:cNvSpPr txBox="1"/>
          <p:nvPr/>
        </p:nvSpPr>
        <p:spPr>
          <a:xfrm>
            <a:off x="2209680" y="914400"/>
            <a:ext cx="5334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ВЫПОЛНИ ЗАДА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6" name="Text Box 11"/>
          <p:cNvSpPr/>
          <p:nvPr/>
        </p:nvSpPr>
        <p:spPr>
          <a:xfrm>
            <a:off x="1447920" y="61722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2"/>
          <p:cNvSpPr/>
          <p:nvPr/>
        </p:nvSpPr>
        <p:spPr>
          <a:xfrm>
            <a:off x="1981080" y="6338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- к у п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9-25T19:22:48Z</dcterms:modified>
  <cp:revision>14</cp:revision>
  <dc:subject/>
  <dc:title>Слайд 1</dc:title>
</cp:coreProperties>
</file>