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-360" y="-7391880"/>
            <a:ext cx="360" cy="345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-351000"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72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4680" y="4680"/>
            <a:ext cx="324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2362320" y="812880"/>
            <a:ext cx="28350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01E-334A-4D26-A9CB-E047E8A7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299-F13D-41C1-B589-F10E3E35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EE0C-CD99-47E4-B295-342BDFAE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A7D-26A4-4013-8897-36F4D57F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CC1-739B-415F-852F-B8BFFB72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451F-111C-45A3-B3A5-27824649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5ACB-36EF-4B29-8E14-4EB0D40E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9A7-9C4A-4843-807B-76974896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8433-2237-4991-B495-DA122E3D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8A8-434E-4BB0-A16E-9F97D86F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78B-34A9-4072-B4E5-5D94EF67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660-DE56-4559-8861-05C2694C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263A-F7DE-4B85-AB5E-6F9AF88F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B2B1-EC1B-481C-B4A5-B28A047D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8C2B-8629-41B7-B7C1-65C3E964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1AFC-0811-4549-AAFB-D575B143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CAC2-24B9-40E6-83A7-35E8D817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326E-838E-4031-8172-FA729450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BF89-F8D0-49C9-B99F-F7F7922D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C010-4E1F-4113-A449-03B3C031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DEED-9DB4-4257-854A-7819A1A8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7D1A-D061-4A08-8BDD-8F79B5F2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6DB0-4C1F-4B67-9F24-FEBF5010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E66D-61F9-449E-9D8A-9E068044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04800"/>
            <a:ext cx="8599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6240"/>
            <a:ext cx="8409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536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1720" indent="-42408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5900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47720" indent="-42696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47720" indent="-426960">
              <a:lnSpc>
                <a:spcPct val="82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47720" indent="-426960">
              <a:lnSpc>
                <a:spcPct val="82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B04B03-5842-4842-A143-38D3B36C1A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40880" y="1963800"/>
            <a:ext cx="87663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"/>
          <p:cNvSpPr/>
          <p:nvPr/>
        </p:nvSpPr>
        <p:spPr>
          <a:xfrm>
            <a:off x="0" y="2048040"/>
            <a:ext cx="612720" cy="551160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600"/>
              <a:gd name="textAreaBottom" fmla="*/ 5511240 h 5511600"/>
            </a:gdLst>
            <a:ahLst/>
            <a:rect l="textAreaLeft" t="textAreaTop" r="textAreaRight" b="textAreaBottom"/>
            <a:pathLst>
              <a:path w="21600" h="194197">
                <a:moveTo>
                  <a:pt x="55" y="0"/>
                </a:moveTo>
                <a:arcTo wR="55" hR="55" stAng="16200000" swAng="-5400000"/>
                <a:lnTo>
                  <a:pt x="0" y="194142"/>
                </a:lnTo>
                <a:arcTo wR="55" hR="55" stAng="10800000" swAng="-5400000"/>
                <a:lnTo>
                  <a:pt x="21545" y="194197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0" y="1905120"/>
            <a:ext cx="10080720" cy="196560"/>
          </a:xfrm>
          <a:prstGeom prst="roundRect">
            <a:avLst>
              <a:gd name="adj" fmla="val 806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4"/>
          </p:nvPr>
        </p:nvSpPr>
        <p:spPr>
          <a:xfrm>
            <a:off x="336240" y="6887880"/>
            <a:ext cx="20890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5"/>
          </p:nvPr>
        </p:nvSpPr>
        <p:spPr>
          <a:xfrm>
            <a:off x="3443040" y="6887880"/>
            <a:ext cx="318132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6"/>
          </p:nvPr>
        </p:nvSpPr>
        <p:spPr>
          <a:xfrm>
            <a:off x="7727760" y="6887880"/>
            <a:ext cx="20890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4C3583-7CBB-4D6A-AF38-4BCA774611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0360" y="392040"/>
            <a:ext cx="907272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Задача №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1</a:t>
            </a: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 (устно)</a:t>
            </a:r>
            <a:br>
              <a:rPr sz="4000"/>
            </a:b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По первым буквам нарисованных предметов прочти имя геро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4181400" y="3959280"/>
            <a:ext cx="2119320" cy="21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374760" y="3419640"/>
            <a:ext cx="1425600" cy="1439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1347840" y="4635360"/>
            <a:ext cx="1352520" cy="1305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4"/>
          <a:stretch/>
        </p:blipFill>
        <p:spPr>
          <a:xfrm>
            <a:off x="2519280" y="3600360"/>
            <a:ext cx="1800360" cy="1209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5"/>
          <a:stretch/>
        </p:blipFill>
        <p:spPr>
          <a:xfrm>
            <a:off x="5940360" y="301464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6"/>
          <a:stretch/>
        </p:blipFill>
        <p:spPr>
          <a:xfrm>
            <a:off x="7053120" y="4140360"/>
            <a:ext cx="1408320" cy="126036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8"/>
          <p:cNvSpPr/>
          <p:nvPr/>
        </p:nvSpPr>
        <p:spPr>
          <a:xfrm>
            <a:off x="8280360" y="3240000"/>
            <a:ext cx="1081080" cy="10810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1920" indent="0" algn="ctr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Задача №</a:t>
            </a:r>
            <a:r>
              <a:rPr b="0" lang="ru-RU" sz="4400" spc="-1" strike="noStrike">
                <a:solidFill>
                  <a:srgbClr val="ff9966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0360" y="1901880"/>
            <a:ext cx="933912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e6e6e6"/>
                </a:solidFill>
                <a:latin typeface="Times New Roman"/>
              </a:rPr>
              <a:t>А)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(устно) По первым буквам написанных слов прочтите новое слово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8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e6e6e6"/>
                </a:solidFill>
                <a:latin typeface="Times New Roman"/>
              </a:rPr>
              <a:t>КОТ, РЫБА, ОКУНЬ, ЛЕС, ИГЛА, КОЗА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8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Б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(в тетради)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    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Таким же способом закодируйте своё имя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720360"/>
            <a:ext cx="907272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19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99284c"/>
                </a:solidFill>
                <a:latin typeface="Arial"/>
              </a:rPr>
              <a:t>Задача № </a:t>
            </a:r>
            <a:r>
              <a:rPr b="1" i="1" lang="ru-RU" sz="6000" spc="-1" strike="noStrike">
                <a:solidFill>
                  <a:srgbClr val="99284c"/>
                </a:solidFill>
                <a:latin typeface="Arial"/>
              </a:rPr>
              <a:t>3</a:t>
            </a:r>
            <a:r>
              <a:rPr b="1" i="1" lang="en-GB" sz="60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6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79640" y="1619280"/>
            <a:ext cx="7920000" cy="55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03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Раскодировать сообщение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(11,1), (12,1), (5,2), (3,1), (6,3), (10,1), (12,1), (2,2), (1,3), (2,3), (5,1), (4,2), (1,3), (4,2), (6,1), (12,1), (3,2), (12,1), (10,3), (4,1), (6,2), (5,1), (2,2), (3,1), (1,3), (9,2), (10,3), (6,3), (11,3)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Уч. стр. 30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539640" y="539640"/>
            <a:ext cx="900108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26960" indent="-322200" algn="ctr">
              <a:lnSpc>
                <a:spcPct val="93000"/>
              </a:lnSpc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При </a:t>
            </a:r>
            <a:r>
              <a:rPr b="1" lang="en-GB" sz="5400" spc="-1" strike="noStrike">
                <a:solidFill>
                  <a:srgbClr val="ff0000"/>
                </a:solidFill>
                <a:latin typeface="Arial"/>
                <a:ea typeface="MS Gothic"/>
              </a:rPr>
              <a:t>кодировании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и </a:t>
            </a:r>
            <a:r>
              <a:rPr b="1" lang="en-GB" sz="5400" spc="-1" strike="noStrike">
                <a:solidFill>
                  <a:srgbClr val="ff0000"/>
                </a:solidFill>
                <a:latin typeface="Arial"/>
                <a:ea typeface="MS Gothic"/>
              </a:rPr>
              <a:t>декодировании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происходит обработка информации связанная с изменением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формы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представления информации, а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не содержания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1"/>
          <p:cNvSpPr txBox="1"/>
          <p:nvPr/>
        </p:nvSpPr>
        <p:spPr>
          <a:xfrm>
            <a:off x="595440" y="922320"/>
            <a:ext cx="9090000" cy="500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менение формы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едставления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нформаци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1618920"/>
            <a:ext cx="907236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Систематизировать информацию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 - </a:t>
            </a:r>
            <a:br>
              <a:rPr sz="7200"/>
            </a:b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что это значит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vidia</cp:lastModifiedBy>
  <dcterms:modified xsi:type="dcterms:W3CDTF">2011-11-07T13:06:58Z</dcterms:modified>
  <cp:revision>25</cp:revision>
  <dc:subject/>
  <dc:title>Слайд 1</dc:title>
</cp:coreProperties>
</file>