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5" y="0"/>
                </a:moveTo>
                <a:arcTo wR="5" hR="5" stAng="16200000" swAng="-5400000"/>
                <a:lnTo>
                  <a:pt x="0" y="30544"/>
                </a:lnTo>
                <a:arcTo wR="5" hR="5" stAng="10800000" swAng="-5400000"/>
                <a:lnTo>
                  <a:pt x="21595" y="305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-360" y="-7391880"/>
            <a:ext cx="360" cy="345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-351000" algn="ctr">
              <a:lnSpc>
                <a:spcPct val="8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720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4680" y="4680"/>
            <a:ext cx="324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1"/>
          <p:cNvSpPr/>
          <p:nvPr/>
        </p:nvSpPr>
        <p:spPr>
          <a:xfrm>
            <a:off x="2362320" y="812880"/>
            <a:ext cx="283500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1106640" y="812880"/>
            <a:ext cx="53449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5E1F-EFE6-4132-B118-33722FA4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6A3-952D-4712-B949-B90269A1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9E80-5F9C-406A-9DE6-9A1153CC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D73C-5B4C-4CEC-B415-BEEC380F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1F5A-AA19-467B-8F74-CE135593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73E-1930-49B6-BCBD-B733DF28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AD1-627D-4EC1-A184-89C46BA0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658C-8699-403E-BD7B-0149F2BE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F78B-FDEB-4030-9A8E-91B4D995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726-6A22-4A0D-AE74-1B21FC9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176F-A216-47D5-B5DB-2406E330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F4A-AB3B-45E3-8F91-D15DAC7F9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7C8D5-B74C-4430-A65E-08AD2AA2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76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14D-CDC4-4AE4-BF1A-B91F5CAB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4C1F-5B1D-46ED-8358-E6EAA822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E0B4-30A5-4235-89DC-EB19EFB6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4E9C-30E8-4747-BE9D-A5049536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5876-1862-4017-A2AD-24A548375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5FE4E-F268-405D-9F8B-040B95FF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9E7C9-758B-4050-81F0-5B6F0751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9809-3158-4048-8381-317D29C8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F7D8-61F8-4706-B2BD-2D3EBFEF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DC3D-E9C4-4B75-80B0-2870CAB3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76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7210-9E9D-40F1-B592-69F9165E6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6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04800"/>
            <a:ext cx="859932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8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6240"/>
            <a:ext cx="8409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9536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8264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071720" indent="-42408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359000" indent="-42552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1647720" indent="-426960">
              <a:lnSpc>
                <a:spcPct val="82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1647720" indent="-426960">
              <a:lnSpc>
                <a:spcPct val="82000"/>
              </a:lnSpc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180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E5C8D8-8B1B-4F8A-977D-2F6F106E6C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800"/>
            <a:ext cx="876636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58960" indent="-28584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060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2600" indent="-211320">
              <a:lnSpc>
                <a:spcPct val="82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4240" indent="-212760">
              <a:lnSpc>
                <a:spcPct val="82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4240" indent="-212760">
              <a:lnSpc>
                <a:spcPct val="82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"/>
          <p:cNvSpPr/>
          <p:nvPr/>
        </p:nvSpPr>
        <p:spPr>
          <a:xfrm>
            <a:off x="0" y="2048040"/>
            <a:ext cx="612720" cy="5511600"/>
          </a:xfrm>
          <a:custGeom>
            <a:avLst/>
            <a:gdLst>
              <a:gd name="textAreaLeft" fmla="*/ 360 w 612720"/>
              <a:gd name="textAreaRight" fmla="*/ 612360 w 612720"/>
              <a:gd name="textAreaTop" fmla="*/ 360 h 5511600"/>
              <a:gd name="textAreaBottom" fmla="*/ 5511240 h 5511600"/>
            </a:gdLst>
            <a:ahLst/>
            <a:rect l="textAreaLeft" t="textAreaTop" r="textAreaRight" b="textAreaBottom"/>
            <a:pathLst>
              <a:path w="21600" h="194197">
                <a:moveTo>
                  <a:pt x="55" y="0"/>
                </a:moveTo>
                <a:arcTo wR="55" hR="55" stAng="16200000" swAng="-5400000"/>
                <a:lnTo>
                  <a:pt x="0" y="194142"/>
                </a:lnTo>
                <a:arcTo wR="55" hR="55" stAng="10800000" swAng="-5400000"/>
                <a:lnTo>
                  <a:pt x="21545" y="194197"/>
                </a:lnTo>
                <a:arcTo wR="55" hR="55" stAng="5400000" swAng="-5400000"/>
                <a:lnTo>
                  <a:pt x="21600" y="55"/>
                </a:lnTo>
                <a:arcTo wR="55" hR="55" stAng="0" swAng="-5400000"/>
                <a:close/>
              </a:path>
            </a:pathLst>
          </a:custGeom>
          <a:solidFill>
            <a:srgbClr val="dc2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"/>
          <p:cNvSpPr/>
          <p:nvPr/>
        </p:nvSpPr>
        <p:spPr>
          <a:xfrm>
            <a:off x="717480" y="0"/>
            <a:ext cx="9363240" cy="1917720"/>
          </a:xfrm>
          <a:prstGeom prst="roundRect">
            <a:avLst>
              <a:gd name="adj" fmla="val 7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40880" y="62712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40880" y="2387160"/>
            <a:ext cx="860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1905120"/>
            <a:ext cx="10080720" cy="196560"/>
          </a:xfrm>
          <a:prstGeom prst="roundRect">
            <a:avLst>
              <a:gd name="adj" fmla="val 806"/>
            </a:avLst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547560" y="0"/>
            <a:ext cx="182520" cy="755964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892913">
                <a:moveTo>
                  <a:pt x="189" y="0"/>
                </a:moveTo>
                <a:arcTo wR="189" hR="189" stAng="16200000" swAng="-5400000"/>
                <a:lnTo>
                  <a:pt x="0" y="892724"/>
                </a:lnTo>
                <a:arcTo wR="189" hR="189" stAng="10800000" swAng="-5400000"/>
                <a:lnTo>
                  <a:pt x="21411" y="892913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2600" indent="-2113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127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4"/>
          </p:nvPr>
        </p:nvSpPr>
        <p:spPr>
          <a:xfrm>
            <a:off x="33624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5"/>
          </p:nvPr>
        </p:nvSpPr>
        <p:spPr>
          <a:xfrm>
            <a:off x="3443040" y="6887880"/>
            <a:ext cx="318132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6"/>
          </p:nvPr>
        </p:nvSpPr>
        <p:spPr>
          <a:xfrm>
            <a:off x="7727760" y="6887880"/>
            <a:ext cx="208908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20AF4F-184B-49AD-BFD2-75AEE6B30B0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392040"/>
            <a:ext cx="9072720" cy="175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1000"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Задача №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1</a:t>
            </a: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 (устно)</a:t>
            </a:r>
            <a:br>
              <a:rPr sz="4000"/>
            </a:br>
            <a:r>
              <a:rPr b="1" i="1" lang="en-GB" sz="4000" spc="-1" strike="noStrike">
                <a:solidFill>
                  <a:srgbClr val="99284c"/>
                </a:solidFill>
                <a:latin typeface="Arial"/>
              </a:rPr>
              <a:t>По первым буквам нарисованных предметов прочти имя геро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4181400" y="3959280"/>
            <a:ext cx="2119320" cy="2160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374760" y="3419640"/>
            <a:ext cx="1425600" cy="1439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1347840" y="4635360"/>
            <a:ext cx="135252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4"/>
          <a:stretch/>
        </p:blipFill>
        <p:spPr>
          <a:xfrm>
            <a:off x="2519280" y="3600360"/>
            <a:ext cx="1800360" cy="1209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"/>
          <p:cNvPicPr/>
          <p:nvPr/>
        </p:nvPicPr>
        <p:blipFill>
          <a:blip r:embed="rId5"/>
          <a:stretch/>
        </p:blipFill>
        <p:spPr>
          <a:xfrm>
            <a:off x="5940360" y="3014640"/>
            <a:ext cx="1305000" cy="1305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6"/>
          <a:stretch/>
        </p:blipFill>
        <p:spPr>
          <a:xfrm>
            <a:off x="7053120" y="4140360"/>
            <a:ext cx="1408320" cy="126036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8280360" y="3240000"/>
            <a:ext cx="1081080" cy="10810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9966"/>
                </a:solidFill>
                <a:latin typeface="Arial"/>
              </a:rPr>
              <a:t>Задача №</a:t>
            </a:r>
            <a:r>
              <a:rPr b="0" lang="ru-RU" sz="4400" spc="-1" strike="noStrike">
                <a:solidFill>
                  <a:srgbClr val="ff9966"/>
                </a:solidFill>
                <a:latin typeface="Arial"/>
              </a:rPr>
              <a:t>2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0360" y="1901880"/>
            <a:ext cx="933912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0">
              <a:lnSpc>
                <a:spcPct val="76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e6e6e6"/>
                </a:solidFill>
                <a:latin typeface="Times New Roman"/>
              </a:rPr>
              <a:t>А)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устно) По первым буквам написанных слов прочтите новое слово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      </a:t>
            </a: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6e6e6"/>
                </a:solidFill>
                <a:latin typeface="Times New Roman"/>
              </a:rPr>
              <a:t>КОТ, РЫБА, ОКУНЬ, ЛЕС, ИГЛА, КОЗА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85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4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Б)</a:t>
            </a: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(в тетради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26960" indent="0">
              <a:lnSpc>
                <a:spcPct val="76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     </a:t>
            </a:r>
            <a:r>
              <a:rPr b="0" lang="en-GB" sz="3600" spc="-1" strike="noStrike">
                <a:solidFill>
                  <a:srgbClr val="e6e6e6"/>
                </a:solidFill>
                <a:latin typeface="Times New Roman"/>
              </a:rPr>
              <a:t>Таким же способом закодируйте своё имя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720360"/>
            <a:ext cx="907272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19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331920"/>
                <a:tab algn="l" pos="4269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Задача № </a:t>
            </a:r>
            <a:r>
              <a:rPr b="1" i="1" lang="ru-RU" sz="6000" spc="-1" strike="noStrike">
                <a:solidFill>
                  <a:srgbClr val="99284c"/>
                </a:solidFill>
                <a:latin typeface="Arial"/>
              </a:rPr>
              <a:t>3</a:t>
            </a:r>
            <a:r>
              <a:rPr b="1" i="1" lang="en-GB" sz="60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6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920000" cy="55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90320" indent="0" algn="ctr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Раскодировать сообщени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GB" sz="4000" spc="-1" strike="noStrike">
                <a:solidFill>
                  <a:srgbClr val="333333"/>
                </a:solidFill>
                <a:latin typeface="Arial"/>
              </a:rPr>
              <a:t>(11,1), (12,1), (5,2), (3,1), (6,3), (10,1), (12,1), (2,2), (1,3), (2,3), (5,1), (4,2), (1,3), (4,2), (6,1), (12,1), (3,2), (12,1), (10,3), (4,1), (6,2), (5,1), (2,2), (3,1), (1,3), (9,2), (10,3), (6,3), (11,3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marL="490320" indent="0">
              <a:lnSpc>
                <a:spcPct val="77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33333"/>
                </a:solidFill>
                <a:latin typeface="Arial"/>
              </a:rPr>
              <a:t>Уч. стр. 30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539640" y="539640"/>
            <a:ext cx="900108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26960" indent="-322200" algn="ctr">
              <a:lnSpc>
                <a:spcPct val="93000"/>
              </a:lnSpc>
              <a:tabLst>
                <a:tab algn="l" pos="0"/>
                <a:tab algn="l" pos="426960"/>
                <a:tab algn="l" pos="874800"/>
                <a:tab algn="l" pos="1324080"/>
                <a:tab algn="l" pos="1773360"/>
                <a:tab algn="l" pos="2222640"/>
                <a:tab algn="l" pos="2671920"/>
                <a:tab algn="l" pos="3121200"/>
                <a:tab algn="l" pos="3570120"/>
                <a:tab algn="l" pos="4019400"/>
                <a:tab algn="l" pos="4468680"/>
                <a:tab algn="l" pos="4917960"/>
                <a:tab algn="l" pos="5367240"/>
                <a:tab algn="l" pos="5816520"/>
                <a:tab algn="l" pos="6265800"/>
                <a:tab algn="l" pos="6715080"/>
                <a:tab algn="l" pos="7164360"/>
                <a:tab algn="l" pos="7613640"/>
                <a:tab algn="l" pos="8062920"/>
                <a:tab algn="l" pos="8512200"/>
                <a:tab algn="l" pos="896148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Пр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и </a:t>
            </a:r>
            <a:r>
              <a:rPr b="1" lang="en-GB" sz="5400" spc="-1" strike="noStrike">
                <a:solidFill>
                  <a:srgbClr val="ff0000"/>
                </a:solidFill>
                <a:latin typeface="Arial"/>
                <a:ea typeface="MS Gothic"/>
              </a:rPr>
              <a:t>декодировании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оисходит обработка информации связанная с изменением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формы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 представления информации, а </a:t>
            </a:r>
            <a:r>
              <a:rPr b="1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не содержания</a:t>
            </a:r>
            <a:r>
              <a:rPr b="0" lang="en-GB" sz="5400" spc="-1" strike="noStrike">
                <a:solidFill>
                  <a:srgbClr val="000000"/>
                </a:solidFill>
                <a:latin typeface="Arial"/>
                <a:ea typeface="MS Gothic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1"/>
          <p:cNvSpPr txBox="1"/>
          <p:nvPr/>
        </p:nvSpPr>
        <p:spPr>
          <a:xfrm>
            <a:off x="595440" y="922320"/>
            <a:ext cx="9090000" cy="500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зменение формы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едставления 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информации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1618920"/>
            <a:ext cx="907236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Систематизировать информацию</a:t>
            </a:r>
            <a:r>
              <a:rPr b="0" lang="en-GB" sz="7200" spc="-1" strike="noStrike">
                <a:solidFill>
                  <a:srgbClr val="000000"/>
                </a:solidFill>
                <a:latin typeface="Arial"/>
              </a:rPr>
              <a:t> - </a:t>
            </a:r>
            <a:br>
              <a:rPr sz="7200"/>
            </a:br>
            <a:br>
              <a:rPr sz="6600"/>
            </a:br>
            <a:r>
              <a:rPr b="0" lang="en-GB" sz="6600" spc="-1" strike="noStrike">
                <a:solidFill>
                  <a:srgbClr val="000000"/>
                </a:solidFill>
                <a:latin typeface="Arial"/>
              </a:rPr>
              <a:t>что это значит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vidia</cp:lastModifiedBy>
  <dcterms:modified xsi:type="dcterms:W3CDTF">2011-11-07T13:06:58Z</dcterms:modified>
  <cp:revision>25</cp:revision>
  <dc:subject/>
  <dc:title>Слайд 1</dc:title>
</cp:coreProperties>
</file>