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13E-DF0B-4EF4-BB33-3C60DFED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ADE-ACBB-4D64-A57B-6D0FFE7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60B-1496-4BFE-A20D-4014C42E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9EC-40D6-4584-AE4C-F1EB5C7B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0005-9058-4834-8281-E4844B48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35E7-F5F9-4258-8293-99A3A4F6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4B49-16D4-415E-8545-4599FA09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621F-58E0-49B5-BFE4-5A42C2E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0A23-7719-4EE7-95E1-166E5496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B03D-696E-4030-95E4-D50BCCA1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D64B-90BA-44CB-9E29-3EECFD2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C64-E918-4657-BC3C-718CD72D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84B2-47A6-47E8-BEB1-485E19F9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D602-6264-4D21-926C-EBE3914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4537-A192-4CC8-A644-5EDB4984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E319-A95A-47F6-938B-7E2284BC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DE75-6F00-4643-84B4-C2C527E2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C70-E53C-4755-936D-F4D19695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035-77FF-4084-A880-0CB48A75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7E1-984D-4047-805B-18FD6CD4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8698-366F-45C2-AFF2-8E123E7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C8F-6385-450F-B7A3-63176B2E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4C4-F860-48D6-9E4B-149CE040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FC7-3B54-4B62-AA86-9CC574C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5BF0-E559-433D-8D7D-256D04DA2E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B072-79BD-46AF-B5E9-095D14C205D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Повторение и обобщение по теме: «Простые вещества»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8  класс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лицея № 149 Гизатуллина Л.Р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опрос В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) Дайте следующие понятия:  молярная масса, молярный объем газа, количество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) Напишите три формулы для определения количества вещест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) Укажите единицы измерения для n, M, V, N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опросы С.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4) Определите молярную массу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5) Сколько молей вещества содержится в 100 г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6) Определите объем 44,8 л. кислород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7) Сколько молекул содержится  в 0,1 моль меди (Сu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опрос Д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Укажите, что тяжелее 4 л. углекислого газа (СО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) или 4 л. угарного газа (СО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1311"/>
                </a:solidFill>
                <a:latin typeface="Arial"/>
              </a:rPr>
              <a:t>Повторить п.13-16, придумать задачу по теме, решить задачи - 4 а, 5 а на стр.84.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отработать умение производить расчет с использованием понятия молярная масса, молярный объем газа, количество вещества, повторить свойства и строение металлов и неметал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Металлом явля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а) кал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елен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водород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 К металлам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, О, F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	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Ag, Zn, С</a:t>
                      </a:r>
                      <a:r>
                        <a:rPr b="1" lang="en-US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u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О, S, Se;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CI, Br, I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 К неметаллам относи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серебро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хл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альций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хром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 К металлам не относятся элементы ряда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N, Si, С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Ва, Br, С</a:t>
                      </a: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l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Na, Zn, Сu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S, Fe, А1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1268280"/>
          <a:ext cx="7386480" cy="5211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склонны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меют на внешнем электронном уровне большее число электронов и меньши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способны принимать электроны.</a:t>
                      </a: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 Особенности строения атомов неметаллов: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имеют на внешнем электронном уровне меньшее число электронов и большой атомный радиус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проявляют способность к отдаче электронов;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20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имеют на внешнем электронном уровне большее число электронов и меньший атомный радиус;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проявляют способность принимать электроны 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125360"/>
          <a:ext cx="7386480" cy="51260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Химическая связь в молекуле азота (N</a:t>
                      </a: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металлическая;  б) ион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ковалентная полярна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ковалентная неполярная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 Для  магния характерна следующая разновидность химической связи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металлическая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овалентная поляр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онная;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ковалентная неполярная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125360"/>
          <a:ext cx="7710480" cy="5505480"/>
        </p:xfrm>
        <a:graphic>
          <a:graphicData uri="http://schemas.openxmlformats.org/drawingml/2006/table">
            <a:tbl>
              <a:tblPr/>
              <a:tblGrid>
                <a:gridCol w="4272120"/>
                <a:gridCol w="3438360"/>
              </a:tblGrid>
              <a:tr h="58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ллотропией называется: 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явление, в результате которого из одних веществ образу другие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явление, при котором новых веществ не образуется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уществование простых и сложных веществ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</a:t>
                      </a: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способность атомов одного химического элемента образовать несколько простых веществ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 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акие из предложенных пар неявляются аллотропными модификациями: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белый и красный фосфор;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кислород и озон;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в) кремнезем и кварц;</a:t>
                      </a: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алмаз и графит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4971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4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Для неметалла иода (I</a:t>
                      </a:r>
                      <a:r>
                        <a:rPr b="0" lang="ru-RU" sz="9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) характерно свойство: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текуче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твердос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пластичность;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летучесть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 В самородном состоянии в природе встречае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фтор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фосфор;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сера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) марганец.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ариант 1,        Вариант 2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63520" y="1598760"/>
          <a:ext cx="7386480" cy="47005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47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Лучшим проводником электричества среди данных металлов являются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) цинк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б) мед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ртуть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железо.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 В электротехнике для производства ламп накаливания используют металлическую нить: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) </a:t>
                      </a:r>
                      <a:r>
                        <a:rPr b="1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из вольфрама</a:t>
                      </a:r>
                      <a:r>
                        <a:rPr b="0" lang="ru-RU" sz="28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;</a:t>
                      </a: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) из алюминия;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) из золота;      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г) из серебра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23:39:57Z</dcterms:created>
  <dc:creator>лилия</dc:creator>
  <dc:description/>
  <dc:language>en-US</dc:language>
  <cp:lastModifiedBy>Ray</cp:lastModifiedBy>
  <dcterms:modified xsi:type="dcterms:W3CDTF">2011-11-19T05:18:00Z</dcterms:modified>
  <cp:revision>9</cp:revision>
  <dc:subject/>
  <dc:title>«Повторение и обобщение по теме: «Простые вещества». 8  класс</dc:title>
</cp:coreProperties>
</file>