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506-8D65-48FD-AFD0-ABE8CA2E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FBF-D348-4370-80EB-48835D5C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AA8-D289-4962-AEEA-20E2CA41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3CB-5304-4F75-BCF1-BFAABBB6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0ACE-D3E7-4A14-91D6-D0B637F6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FC01-DA7D-4D9C-99B1-8523C12B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39D5-D3A7-4973-AC43-79C91F79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0D99-2C18-4340-A108-E76BD0DD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5954-7A9D-496A-AB1D-533F029E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CF6B-B955-4CC8-8A8C-82C25C78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C277-B1DD-480D-9921-3A199AC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A06-88AA-4000-9436-CC895065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A082-97B5-4739-A622-998FBD10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CCEA-14BF-4071-A45F-8568061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452E-F5AA-45FC-93A9-F701A568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FF5B-1628-4479-886E-C1C26528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825C-9F67-476C-9A45-40CEFADB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CE2-037D-4EB8-BC16-DF36A439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485-0BC1-475E-A4F0-A7AFD8DE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81F-2D23-4D0F-8A8F-9C56201F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18F-0DCC-4E72-A767-B12116C5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402-6DB9-45E0-BBC2-B39249FE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035-2B1A-4D63-AD1C-C59B310C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074-3959-46B6-B1D9-0185C58F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C75D-DF4D-4428-BB94-91B90D9597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03DD-B3D3-49B4-A2E7-3D3235FBEF5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Повторение и обобщение по теме: «Простые вещества»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8  класс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лицея № 149 Гизатуллина Л.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опрос 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Дайте следующие понятия:  молярная масса, молярный объем газа, количество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Напишите три формулы для определения количества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Укажите единицы измерения для n, M, V, 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Вопросы С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) Определите молярную массу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) Сколько молей вещества содержится в 100 г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) Определите объем 44,8 л. кислоро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) Сколько молекул содержится  в 0,1 моль меди (Сu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опрос Д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Укажите, что тяжелее 4 л.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 или 4 л. угарного газа (СО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Повторить п.13-16, придумать задачу по теме, решить задачи - 4 а, 5 а на стр.84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отработать умение производить расчет с использованием понятия молярная масса, молярный объем газа, количество вещества, повторить свойства и строение металлов и неметал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Металлом явля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а) кал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елен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водород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К металлам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, О, F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	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Ag, Zn, С</a:t>
                      </a:r>
                      <a:r>
                        <a:rPr b="1" lang="en-US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О, S, Se;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CI, Br, I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 К неметаллам относи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еребро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хл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альц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хром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К металлам не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N, Si, С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Ва, Br, С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Na, Zn, Сu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S, Fe, А1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1268280"/>
          <a:ext cx="7386480" cy="52117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клонны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меют на внешнем электронном уровне большее число электронов и меньши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способны принимать электроны.</a:t>
                      </a: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не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проявляют способность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20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имеют на внешнем электронном уровне большее число электронов и меньший атомный радиус;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проявляют способность принимать электроны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63520" y="1125360"/>
          <a:ext cx="7386480" cy="51260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1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Химическая связь в молекуле азота (N</a:t>
                      </a: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металлическая;  б) ион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овалентная поляр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ковалентная неполярная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Для  магния характерна следующая разновидность химической связи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металлическая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овалентная поляр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он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ковалентная неполярная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125360"/>
          <a:ext cx="7710480" cy="5505480"/>
        </p:xfrm>
        <a:graphic>
          <a:graphicData uri="http://schemas.openxmlformats.org/drawingml/2006/table">
            <a:tbl>
              <a:tblPr/>
              <a:tblGrid>
                <a:gridCol w="4272120"/>
                <a:gridCol w="3438360"/>
              </a:tblGrid>
              <a:tr h="58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лотропией называется: 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явление, в результате которого из одних веществ образу другие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явление, при котором новых веществ не образуется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уществование простых и сложных веществ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способность атомов одного химического элемента образовать несколько простых веществ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акие из предложенных пар неявляются аллотропными модификациями: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белый и красный фосфор;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ислород и озон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кремнезем и кварц;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алмаз и графит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Для неметалла иода (I</a:t>
                      </a:r>
                      <a:r>
                        <a:rPr b="0" lang="ru-RU" sz="9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 характерно свойство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текуче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твердос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пластично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летучесть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В самородном состоянии в природе встреча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фт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фосфор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) марганец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3520" y="1598760"/>
          <a:ext cx="7386480" cy="47005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Лучшим проводником электричества среди данных металлов являю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цинк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мед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рту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железо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В электротехнике для производства ламп накаливания используют металлическую нить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из вольфрам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из алюмини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з золота;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из серебр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39:57Z</dcterms:created>
  <dc:creator>лилия</dc:creator>
  <dc:description/>
  <dc:language>en-US</dc:language>
  <cp:lastModifiedBy>Ray</cp:lastModifiedBy>
  <dcterms:modified xsi:type="dcterms:W3CDTF">2011-11-19T05:18:00Z</dcterms:modified>
  <cp:revision>9</cp:revision>
  <dc:subject/>
  <dc:title>«Повторение и обобщение по теме: «Простые вещества». 8  класс</dc:title>
</cp:coreProperties>
</file>